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32.xml.rels" ContentType="application/vnd.openxmlformats-package.relationships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86.png" ContentType="image/png"/>
  <Override PartName="/ppt/media/image13.png" ContentType="image/png"/>
  <Override PartName="/ppt/media/image1.png" ContentType="image/png"/>
  <Override PartName="/ppt/media/image38.png" ContentType="image/png"/>
  <Override PartName="/ppt/media/image8.png" ContentType="image/png"/>
  <Override PartName="/ppt/media/image85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19.png" ContentType="image/png"/>
  <Override PartName="/ppt/media/image84.png" ContentType="image/png"/>
  <Override PartName="/ppt/media/image48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18.png" ContentType="image/png"/>
  <Override PartName="/ppt/media/image83.png" ContentType="image/png"/>
  <Override PartName="/ppt/media/image29.png" ContentType="image/png"/>
  <Override PartName="/ppt/media/image94.png" ContentType="image/png"/>
  <Override PartName="/ppt/media/image21.png" ContentType="image/png"/>
  <Override PartName="/ppt/media/image58.png" ContentType="image/png"/>
  <Override PartName="/ppt/media/image22.png" ContentType="image/png"/>
  <Override PartName="/ppt/media/image59.png" ContentType="image/png"/>
  <Override PartName="/ppt/media/image62.png" ContentType="image/png"/>
  <Override PartName="/ppt/media/image63.png" ContentType="image/png"/>
  <Override PartName="/ppt/media/image64.png" ContentType="image/png"/>
  <Override PartName="/ppt/media/image65.png" ContentType="image/png"/>
  <Override PartName="/ppt/media/image66.png" ContentType="image/png"/>
  <Override PartName="/ppt/media/image67.png" ContentType="image/png"/>
  <Override PartName="/ppt/media/image68.png" ContentType="image/png"/>
  <Override PartName="/ppt/media/image31.png" ContentType="image/png"/>
  <Override PartName="/ppt/media/image70.png" ContentType="image/png"/>
  <Override PartName="/ppt/media/image69.png" ContentType="image/png"/>
  <Override PartName="/ppt/media/image32.png" ContentType="image/png"/>
  <Override PartName="/ppt/media/image71.png" ContentType="image/png"/>
  <Override PartName="/ppt/media/image61.png" ContentType="image/png"/>
  <Override PartName="/ppt/media/image96.png" ContentType="image/png"/>
  <Override PartName="/ppt/media/image72.png" ContentType="image/png"/>
  <Override PartName="/ppt/media/image23.png" ContentType="image/png"/>
  <Override PartName="/ppt/media/image60.png" ContentType="image/png"/>
  <Override PartName="/ppt/media/image95.png" ContentType="image/png"/>
  <Override PartName="/ppt/media/image89.png" ContentType="image/png"/>
  <Override PartName="/ppt/media/image77.png" ContentType="image/png"/>
  <Override PartName="/ppt/media/image88.png" ContentType="image/png"/>
  <Override PartName="/ppt/media/image76.png" ContentType="image/png"/>
  <Override PartName="/ppt/media/image87.png" ContentType="image/png"/>
  <Override PartName="/ppt/media/image75.png" ContentType="image/png"/>
  <Override PartName="/ppt/media/image79.png" ContentType="image/png"/>
  <Override PartName="/ppt/media/image78.png" ContentType="image/png"/>
  <Override PartName="/ppt/media/image74.png" ContentType="image/png"/>
  <Override PartName="/ppt/media/image73.png" ContentType="image/png"/>
  <Override PartName="/ppt/media/image20.png" ContentType="image/png"/>
  <Override PartName="/ppt/media/image57.png" ContentType="image/png"/>
  <Override PartName="/ppt/media/image24.png" ContentType="image/png"/>
  <Override PartName="/ppt/media/image90.png" ContentType="image/png"/>
  <Override PartName="/ppt/media/image25.png" ContentType="image/png"/>
  <Override PartName="/ppt/media/image2.png" ContentType="image/png"/>
  <Override PartName="/ppt/media/image14.png" ContentType="image/png"/>
  <Override PartName="/ppt/media/image28.png" ContentType="image/png"/>
  <Override PartName="/ppt/media/image93.png" ContentType="image/png"/>
  <Override PartName="/ppt/media/image91.png" ContentType="image/png"/>
  <Override PartName="/ppt/media/image26.png" ContentType="image/png"/>
  <Override PartName="/ppt/media/image80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92.png" ContentType="image/png"/>
  <Override PartName="/ppt/media/image27.png" ContentType="image/png"/>
  <Override PartName="/ppt/media/image16.png" ContentType="image/png"/>
  <Override PartName="/ppt/media/image81.png" ContentType="image/png"/>
  <Override PartName="/ppt/media/image4.png" ContentType="image/png"/>
  <Override PartName="/ppt/media/image34.png" ContentType="image/png"/>
  <Override PartName="/ppt/media/image17.png" ContentType="image/png"/>
  <Override PartName="/ppt/media/image82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  <p:sldId id="284" r:id="rId44"/>
    <p:sldId id="285" r:id="rId45"/>
    <p:sldId id="286" r:id="rId46"/>
    <p:sldId id="287" r:id="rId47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slide" Target="slides/slide29.xml"/><Relationship Id="rId45" Type="http://schemas.openxmlformats.org/officeDocument/2006/relationships/slide" Target="slides/slide30.xml"/><Relationship Id="rId46" Type="http://schemas.openxmlformats.org/officeDocument/2006/relationships/slide" Target="slides/slide31.xml"/><Relationship Id="rId47" Type="http://schemas.openxmlformats.org/officeDocument/2006/relationships/slide" Target="slides/slide32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 type="sldImg"/>
          </p:nvPr>
        </p:nvSpPr>
        <p:spPr>
          <a:xfrm>
            <a:off x="380880" y="685440"/>
            <a:ext cx="60962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6"/>
          <p:cNvSpPr>
            <a:spLocks noGrp="1"/>
          </p:cNvSpPr>
          <p:nvPr>
            <p:ph type="sldNum" idx="4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0FF86-9D75-4BAA-BB6B-11BD045F98E2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7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模板来自于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ypppt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3CF27-DFEB-4C6D-9AE9-98FB55993495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6A867-FEDA-442F-9299-7D46FAC80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3CE4F-DC83-446A-94AA-7C7004228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558DA4-800C-48AD-8B45-41D3136C2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3AFAF9-C074-48DB-98DC-D4420C247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D20247-1528-48AA-95AA-3988FB6E7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EF559C-5FED-4C2D-A3CD-AC65C8A5F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7913FD-AFC8-4FAA-8DF9-A4D0F77A7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65BE73-07BF-425C-A927-C9DBC38B1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F57496-B0FB-4F6A-8C3E-53346F5D7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9B3DDB-EF92-4E08-85C6-5BB89AEBA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B54D5B-DC98-47B5-B463-46B19C5D3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1DD203-5E43-4358-817F-03F6E1B36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62804-0D5B-4AA0-82D9-243067264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7383A2-3832-47D9-887E-FCB57E42A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B2CBB1-8DD7-4617-86CC-58977308C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F3E292-C9FD-4F8B-8A16-C91DF417C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B8E1F4-E7F9-4828-B812-F5805C2BD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6B8497-239C-424B-A540-44E971CB3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179DD2-04B2-4562-AF54-A5CF170B9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567B02-3792-4F61-A007-832088F84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8C5C05-EF06-4BC7-AB5F-35B0A9326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7AC6FA-B60A-487D-8B61-AE2266836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801B73-06B4-4310-8003-8DB3E58E5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C2B15-493E-4629-9461-002B884F6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EFCF84-1AF3-469C-80A5-B3C59A6A9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95DDBF-8F93-4749-805E-0FEA42985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B3E29E-558A-445C-AEF8-8C8D94A36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8092F1-B42A-490D-B6AE-D1D599749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8B9B4F-ED84-4E13-9FCA-68338B478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821510-2A07-4BC2-86B7-33C4FC54A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177B30-78CD-4B0B-BBAC-A3DF023C5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C09B99-1A2B-4665-B5F5-3AB6FA13E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FE9A49-E2F3-4D62-8DBF-E90783649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DCEDA7-4763-4BAC-8753-7FB0BF7B1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D1C39-859B-48DA-A7C1-38A0B88D0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A268F0-9B20-4AC8-9DEF-D8E58CE18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F3A27A-C969-4EE8-B362-EA0B25CB0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F41FDB-0829-4A43-BDC3-53E221E56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783356-267C-4384-9925-E01BD9D6F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070BF7-19AB-4E3E-A31E-C84B52AF3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6735B3-AD22-4E1D-8243-C226D45CE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C91BF9-B3D5-440E-B982-ED83BCC36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BACB09-AEFF-4F4C-A910-05B26DBCE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8E730E-D5E6-417D-BE8E-7ADE8A5D0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F9211C-3559-481B-896D-5D4825B0D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2F49F-626D-4406-9B1D-8692D623A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020E5D-57FE-4C8F-8D5F-456761958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2980F7-EA3F-4A19-B612-E00FFC9FD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EF1FEB-784F-4455-A3B7-CAD640FCD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3D8B6F-6AD5-4415-B4AA-CDE429F5E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A7C1D1-B0C3-4B39-894E-03750EB9A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3E9F41D-C4FD-4E59-85A9-5C2141F93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50B0F2C-5E51-46A8-8FF0-CA91DE835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7A184F0-693C-45B7-88AF-9228B3378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1B80223-5DE3-4842-9A6A-A4732D53D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0AD2963-839C-4F68-9BE7-B2234C966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94D31-5EF9-4C60-899B-66DAD9753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5BD8382-9506-4246-B556-E3827824E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9022487-146E-49B6-B218-3530D6BE6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D399F74-FEEC-421E-8AA1-0F4CA7FB7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D381ADC-5B94-494D-88C3-9EDEFAB7F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8F558CE-E53D-4B67-A439-BEE9F0FD4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1E7C119-0058-4FD2-A3DD-6C41F1B03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67C36D8-5747-4F80-BBCC-AF5B9946B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1034A-7B79-4067-9340-1251C1B69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5EDE0-F97E-4978-A8AF-E872F13E0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01A74-C53E-4260-A0D2-88BAB8B64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74A3C-AC27-4EF3-BCE3-88B034529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80A89-1498-4CC1-8F5E-4BBF59ACE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22945-4539-4D3D-AA59-E22A88461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9B1E6-5E29-4759-9FD2-F4751E39E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2B580-8538-4F1C-9464-EDED8D94B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51AB6-29DE-4467-B34E-5B237E383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09D67-CC79-41AF-8812-D5B210221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715931-6AC3-4DBF-B888-097791A2A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FE4EE8-8663-4E0B-991E-8042652D7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963B3A-116D-49A0-849F-7209CECEC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58ECF5-B76B-4B9F-ADED-8B4164AFD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6BF3FF-903B-4162-97F1-A1F0ED818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6C239-CFCD-4B50-82BB-995673A9D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15847A-6FC5-41F5-B48B-B9FD4544F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AAC3FE-39B4-4C3E-9758-E17BA8555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3C1D3F-BA8F-46A4-951C-B6C412982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2E7D49-81CA-45E7-86C9-2ACCD9D6A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F946B4-59FE-4DC5-91DE-81040A20B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F56A4A-9942-4D63-B992-2009B7770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402463-376E-4FB7-ADB3-6333E6425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09CA56-CF76-4D6E-B9F6-24DE9776C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8508C2-ED3A-4900-BFC4-26DA4646C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020781-BA4F-468A-BF1C-09231CFCA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547AB-A3BF-4676-B92B-C8BF467ED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2D1EA6-96A9-444F-A97F-D76AA163F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073936-2F00-4E23-8C0E-A3D503145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7AEBC6-5B42-4BAE-B31B-76DADC39C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41B75A-9C2F-4F62-AF5C-9A9E72F6E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612C69-953C-451D-A33D-0378A55ED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3BF24F-1758-4098-977F-A0D9EFAAF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F0DCA3-B0E4-4529-A0A8-800282393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B5014E-DF21-46B3-80C8-43E43DEAF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655D90-B822-4F6A-9160-E0F81DF57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1F99C3-DD10-44D9-B22F-DD38319FF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93AF7-728C-46AF-823D-599698DE7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1AD770-9520-4F50-9D28-CDC762C61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02EC7F-E12A-4509-8407-029AC583C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B96A8D-D00A-4EAE-957C-1D28A01B3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14790F-FE35-439A-A5A9-748FF8AC8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18221B-0037-4A9B-83FD-1638F8E2B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D07853-2014-4DEE-94CF-77AEB8C30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204A82-9D60-4022-A5F6-FBDB066AB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2A7D28-95E3-45C4-AF08-68506C3CE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9F824A-C644-49FE-A324-649A1CC0D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649ECB-9F6D-40C2-BE1B-32B0EABE8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8AA51-10D2-4D76-B1C1-65B0F87C9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0AA0A0-6466-4131-897F-E4042A1CD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A13D51-42E6-4343-B0E1-F664DEB48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AD9C71-50BB-4250-B5D2-EBE5B6667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F7069D-4408-4EC0-A943-829AF1C3E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ECF328-AF3E-4078-98A2-0C5E511F9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E9711E-21E6-4B6F-BCD7-ACB5D265C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E4854F-FE18-476F-B6EA-B97D8150B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152AE2-9611-4EB2-8F4C-089FF665E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2BE760-1B9B-47B0-B817-CBFE1299F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C591AE-C2C0-46A6-ABBB-3CF83BE28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A802B-7CC2-450D-9426-D6B3937AC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D968FA-EB61-4B62-8943-DB7C1EBF0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B3BB08-9D58-42A9-8BD4-5B0B7EB45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D8A894-42EC-4E4D-85B7-1FD909F20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62732D-BFDC-4517-9F3B-1F8A61DE1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504555-F0D9-4523-B849-29A0F535E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32FAE4-0468-480C-87FC-FA8F07AD0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C3B1FC-9BF4-485B-A545-79B15B3F4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8E03F3-E0DC-46D5-9435-3D8D89D79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04C64F-581F-4A36-A018-498F381B6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7AA604-5AE0-4569-89D5-9C51B52E1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2102B-97B3-42E0-A00E-91AC1BB81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2FC26F-EBAD-49D9-A199-81259F31D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59DB9F-336C-47CF-A294-EE412CF3B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4C096F-0BCD-40AD-85A2-F591104B5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0F8294-8C72-4EEF-A897-D16504EA3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BFB78C-CC29-4A96-9277-6B197C813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CA4FFE-8C85-4D3E-BAEF-928CC8F5C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128905-1EA0-44B3-A5D6-69EF07C9D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9B86F1-F931-4EA1-ADB8-91E734200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5E56E8-4EF1-4F73-B119-F31E4A37D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34CE21-5318-43E5-9984-6A33F9306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0EEF9-5296-47C7-A6C1-085C935DC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2AB587-2581-4112-B0E6-83DE83DFE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133266-089F-4D82-AC8D-EA9F66DF7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3FD4CF-2E87-4048-A6A3-AFB184191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3BE22F-0746-4646-840B-8A7FFC127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4C32DF-DE59-47D4-9093-213B35655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FEB9F8-63EC-401B-AF8E-EAC1C4634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6CCEE5-E871-4EF7-AD3B-C1FA4CDED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FDB1A0-9B2D-429B-8D35-A15FEEB55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C97E81-B5E7-439B-B5B3-4049341F2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F5015B-3A2E-40D0-B35B-BCC8F69BC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3E3F1-C063-41A0-99C6-E7C3EB975BC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2820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029040" y="4766760"/>
            <a:ext cx="30859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45768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B5FBB-603A-4FAC-8D98-F45584CE79B5}" type="slidenum">
              <a:rPr b="0" lang="zh-CN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2820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029040" y="4766760"/>
            <a:ext cx="30859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45768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029E7-3159-43F8-A1A2-98CC4EEA1E76}" type="slidenum">
              <a:rPr b="0" lang="zh-CN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2820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029040" y="4766760"/>
            <a:ext cx="30859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45768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5B46F-04DE-4808-B5D9-4D1B13BC49C5}" type="slidenum">
              <a:rPr b="0" lang="zh-CN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62820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029040" y="4766760"/>
            <a:ext cx="30859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45768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F60B3-EBFD-4DF1-A6CC-6E81A1CB4A56}" type="slidenum">
              <a:rPr b="0" lang="zh-CN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4766760"/>
            <a:ext cx="30859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5B936-A926-4D5F-9A26-FB7E690D801C}" type="slidenum">
              <a:rPr b="0" lang="zh-CN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2820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029040" y="4766760"/>
            <a:ext cx="30859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45768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D86DA-CFC2-4EBF-81BE-257245554F1E}" type="slidenum">
              <a:rPr b="0" lang="zh-CN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2820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029040" y="4766760"/>
            <a:ext cx="30859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45768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F8695-6394-46CA-BA46-A0217E11643D}" type="slidenum">
              <a:rPr b="0" lang="zh-CN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2820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029040" y="4766760"/>
            <a:ext cx="30859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45768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93AE9-4B1D-49D0-A669-AD46860614E6}" type="slidenum">
              <a:rPr b="0" lang="zh-CN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2820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029040" y="4766760"/>
            <a:ext cx="30859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45768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CC33E-8171-4D1D-85C0-49F21295AF10}" type="slidenum">
              <a:rPr b="0" lang="zh-CN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2820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029040" y="4766760"/>
            <a:ext cx="30859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45768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495CC-292A-4598-9ADD-7E45EF7CD356}" type="slidenum">
              <a:rPr b="0" lang="zh-CN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2820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029040" y="4766760"/>
            <a:ext cx="30859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45768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A1E3B-7953-4A0A-ADDB-60011994C95F}" type="slidenum">
              <a:rPr b="0" lang="zh-CN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2820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029040" y="4766760"/>
            <a:ext cx="30859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45768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FB205-A782-4C69-994C-D49EFA707612}" type="slidenum">
              <a:rPr b="0" lang="zh-CN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0.png"/><Relationship Id="rId4" Type="http://schemas.openxmlformats.org/officeDocument/2006/relationships/image" Target="../media/image12.png"/><Relationship Id="rId5" Type="http://schemas.openxmlformats.org/officeDocument/2006/relationships/image" Target="../media/image10.png"/><Relationship Id="rId6" Type="http://schemas.openxmlformats.org/officeDocument/2006/relationships/image" Target="../media/image13.png"/><Relationship Id="rId7" Type="http://schemas.openxmlformats.org/officeDocument/2006/relationships/image" Target="../media/image10.png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image" Target="../media/image31.png"/><Relationship Id="rId8" Type="http://schemas.openxmlformats.org/officeDocument/2006/relationships/image" Target="../media/image32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image" Target="../media/image42.png"/><Relationship Id="rId6" Type="http://schemas.openxmlformats.org/officeDocument/2006/relationships/image" Target="../media/image43.png"/><Relationship Id="rId7" Type="http://schemas.openxmlformats.org/officeDocument/2006/relationships/image" Target="../media/image44.png"/><Relationship Id="rId8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image" Target="../media/image47.png"/><Relationship Id="rId4" Type="http://schemas.openxmlformats.org/officeDocument/2006/relationships/image" Target="../media/image48.png"/><Relationship Id="rId5" Type="http://schemas.openxmlformats.org/officeDocument/2006/relationships/image" Target="../media/image49.png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png"/><Relationship Id="rId3" Type="http://schemas.openxmlformats.org/officeDocument/2006/relationships/image" Target="../media/image52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image" Target="../media/image56.png"/><Relationship Id="rId8" Type="http://schemas.openxmlformats.org/officeDocument/2006/relationships/image" Target="../media/image57.png"/><Relationship Id="rId9" Type="http://schemas.openxmlformats.org/officeDocument/2006/relationships/image" Target="../media/image58.png"/><Relationship Id="rId10" Type="http://schemas.openxmlformats.org/officeDocument/2006/relationships/image" Target="../media/image59.png"/><Relationship Id="rId1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image" Target="../media/image61.png"/><Relationship Id="rId3" Type="http://schemas.openxmlformats.org/officeDocument/2006/relationships/image" Target="../media/image62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4.png"/><Relationship Id="rId3" Type="http://schemas.openxmlformats.org/officeDocument/2006/relationships/image" Target="../media/image65.png"/><Relationship Id="rId4" Type="http://schemas.openxmlformats.org/officeDocument/2006/relationships/image" Target="../media/image66.png"/><Relationship Id="rId5" Type="http://schemas.openxmlformats.org/officeDocument/2006/relationships/image" Target="../media/image67.png"/><Relationship Id="rId6" Type="http://schemas.openxmlformats.org/officeDocument/2006/relationships/image" Target="../media/image68.png"/><Relationship Id="rId7" Type="http://schemas.openxmlformats.org/officeDocument/2006/relationships/image" Target="../media/image69.png"/><Relationship Id="rId8" Type="http://schemas.openxmlformats.org/officeDocument/2006/relationships/image" Target="../media/image70.png"/><Relationship Id="rId9" Type="http://schemas.openxmlformats.org/officeDocument/2006/relationships/image" Target="../media/image71.png"/><Relationship Id="rId10" Type="http://schemas.openxmlformats.org/officeDocument/2006/relationships/image" Target="../media/image72.png"/><Relationship Id="rId11" Type="http://schemas.openxmlformats.org/officeDocument/2006/relationships/image" Target="../media/image73.png"/><Relationship Id="rId12" Type="http://schemas.openxmlformats.org/officeDocument/2006/relationships/image" Target="../media/image74.png"/><Relationship Id="rId13" Type="http://schemas.openxmlformats.org/officeDocument/2006/relationships/image" Target="../media/image75.png"/><Relationship Id="rId1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6.png"/><Relationship Id="rId2" Type="http://schemas.openxmlformats.org/officeDocument/2006/relationships/image" Target="../media/image77.png"/><Relationship Id="rId3" Type="http://schemas.openxmlformats.org/officeDocument/2006/relationships/image" Target="../media/image78.png"/><Relationship Id="rId4" Type="http://schemas.openxmlformats.org/officeDocument/2006/relationships/image" Target="../media/image79.png"/><Relationship Id="rId5" Type="http://schemas.openxmlformats.org/officeDocument/2006/relationships/image" Target="../media/image80.png"/><Relationship Id="rId6" Type="http://schemas.openxmlformats.org/officeDocument/2006/relationships/image" Target="../media/image81.png"/><Relationship Id="rId7" Type="http://schemas.openxmlformats.org/officeDocument/2006/relationships/image" Target="../media/image82.png"/><Relationship Id="rId8" Type="http://schemas.openxmlformats.org/officeDocument/2006/relationships/image" Target="../media/image83.png"/><Relationship Id="rId9" Type="http://schemas.openxmlformats.org/officeDocument/2006/relationships/image" Target="../media/image84.png"/><Relationship Id="rId10" Type="http://schemas.openxmlformats.org/officeDocument/2006/relationships/image" Target="../media/image85.png"/><Relationship Id="rId11" Type="http://schemas.openxmlformats.org/officeDocument/2006/relationships/image" Target="../media/image86.png"/><Relationship Id="rId12" Type="http://schemas.openxmlformats.org/officeDocument/2006/relationships/image" Target="../media/image87.png"/><Relationship Id="rId1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8.png"/><Relationship Id="rId2" Type="http://schemas.openxmlformats.org/officeDocument/2006/relationships/image" Target="../media/image89.png"/><Relationship Id="rId3" Type="http://schemas.openxmlformats.org/officeDocument/2006/relationships/image" Target="../media/image60.png"/><Relationship Id="rId4" Type="http://schemas.openxmlformats.org/officeDocument/2006/relationships/image" Target="../media/image90.png"/><Relationship Id="rId5" Type="http://schemas.openxmlformats.org/officeDocument/2006/relationships/image" Target="../media/image91.png"/><Relationship Id="rId6" Type="http://schemas.openxmlformats.org/officeDocument/2006/relationships/image" Target="../media/image91.png"/><Relationship Id="rId7" Type="http://schemas.openxmlformats.org/officeDocument/2006/relationships/image" Target="../media/image91.png"/><Relationship Id="rId8" Type="http://schemas.openxmlformats.org/officeDocument/2006/relationships/image" Target="../media/image92.png"/><Relationship Id="rId9" Type="http://schemas.openxmlformats.org/officeDocument/2006/relationships/image" Target="../media/image92.png"/><Relationship Id="rId10" Type="http://schemas.openxmlformats.org/officeDocument/2006/relationships/image" Target="../media/image92.png"/><Relationship Id="rId11" Type="http://schemas.openxmlformats.org/officeDocument/2006/relationships/image" Target="../media/image92.png"/><Relationship Id="rId12" Type="http://schemas.openxmlformats.org/officeDocument/2006/relationships/image" Target="../media/image92.png"/><Relationship Id="rId13" Type="http://schemas.openxmlformats.org/officeDocument/2006/relationships/image" Target="../media/image92.png"/><Relationship Id="rId14" Type="http://schemas.openxmlformats.org/officeDocument/2006/relationships/image" Target="../media/image92.png"/><Relationship Id="rId15" Type="http://schemas.openxmlformats.org/officeDocument/2006/relationships/image" Target="../media/image92.png"/><Relationship Id="rId16" Type="http://schemas.openxmlformats.org/officeDocument/2006/relationships/image" Target="../media/image91.png"/><Relationship Id="rId17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0.png"/><Relationship Id="rId2" Type="http://schemas.openxmlformats.org/officeDocument/2006/relationships/image" Target="../media/image88.png"/><Relationship Id="rId3" Type="http://schemas.openxmlformats.org/officeDocument/2006/relationships/image" Target="../media/image90.png"/><Relationship Id="rId4" Type="http://schemas.openxmlformats.org/officeDocument/2006/relationships/image" Target="../media/image88.png"/><Relationship Id="rId5" Type="http://schemas.openxmlformats.org/officeDocument/2006/relationships/image" Target="../media/image93.png"/><Relationship Id="rId6" Type="http://schemas.openxmlformats.org/officeDocument/2006/relationships/image" Target="../media/image94.png"/><Relationship Id="rId7" Type="http://schemas.openxmlformats.org/officeDocument/2006/relationships/image" Target="../media/image95.png"/><Relationship Id="rId8" Type="http://schemas.openxmlformats.org/officeDocument/2006/relationships/image" Target="../media/image96.png"/><Relationship Id="rId9" Type="http://schemas.openxmlformats.org/officeDocument/2006/relationships/image" Target="../media/image90.png"/><Relationship Id="rId10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://www.ypppt.com/moban/" TargetMode="External"/><Relationship Id="rId2" Type="http://schemas.openxmlformats.org/officeDocument/2006/relationships/hyperlink" Target="http://www.ypppt.com/jieri/" TargetMode="External"/><Relationship Id="rId3" Type="http://schemas.openxmlformats.org/officeDocument/2006/relationships/hyperlink" Target="http://www.ypppt.com/beijing/" TargetMode="External"/><Relationship Id="rId4" Type="http://schemas.openxmlformats.org/officeDocument/2006/relationships/hyperlink" Target="http://www.ypppt.com/tubiao/" TargetMode="External"/><Relationship Id="rId5" Type="http://schemas.openxmlformats.org/officeDocument/2006/relationships/hyperlink" Target="http://www.ypppt.com/sucai/" TargetMode="External"/><Relationship Id="rId6" Type="http://schemas.openxmlformats.org/officeDocument/2006/relationships/hyperlink" Target="http://www.ypppt.com/jiaocheng/" TargetMode="External"/><Relationship Id="rId7" Type="http://schemas.openxmlformats.org/officeDocument/2006/relationships/slideLayout" Target="../slideLayouts/slideLayout97.xml"/><Relationship Id="rId8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空心弧 27"/>
          <p:cNvSpPr/>
          <p:nvPr/>
        </p:nvSpPr>
        <p:spPr>
          <a:xfrm flipH="1" flipV="1" rot="4500000">
            <a:off x="8078040" y="-240840"/>
            <a:ext cx="1308240" cy="1363680"/>
          </a:xfrm>
          <a:custGeom>
            <a:avLst/>
            <a:gdLst>
              <a:gd name="textAreaLeft" fmla="*/ 0 w 1308240"/>
              <a:gd name="textAreaRight" fmla="*/ 1308240 w 1308240"/>
              <a:gd name="textAreaTop" fmla="*/ 0 h 1363680"/>
              <a:gd name="textAreaBottom" fmla="*/ 1249920 h 1363680"/>
            </a:gdLst>
            <a:ahLst/>
            <a:rect l="textAreaLeft" t="textAreaTop" r="textAreaRight" b="textAreaBottom"/>
            <a:pathLst>
              <a:path w="1309819" h="1363952">
                <a:moveTo>
                  <a:pt x="292487" y="1250007"/>
                </a:moveTo>
                <a:lnTo>
                  <a:pt x="292486" y="1250007"/>
                </a:lnTo>
                <a:cubicBezTo>
                  <a:pt x="109798" y="1123612"/>
                  <a:pt x="0" y="910376"/>
                  <a:pt x="0" y="681976"/>
                </a:cubicBezTo>
                <a:cubicBezTo>
                  <a:pt x="0" y="305331"/>
                  <a:pt x="293213" y="0"/>
                  <a:pt x="654910" y="0"/>
                </a:cubicBezTo>
                <a:cubicBezTo>
                  <a:pt x="1016606" y="0"/>
                  <a:pt x="1309820" y="305331"/>
                  <a:pt x="1309820" y="681976"/>
                </a:cubicBezTo>
                <a:cubicBezTo>
                  <a:pt x="1309820" y="684892"/>
                  <a:pt x="1309802" y="687808"/>
                  <a:pt x="1309766" y="690725"/>
                </a:cubicBezTo>
                <a:lnTo>
                  <a:pt x="1178048" y="688965"/>
                </a:lnTo>
                <a:lnTo>
                  <a:pt x="1178047" y="688964"/>
                </a:lnTo>
                <a:cubicBezTo>
                  <a:pt x="1178075" y="686635"/>
                  <a:pt x="1178090" y="684305"/>
                  <a:pt x="1178090" y="681976"/>
                </a:cubicBezTo>
                <a:cubicBezTo>
                  <a:pt x="1178090" y="378082"/>
                  <a:pt x="943853" y="131729"/>
                  <a:pt x="654909" y="131729"/>
                </a:cubicBezTo>
                <a:cubicBezTo>
                  <a:pt x="365964" y="131729"/>
                  <a:pt x="131728" y="378082"/>
                  <a:pt x="131728" y="681976"/>
                </a:cubicBezTo>
                <a:cubicBezTo>
                  <a:pt x="131728" y="865364"/>
                  <a:pt x="218597" y="1036699"/>
                  <a:pt x="363387" y="1138885"/>
                </a:cubicBezTo>
                <a:lnTo>
                  <a:pt x="292487" y="1250007"/>
                </a:lnTo>
                <a:close/>
              </a:path>
            </a:pathLst>
          </a:custGeom>
          <a:solidFill>
            <a:srgbClr val="e46c0a">
              <a:alpha val="3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1" name="组合 25"/>
          <p:cNvGrpSpPr/>
          <p:nvPr/>
        </p:nvGrpSpPr>
        <p:grpSpPr>
          <a:xfrm>
            <a:off x="368280" y="-177840"/>
            <a:ext cx="2138400" cy="5558040"/>
            <a:chOff x="368280" y="-177840"/>
            <a:chExt cx="2138400" cy="5558040"/>
          </a:xfrm>
        </p:grpSpPr>
        <p:grpSp>
          <p:nvGrpSpPr>
            <p:cNvPr id="542" name="组合 9"/>
            <p:cNvGrpSpPr/>
            <p:nvPr/>
          </p:nvGrpSpPr>
          <p:grpSpPr>
            <a:xfrm>
              <a:off x="1120680" y="856080"/>
              <a:ext cx="1386000" cy="1421640"/>
              <a:chOff x="1120680" y="856080"/>
              <a:chExt cx="1386000" cy="1421640"/>
            </a:xfrm>
          </p:grpSpPr>
          <p:sp>
            <p:nvSpPr>
              <p:cNvPr id="543" name="空心弧 3"/>
              <p:cNvSpPr/>
              <p:nvPr/>
            </p:nvSpPr>
            <p:spPr>
              <a:xfrm>
                <a:off x="1120680" y="856080"/>
                <a:ext cx="1386000" cy="1309680"/>
              </a:xfrm>
              <a:custGeom>
                <a:avLst/>
                <a:gdLst>
                  <a:gd name="textAreaLeft" fmla="*/ 359640 w 1386000"/>
                  <a:gd name="textAreaRight" fmla="*/ 1386360 w 1386000"/>
                  <a:gd name="textAreaTop" fmla="*/ 0 h 1309680"/>
                  <a:gd name="textAreaBottom" fmla="*/ 663480 h 1309680"/>
                </a:gdLst>
                <a:ahLst/>
                <a:rect l="textAreaLeft" t="textAreaTop" r="textAreaRight" b="textAreaBottom"/>
                <a:pathLst>
                  <a:path w="2056018" h="2056018">
                    <a:moveTo>
                      <a:pt x="533583" y="126707"/>
                    </a:moveTo>
                    <a:lnTo>
                      <a:pt x="533582" y="126706"/>
                    </a:lnTo>
                    <a:cubicBezTo>
                      <a:pt x="685119" y="43578"/>
                      <a:pt x="855169" y="0"/>
                      <a:pt x="1028009" y="0"/>
                    </a:cubicBezTo>
                    <a:cubicBezTo>
                      <a:pt x="1595762" y="0"/>
                      <a:pt x="2056018" y="460255"/>
                      <a:pt x="2056018" y="1028009"/>
                    </a:cubicBezTo>
                    <a:cubicBezTo>
                      <a:pt x="2056018" y="1032587"/>
                      <a:pt x="2055987" y="1037165"/>
                      <a:pt x="2055926" y="1041743"/>
                    </a:cubicBezTo>
                    <a:lnTo>
                      <a:pt x="1849171" y="1038979"/>
                    </a:lnTo>
                    <a:lnTo>
                      <a:pt x="1849170" y="1038978"/>
                    </a:lnTo>
                    <a:cubicBezTo>
                      <a:pt x="1849219" y="1035322"/>
                      <a:pt x="1849244" y="1031665"/>
                      <a:pt x="1849244" y="1028009"/>
                    </a:cubicBezTo>
                    <a:cubicBezTo>
                      <a:pt x="1849244" y="574453"/>
                      <a:pt x="1481564" y="206774"/>
                      <a:pt x="1028009" y="206774"/>
                    </a:cubicBezTo>
                    <a:cubicBezTo>
                      <a:pt x="889933" y="206774"/>
                      <a:pt x="754086" y="241587"/>
                      <a:pt x="633030" y="307996"/>
                    </a:cubicBezTo>
                    <a:lnTo>
                      <a:pt x="533583" y="126707"/>
                    </a:lnTo>
                    <a:close/>
                  </a:path>
                </a:pathLst>
              </a:custGeom>
              <a:solidFill>
                <a:srgbClr val="ffc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空心弧 4"/>
              <p:cNvSpPr/>
              <p:nvPr/>
            </p:nvSpPr>
            <p:spPr>
              <a:xfrm flipV="1">
                <a:off x="1120680" y="967680"/>
                <a:ext cx="1386000" cy="1309680"/>
              </a:xfrm>
              <a:custGeom>
                <a:avLst/>
                <a:gdLst>
                  <a:gd name="textAreaLeft" fmla="*/ 267480 w 1386000"/>
                  <a:gd name="textAreaRight" fmla="*/ 1386360 w 1386000"/>
                  <a:gd name="textAreaTop" fmla="*/ 360 h 1309680"/>
                  <a:gd name="textAreaBottom" fmla="*/ 663840 h 1309680"/>
                </a:gdLst>
                <a:ahLst/>
                <a:rect l="textAreaLeft" t="textAreaTop" r="textAreaRight" b="textAreaBottom"/>
                <a:pathLst>
                  <a:path w="2056018" h="2056018">
                    <a:moveTo>
                      <a:pt x="397174" y="216313"/>
                    </a:moveTo>
                    <a:lnTo>
                      <a:pt x="397174" y="216313"/>
                    </a:lnTo>
                    <a:cubicBezTo>
                      <a:pt x="577572" y="76111"/>
                      <a:pt x="799535" y="0"/>
                      <a:pt x="1028009" y="0"/>
                    </a:cubicBezTo>
                    <a:cubicBezTo>
                      <a:pt x="1595762" y="0"/>
                      <a:pt x="2056018" y="460255"/>
                      <a:pt x="2056018" y="1028009"/>
                    </a:cubicBezTo>
                    <a:cubicBezTo>
                      <a:pt x="2056018" y="1032587"/>
                      <a:pt x="2055987" y="1037165"/>
                      <a:pt x="2055926" y="1041743"/>
                    </a:cubicBezTo>
                    <a:lnTo>
                      <a:pt x="1849171" y="1038979"/>
                    </a:lnTo>
                    <a:lnTo>
                      <a:pt x="1849170" y="1038978"/>
                    </a:lnTo>
                    <a:cubicBezTo>
                      <a:pt x="1849219" y="1035322"/>
                      <a:pt x="1849244" y="1031665"/>
                      <a:pt x="1849244" y="1028009"/>
                    </a:cubicBezTo>
                    <a:cubicBezTo>
                      <a:pt x="1849244" y="574453"/>
                      <a:pt x="1481564" y="206774"/>
                      <a:pt x="1028009" y="206774"/>
                    </a:cubicBezTo>
                    <a:cubicBezTo>
                      <a:pt x="845490" y="206774"/>
                      <a:pt x="668172" y="267576"/>
                      <a:pt x="524059" y="379579"/>
                    </a:cubicBezTo>
                    <a:lnTo>
                      <a:pt x="397174" y="216313"/>
                    </a:lnTo>
                    <a:close/>
                  </a:path>
                </a:pathLst>
              </a:custGeom>
              <a:solidFill>
                <a:srgbClr val="ffc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5" name="组合 13"/>
            <p:cNvGrpSpPr/>
            <p:nvPr/>
          </p:nvGrpSpPr>
          <p:grpSpPr>
            <a:xfrm>
              <a:off x="368280" y="1890360"/>
              <a:ext cx="1386000" cy="1421640"/>
              <a:chOff x="368280" y="1890360"/>
              <a:chExt cx="1386000" cy="1421640"/>
            </a:xfrm>
          </p:grpSpPr>
          <p:sp>
            <p:nvSpPr>
              <p:cNvPr id="546" name="空心弧 14"/>
              <p:cNvSpPr/>
              <p:nvPr/>
            </p:nvSpPr>
            <p:spPr>
              <a:xfrm flipH="1">
                <a:off x="368280" y="1890360"/>
                <a:ext cx="1386000" cy="1309680"/>
              </a:xfrm>
              <a:custGeom>
                <a:avLst/>
                <a:gdLst>
                  <a:gd name="textAreaLeft" fmla="*/ 359640 w 1386000"/>
                  <a:gd name="textAreaRight" fmla="*/ 1386360 w 1386000"/>
                  <a:gd name="textAreaTop" fmla="*/ 0 h 1309680"/>
                  <a:gd name="textAreaBottom" fmla="*/ 663480 h 1309680"/>
                </a:gdLst>
                <a:ahLst/>
                <a:rect l="textAreaLeft" t="textAreaTop" r="textAreaRight" b="textAreaBottom"/>
                <a:pathLst>
                  <a:path w="2056018" h="2056018">
                    <a:moveTo>
                      <a:pt x="533583" y="126707"/>
                    </a:moveTo>
                    <a:lnTo>
                      <a:pt x="533582" y="126706"/>
                    </a:lnTo>
                    <a:cubicBezTo>
                      <a:pt x="685119" y="43578"/>
                      <a:pt x="855169" y="0"/>
                      <a:pt x="1028009" y="0"/>
                    </a:cubicBezTo>
                    <a:cubicBezTo>
                      <a:pt x="1595762" y="0"/>
                      <a:pt x="2056018" y="460255"/>
                      <a:pt x="2056018" y="1028009"/>
                    </a:cubicBezTo>
                    <a:cubicBezTo>
                      <a:pt x="2056018" y="1032587"/>
                      <a:pt x="2055987" y="1037165"/>
                      <a:pt x="2055926" y="1041743"/>
                    </a:cubicBezTo>
                    <a:lnTo>
                      <a:pt x="1849171" y="1038979"/>
                    </a:lnTo>
                    <a:lnTo>
                      <a:pt x="1849170" y="1038978"/>
                    </a:lnTo>
                    <a:cubicBezTo>
                      <a:pt x="1849219" y="1035322"/>
                      <a:pt x="1849244" y="1031665"/>
                      <a:pt x="1849244" y="1028009"/>
                    </a:cubicBezTo>
                    <a:cubicBezTo>
                      <a:pt x="1849244" y="574453"/>
                      <a:pt x="1481564" y="206774"/>
                      <a:pt x="1028009" y="206774"/>
                    </a:cubicBezTo>
                    <a:cubicBezTo>
                      <a:pt x="889933" y="206774"/>
                      <a:pt x="754086" y="241587"/>
                      <a:pt x="633030" y="307996"/>
                    </a:cubicBezTo>
                    <a:lnTo>
                      <a:pt x="533583" y="126707"/>
                    </a:lnTo>
                    <a:close/>
                  </a:path>
                </a:pathLst>
              </a:custGeom>
              <a:solidFill>
                <a:srgbClr val="e46c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空心弧 15"/>
              <p:cNvSpPr/>
              <p:nvPr/>
            </p:nvSpPr>
            <p:spPr>
              <a:xfrm flipH="1" flipV="1">
                <a:off x="367920" y="2002320"/>
                <a:ext cx="1386000" cy="1309680"/>
              </a:xfrm>
              <a:custGeom>
                <a:avLst/>
                <a:gdLst>
                  <a:gd name="textAreaLeft" fmla="*/ 267480 w 1386000"/>
                  <a:gd name="textAreaRight" fmla="*/ 1386360 w 1386000"/>
                  <a:gd name="textAreaTop" fmla="*/ 360 h 1309680"/>
                  <a:gd name="textAreaBottom" fmla="*/ 663840 h 1309680"/>
                </a:gdLst>
                <a:ahLst/>
                <a:rect l="textAreaLeft" t="textAreaTop" r="textAreaRight" b="textAreaBottom"/>
                <a:pathLst>
                  <a:path w="2056018" h="2056018">
                    <a:moveTo>
                      <a:pt x="397174" y="216313"/>
                    </a:moveTo>
                    <a:lnTo>
                      <a:pt x="397174" y="216313"/>
                    </a:lnTo>
                    <a:cubicBezTo>
                      <a:pt x="577572" y="76111"/>
                      <a:pt x="799535" y="0"/>
                      <a:pt x="1028009" y="0"/>
                    </a:cubicBezTo>
                    <a:cubicBezTo>
                      <a:pt x="1595762" y="0"/>
                      <a:pt x="2056018" y="460255"/>
                      <a:pt x="2056018" y="1028009"/>
                    </a:cubicBezTo>
                    <a:cubicBezTo>
                      <a:pt x="2056018" y="1032587"/>
                      <a:pt x="2055987" y="1037165"/>
                      <a:pt x="2055926" y="1041743"/>
                    </a:cubicBezTo>
                    <a:lnTo>
                      <a:pt x="1849171" y="1038979"/>
                    </a:lnTo>
                    <a:lnTo>
                      <a:pt x="1849170" y="1038978"/>
                    </a:lnTo>
                    <a:cubicBezTo>
                      <a:pt x="1849219" y="1035322"/>
                      <a:pt x="1849244" y="1031665"/>
                      <a:pt x="1849244" y="1028009"/>
                    </a:cubicBezTo>
                    <a:cubicBezTo>
                      <a:pt x="1849244" y="574453"/>
                      <a:pt x="1481564" y="206774"/>
                      <a:pt x="1028009" y="206774"/>
                    </a:cubicBezTo>
                    <a:cubicBezTo>
                      <a:pt x="845490" y="206774"/>
                      <a:pt x="668172" y="267576"/>
                      <a:pt x="524059" y="379579"/>
                    </a:cubicBezTo>
                    <a:lnTo>
                      <a:pt x="397174" y="216313"/>
                    </a:lnTo>
                    <a:close/>
                  </a:path>
                </a:pathLst>
              </a:custGeom>
              <a:solidFill>
                <a:srgbClr val="e46c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8" name="组合 16"/>
            <p:cNvGrpSpPr/>
            <p:nvPr/>
          </p:nvGrpSpPr>
          <p:grpSpPr>
            <a:xfrm>
              <a:off x="1120680" y="2924280"/>
              <a:ext cx="1386000" cy="1421640"/>
              <a:chOff x="1120680" y="2924280"/>
              <a:chExt cx="1386000" cy="1421640"/>
            </a:xfrm>
          </p:grpSpPr>
          <p:sp>
            <p:nvSpPr>
              <p:cNvPr id="549" name="空心弧 17"/>
              <p:cNvSpPr/>
              <p:nvPr/>
            </p:nvSpPr>
            <p:spPr>
              <a:xfrm>
                <a:off x="1120680" y="2924280"/>
                <a:ext cx="1386000" cy="1309680"/>
              </a:xfrm>
              <a:custGeom>
                <a:avLst/>
                <a:gdLst>
                  <a:gd name="textAreaLeft" fmla="*/ 359640 w 1386000"/>
                  <a:gd name="textAreaRight" fmla="*/ 1386360 w 1386000"/>
                  <a:gd name="textAreaTop" fmla="*/ 0 h 1309680"/>
                  <a:gd name="textAreaBottom" fmla="*/ 663480 h 1309680"/>
                </a:gdLst>
                <a:ahLst/>
                <a:rect l="textAreaLeft" t="textAreaTop" r="textAreaRight" b="textAreaBottom"/>
                <a:pathLst>
                  <a:path w="2056018" h="2056018">
                    <a:moveTo>
                      <a:pt x="533583" y="126707"/>
                    </a:moveTo>
                    <a:lnTo>
                      <a:pt x="533582" y="126706"/>
                    </a:lnTo>
                    <a:cubicBezTo>
                      <a:pt x="685119" y="43578"/>
                      <a:pt x="855169" y="0"/>
                      <a:pt x="1028009" y="0"/>
                    </a:cubicBezTo>
                    <a:cubicBezTo>
                      <a:pt x="1595762" y="0"/>
                      <a:pt x="2056018" y="460255"/>
                      <a:pt x="2056018" y="1028009"/>
                    </a:cubicBezTo>
                    <a:cubicBezTo>
                      <a:pt x="2056018" y="1032587"/>
                      <a:pt x="2055987" y="1037165"/>
                      <a:pt x="2055926" y="1041743"/>
                    </a:cubicBezTo>
                    <a:lnTo>
                      <a:pt x="1849171" y="1038979"/>
                    </a:lnTo>
                    <a:lnTo>
                      <a:pt x="1849170" y="1038978"/>
                    </a:lnTo>
                    <a:cubicBezTo>
                      <a:pt x="1849219" y="1035322"/>
                      <a:pt x="1849244" y="1031665"/>
                      <a:pt x="1849244" y="1028009"/>
                    </a:cubicBezTo>
                    <a:cubicBezTo>
                      <a:pt x="1849244" y="574453"/>
                      <a:pt x="1481564" y="206774"/>
                      <a:pt x="1028009" y="206774"/>
                    </a:cubicBezTo>
                    <a:cubicBezTo>
                      <a:pt x="889933" y="206774"/>
                      <a:pt x="754086" y="241587"/>
                      <a:pt x="633030" y="307996"/>
                    </a:cubicBezTo>
                    <a:lnTo>
                      <a:pt x="533583" y="126707"/>
                    </a:lnTo>
                    <a:close/>
                  </a:path>
                </a:pathLst>
              </a:custGeom>
              <a:solidFill>
                <a:srgbClr val="ffc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空心弧 18"/>
              <p:cNvSpPr/>
              <p:nvPr/>
            </p:nvSpPr>
            <p:spPr>
              <a:xfrm flipV="1">
                <a:off x="1120680" y="3036240"/>
                <a:ext cx="1386000" cy="1309680"/>
              </a:xfrm>
              <a:custGeom>
                <a:avLst/>
                <a:gdLst>
                  <a:gd name="textAreaLeft" fmla="*/ 267480 w 1386000"/>
                  <a:gd name="textAreaRight" fmla="*/ 1386360 w 1386000"/>
                  <a:gd name="textAreaTop" fmla="*/ 360 h 1309680"/>
                  <a:gd name="textAreaBottom" fmla="*/ 663840 h 1309680"/>
                </a:gdLst>
                <a:ahLst/>
                <a:rect l="textAreaLeft" t="textAreaTop" r="textAreaRight" b="textAreaBottom"/>
                <a:pathLst>
                  <a:path w="2056018" h="2056018">
                    <a:moveTo>
                      <a:pt x="397174" y="216313"/>
                    </a:moveTo>
                    <a:lnTo>
                      <a:pt x="397174" y="216313"/>
                    </a:lnTo>
                    <a:cubicBezTo>
                      <a:pt x="577572" y="76111"/>
                      <a:pt x="799535" y="0"/>
                      <a:pt x="1028009" y="0"/>
                    </a:cubicBezTo>
                    <a:cubicBezTo>
                      <a:pt x="1595762" y="0"/>
                      <a:pt x="2056018" y="460255"/>
                      <a:pt x="2056018" y="1028009"/>
                    </a:cubicBezTo>
                    <a:cubicBezTo>
                      <a:pt x="2056018" y="1032587"/>
                      <a:pt x="2055987" y="1037165"/>
                      <a:pt x="2055926" y="1041743"/>
                    </a:cubicBezTo>
                    <a:lnTo>
                      <a:pt x="1849171" y="1038979"/>
                    </a:lnTo>
                    <a:lnTo>
                      <a:pt x="1849170" y="1038978"/>
                    </a:lnTo>
                    <a:cubicBezTo>
                      <a:pt x="1849219" y="1035322"/>
                      <a:pt x="1849244" y="1031665"/>
                      <a:pt x="1849244" y="1028009"/>
                    </a:cubicBezTo>
                    <a:cubicBezTo>
                      <a:pt x="1849244" y="574453"/>
                      <a:pt x="1481564" y="206774"/>
                      <a:pt x="1028009" y="206774"/>
                    </a:cubicBezTo>
                    <a:cubicBezTo>
                      <a:pt x="845490" y="206774"/>
                      <a:pt x="668172" y="267576"/>
                      <a:pt x="524059" y="379579"/>
                    </a:cubicBezTo>
                    <a:lnTo>
                      <a:pt x="397174" y="216313"/>
                    </a:lnTo>
                    <a:close/>
                  </a:path>
                </a:pathLst>
              </a:custGeom>
              <a:solidFill>
                <a:srgbClr val="ffc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1" name="组合 19"/>
            <p:cNvGrpSpPr/>
            <p:nvPr/>
          </p:nvGrpSpPr>
          <p:grpSpPr>
            <a:xfrm>
              <a:off x="368280" y="3958560"/>
              <a:ext cx="1386000" cy="1421640"/>
              <a:chOff x="368280" y="3958560"/>
              <a:chExt cx="1386000" cy="1421640"/>
            </a:xfrm>
          </p:grpSpPr>
          <p:sp>
            <p:nvSpPr>
              <p:cNvPr id="552" name="空心弧 20"/>
              <p:cNvSpPr/>
              <p:nvPr/>
            </p:nvSpPr>
            <p:spPr>
              <a:xfrm flipH="1">
                <a:off x="368280" y="3958560"/>
                <a:ext cx="1386000" cy="1309680"/>
              </a:xfrm>
              <a:custGeom>
                <a:avLst/>
                <a:gdLst>
                  <a:gd name="textAreaLeft" fmla="*/ 359640 w 1386000"/>
                  <a:gd name="textAreaRight" fmla="*/ 1386360 w 1386000"/>
                  <a:gd name="textAreaTop" fmla="*/ 0 h 1309680"/>
                  <a:gd name="textAreaBottom" fmla="*/ 663480 h 1309680"/>
                </a:gdLst>
                <a:ahLst/>
                <a:rect l="textAreaLeft" t="textAreaTop" r="textAreaRight" b="textAreaBottom"/>
                <a:pathLst>
                  <a:path w="2056018" h="2056018">
                    <a:moveTo>
                      <a:pt x="533583" y="126707"/>
                    </a:moveTo>
                    <a:lnTo>
                      <a:pt x="533582" y="126706"/>
                    </a:lnTo>
                    <a:cubicBezTo>
                      <a:pt x="685119" y="43578"/>
                      <a:pt x="855169" y="0"/>
                      <a:pt x="1028009" y="0"/>
                    </a:cubicBezTo>
                    <a:cubicBezTo>
                      <a:pt x="1595762" y="0"/>
                      <a:pt x="2056018" y="460255"/>
                      <a:pt x="2056018" y="1028009"/>
                    </a:cubicBezTo>
                    <a:cubicBezTo>
                      <a:pt x="2056018" y="1032587"/>
                      <a:pt x="2055987" y="1037165"/>
                      <a:pt x="2055926" y="1041743"/>
                    </a:cubicBezTo>
                    <a:lnTo>
                      <a:pt x="1849171" y="1038979"/>
                    </a:lnTo>
                    <a:lnTo>
                      <a:pt x="1849170" y="1038978"/>
                    </a:lnTo>
                    <a:cubicBezTo>
                      <a:pt x="1849219" y="1035322"/>
                      <a:pt x="1849244" y="1031665"/>
                      <a:pt x="1849244" y="1028009"/>
                    </a:cubicBezTo>
                    <a:cubicBezTo>
                      <a:pt x="1849244" y="574453"/>
                      <a:pt x="1481564" y="206774"/>
                      <a:pt x="1028009" y="206774"/>
                    </a:cubicBezTo>
                    <a:cubicBezTo>
                      <a:pt x="889933" y="206774"/>
                      <a:pt x="754086" y="241587"/>
                      <a:pt x="633030" y="307996"/>
                    </a:cubicBezTo>
                    <a:lnTo>
                      <a:pt x="533583" y="126707"/>
                    </a:lnTo>
                    <a:close/>
                  </a:path>
                </a:pathLst>
              </a:custGeom>
              <a:solidFill>
                <a:srgbClr val="e46c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空心弧 21"/>
              <p:cNvSpPr/>
              <p:nvPr/>
            </p:nvSpPr>
            <p:spPr>
              <a:xfrm flipH="1" flipV="1">
                <a:off x="367920" y="4070520"/>
                <a:ext cx="1386000" cy="1309680"/>
              </a:xfrm>
              <a:custGeom>
                <a:avLst/>
                <a:gdLst>
                  <a:gd name="textAreaLeft" fmla="*/ 74520 w 1386000"/>
                  <a:gd name="textAreaRight" fmla="*/ 1386720 w 1386000"/>
                  <a:gd name="textAreaTop" fmla="*/ 360 h 1309680"/>
                  <a:gd name="textAreaBottom" fmla="*/ 663840 h 1309680"/>
                </a:gdLst>
                <a:ahLst/>
                <a:rect l="textAreaLeft" t="textAreaTop" r="textAreaRight" b="textAreaBottom"/>
                <a:pathLst>
                  <a:path w="2056018" h="2056017">
                    <a:moveTo>
                      <a:pt x="110476" y="564397"/>
                    </a:moveTo>
                    <a:lnTo>
                      <a:pt x="110476" y="564397"/>
                    </a:lnTo>
                    <a:cubicBezTo>
                      <a:pt x="285375" y="218254"/>
                      <a:pt x="640188" y="0"/>
                      <a:pt x="1028009" y="0"/>
                    </a:cubicBezTo>
                    <a:cubicBezTo>
                      <a:pt x="1595762" y="0"/>
                      <a:pt x="2056018" y="460255"/>
                      <a:pt x="2056018" y="1028009"/>
                    </a:cubicBezTo>
                    <a:cubicBezTo>
                      <a:pt x="2056018" y="1032587"/>
                      <a:pt x="2055987" y="1037165"/>
                      <a:pt x="2055926" y="1041743"/>
                    </a:cubicBezTo>
                    <a:lnTo>
                      <a:pt x="1849171" y="1038978"/>
                    </a:lnTo>
                    <a:lnTo>
                      <a:pt x="1849170" y="1038977"/>
                    </a:lnTo>
                    <a:cubicBezTo>
                      <a:pt x="1849219" y="1035321"/>
                      <a:pt x="1849244" y="1031664"/>
                      <a:pt x="1849244" y="1028008"/>
                    </a:cubicBezTo>
                    <a:cubicBezTo>
                      <a:pt x="1849244" y="574452"/>
                      <a:pt x="1481564" y="206773"/>
                      <a:pt x="1028009" y="206773"/>
                    </a:cubicBezTo>
                    <a:cubicBezTo>
                      <a:pt x="718194" y="206773"/>
                      <a:pt x="434747" y="381128"/>
                      <a:pt x="295028" y="657649"/>
                    </a:cubicBezTo>
                    <a:lnTo>
                      <a:pt x="110476" y="564397"/>
                    </a:lnTo>
                    <a:close/>
                  </a:path>
                </a:pathLst>
              </a:custGeom>
              <a:solidFill>
                <a:srgbClr val="e46c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4" name="组合 22"/>
            <p:cNvGrpSpPr/>
            <p:nvPr/>
          </p:nvGrpSpPr>
          <p:grpSpPr>
            <a:xfrm>
              <a:off x="368280" y="-177840"/>
              <a:ext cx="1386000" cy="1422000"/>
              <a:chOff x="368280" y="-177840"/>
              <a:chExt cx="1386000" cy="1422000"/>
            </a:xfrm>
          </p:grpSpPr>
          <p:sp>
            <p:nvSpPr>
              <p:cNvPr id="555" name="空心弧 23"/>
              <p:cNvSpPr/>
              <p:nvPr/>
            </p:nvSpPr>
            <p:spPr>
              <a:xfrm flipH="1">
                <a:off x="368280" y="-177840"/>
                <a:ext cx="1386000" cy="1309680"/>
              </a:xfrm>
              <a:custGeom>
                <a:avLst/>
                <a:gdLst>
                  <a:gd name="textAreaLeft" fmla="*/ 863640 w 1386000"/>
                  <a:gd name="textAreaRight" fmla="*/ 1386720 w 1386000"/>
                  <a:gd name="textAreaTop" fmla="*/ 31680 h 1309680"/>
                  <a:gd name="textAreaBottom" fmla="*/ 663480 h 1309680"/>
                </a:gdLst>
                <a:ahLst/>
                <a:rect l="textAreaLeft" t="textAreaTop" r="textAreaRight" b="textAreaBottom"/>
                <a:pathLst>
                  <a:path w="2056018" h="2056017">
                    <a:moveTo>
                      <a:pt x="1343922" y="49744"/>
                    </a:moveTo>
                    <a:lnTo>
                      <a:pt x="1343921" y="49744"/>
                    </a:lnTo>
                    <a:cubicBezTo>
                      <a:pt x="1768380" y="186815"/>
                      <a:pt x="2056018" y="581966"/>
                      <a:pt x="2056018" y="1028009"/>
                    </a:cubicBezTo>
                    <a:cubicBezTo>
                      <a:pt x="2056018" y="1032587"/>
                      <a:pt x="2055987" y="1037165"/>
                      <a:pt x="2055926" y="1041743"/>
                    </a:cubicBezTo>
                    <a:lnTo>
                      <a:pt x="1849171" y="1038978"/>
                    </a:lnTo>
                    <a:lnTo>
                      <a:pt x="1849170" y="1038977"/>
                    </a:lnTo>
                    <a:cubicBezTo>
                      <a:pt x="1849219" y="1035321"/>
                      <a:pt x="1849244" y="1031664"/>
                      <a:pt x="1849244" y="1028008"/>
                    </a:cubicBezTo>
                    <a:cubicBezTo>
                      <a:pt x="1849244" y="671682"/>
                      <a:pt x="1619461" y="356011"/>
                      <a:pt x="1280377" y="246511"/>
                    </a:cubicBezTo>
                    <a:lnTo>
                      <a:pt x="1343922" y="49744"/>
                    </a:lnTo>
                    <a:close/>
                  </a:path>
                </a:pathLst>
              </a:custGeom>
              <a:solidFill>
                <a:srgbClr val="e46c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空心弧 24"/>
              <p:cNvSpPr/>
              <p:nvPr/>
            </p:nvSpPr>
            <p:spPr>
              <a:xfrm flipH="1" flipV="1">
                <a:off x="367920" y="-65160"/>
                <a:ext cx="1386000" cy="1309680"/>
              </a:xfrm>
              <a:custGeom>
                <a:avLst/>
                <a:gdLst>
                  <a:gd name="textAreaLeft" fmla="*/ 267480 w 1386000"/>
                  <a:gd name="textAreaRight" fmla="*/ 1386360 w 1386000"/>
                  <a:gd name="textAreaTop" fmla="*/ 360 h 1309680"/>
                  <a:gd name="textAreaBottom" fmla="*/ 663840 h 1309680"/>
                </a:gdLst>
                <a:ahLst/>
                <a:rect l="textAreaLeft" t="textAreaTop" r="textAreaRight" b="textAreaBottom"/>
                <a:pathLst>
                  <a:path w="2056018" h="2056018">
                    <a:moveTo>
                      <a:pt x="397174" y="216313"/>
                    </a:moveTo>
                    <a:lnTo>
                      <a:pt x="397174" y="216313"/>
                    </a:lnTo>
                    <a:cubicBezTo>
                      <a:pt x="577572" y="76111"/>
                      <a:pt x="799535" y="0"/>
                      <a:pt x="1028009" y="0"/>
                    </a:cubicBezTo>
                    <a:cubicBezTo>
                      <a:pt x="1595762" y="0"/>
                      <a:pt x="2056018" y="460255"/>
                      <a:pt x="2056018" y="1028009"/>
                    </a:cubicBezTo>
                    <a:cubicBezTo>
                      <a:pt x="2056018" y="1032587"/>
                      <a:pt x="2055987" y="1037165"/>
                      <a:pt x="2055926" y="1041743"/>
                    </a:cubicBezTo>
                    <a:lnTo>
                      <a:pt x="1849171" y="1038979"/>
                    </a:lnTo>
                    <a:lnTo>
                      <a:pt x="1849170" y="1038978"/>
                    </a:lnTo>
                    <a:cubicBezTo>
                      <a:pt x="1849219" y="1035322"/>
                      <a:pt x="1849244" y="1031665"/>
                      <a:pt x="1849244" y="1028009"/>
                    </a:cubicBezTo>
                    <a:cubicBezTo>
                      <a:pt x="1849244" y="574453"/>
                      <a:pt x="1481564" y="206774"/>
                      <a:pt x="1028009" y="206774"/>
                    </a:cubicBezTo>
                    <a:cubicBezTo>
                      <a:pt x="845490" y="206774"/>
                      <a:pt x="668172" y="267576"/>
                      <a:pt x="524059" y="379579"/>
                    </a:cubicBezTo>
                    <a:lnTo>
                      <a:pt x="397174" y="216313"/>
                    </a:lnTo>
                    <a:close/>
                  </a:path>
                </a:pathLst>
              </a:custGeom>
              <a:solidFill>
                <a:srgbClr val="e46c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57" name="TextBox 28"/>
          <p:cNvSpPr/>
          <p:nvPr/>
        </p:nvSpPr>
        <p:spPr>
          <a:xfrm>
            <a:off x="1510560" y="1058760"/>
            <a:ext cx="75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000"/>
                </a:solidFill>
                <a:latin typeface="Arial Unicode MS"/>
                <a:ea typeface="Arial Unicode MS"/>
              </a:rPr>
              <a:t>0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Box 29"/>
          <p:cNvSpPr/>
          <p:nvPr/>
        </p:nvSpPr>
        <p:spPr>
          <a:xfrm>
            <a:off x="1491840" y="3203640"/>
            <a:ext cx="75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000"/>
                </a:solidFill>
                <a:latin typeface="Arial Unicode MS"/>
                <a:ea typeface="Arial Unicode MS"/>
              </a:rPr>
              <a:t>0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Box 30"/>
          <p:cNvSpPr/>
          <p:nvPr/>
        </p:nvSpPr>
        <p:spPr>
          <a:xfrm>
            <a:off x="1403640" y="1657440"/>
            <a:ext cx="97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000"/>
                </a:solidFill>
                <a:latin typeface="Arial Unicode MS"/>
                <a:ea typeface="Arial Unicode MS"/>
              </a:rPr>
              <a:t>Op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Box 31"/>
          <p:cNvSpPr/>
          <p:nvPr/>
        </p:nvSpPr>
        <p:spPr>
          <a:xfrm>
            <a:off x="1360800" y="3745080"/>
            <a:ext cx="97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000"/>
                </a:solidFill>
                <a:latin typeface="Arial Unicode MS"/>
                <a:ea typeface="Arial Unicode MS"/>
              </a:rPr>
              <a:t>Op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TextBox 32"/>
          <p:cNvSpPr/>
          <p:nvPr/>
        </p:nvSpPr>
        <p:spPr>
          <a:xfrm>
            <a:off x="682200" y="2170080"/>
            <a:ext cx="75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46c0a"/>
                </a:solidFill>
                <a:latin typeface="Arial Unicode MS"/>
                <a:ea typeface="Arial Unicode MS"/>
              </a:rPr>
              <a:t>0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Box 33"/>
          <p:cNvSpPr/>
          <p:nvPr/>
        </p:nvSpPr>
        <p:spPr>
          <a:xfrm>
            <a:off x="469440" y="2625840"/>
            <a:ext cx="118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46c0a"/>
                </a:solidFill>
                <a:latin typeface="Arial Unicode MS"/>
                <a:ea typeface="Arial Unicode MS"/>
              </a:rPr>
              <a:t>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燕尾形 34"/>
          <p:cNvSpPr/>
          <p:nvPr/>
        </p:nvSpPr>
        <p:spPr>
          <a:xfrm>
            <a:off x="1592280" y="2516040"/>
            <a:ext cx="228600" cy="217800"/>
          </a:xfrm>
          <a:custGeom>
            <a:avLst/>
            <a:gdLst>
              <a:gd name="textAreaLeft" fmla="*/ 0 w 228600"/>
              <a:gd name="textAreaRight" fmla="*/ 228960 w 228600"/>
              <a:gd name="textAreaTop" fmla="*/ 0 h 217800"/>
              <a:gd name="textAreaBottom" fmla="*/ 218160 h 217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1395" y="0"/>
                </a:lnTo>
                <a:lnTo>
                  <a:pt x="21600" y="10800"/>
                </a:lnTo>
                <a:lnTo>
                  <a:pt x="11395" y="21600"/>
                </a:lnTo>
                <a:lnTo>
                  <a:pt x="0" y="21600"/>
                </a:lnTo>
                <a:lnTo>
                  <a:pt x="10205" y="10800"/>
                </a:lnTo>
                <a:close/>
              </a:path>
            </a:pathLst>
          </a:cu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燕尾形 35"/>
          <p:cNvSpPr/>
          <p:nvPr/>
        </p:nvSpPr>
        <p:spPr>
          <a:xfrm>
            <a:off x="2697120" y="1459080"/>
            <a:ext cx="228600" cy="215640"/>
          </a:xfrm>
          <a:custGeom>
            <a:avLst/>
            <a:gdLst>
              <a:gd name="textAreaLeft" fmla="*/ 0 w 228600"/>
              <a:gd name="textAreaRight" fmla="*/ 228960 w 228600"/>
              <a:gd name="textAreaTop" fmla="*/ 0 h 215640"/>
              <a:gd name="textAreaBottom" fmla="*/ 216000 h 21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1395" y="0"/>
                </a:lnTo>
                <a:lnTo>
                  <a:pt x="21600" y="10800"/>
                </a:lnTo>
                <a:lnTo>
                  <a:pt x="11395" y="21600"/>
                </a:lnTo>
                <a:lnTo>
                  <a:pt x="0" y="21600"/>
                </a:lnTo>
                <a:lnTo>
                  <a:pt x="10205" y="10800"/>
                </a:ln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燕尾形 36"/>
          <p:cNvSpPr/>
          <p:nvPr/>
        </p:nvSpPr>
        <p:spPr>
          <a:xfrm>
            <a:off x="2697120" y="3549600"/>
            <a:ext cx="228600" cy="216000"/>
          </a:xfrm>
          <a:custGeom>
            <a:avLst/>
            <a:gdLst>
              <a:gd name="textAreaLeft" fmla="*/ 0 w 228600"/>
              <a:gd name="textAreaRight" fmla="*/ 228960 w 2286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1395" y="0"/>
                </a:lnTo>
                <a:lnTo>
                  <a:pt x="21600" y="10800"/>
                </a:lnTo>
                <a:lnTo>
                  <a:pt x="11395" y="21600"/>
                </a:lnTo>
                <a:lnTo>
                  <a:pt x="0" y="21600"/>
                </a:lnTo>
                <a:lnTo>
                  <a:pt x="10205" y="10800"/>
                </a:ln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extBox 37"/>
          <p:cNvSpPr/>
          <p:nvPr/>
        </p:nvSpPr>
        <p:spPr>
          <a:xfrm>
            <a:off x="3111120" y="1276200"/>
            <a:ext cx="3399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000"/>
                </a:solidFill>
                <a:latin typeface="Calibri"/>
              </a:rPr>
              <a:t>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here to add your text or C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Your text and paste i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Box 38"/>
          <p:cNvSpPr/>
          <p:nvPr/>
        </p:nvSpPr>
        <p:spPr>
          <a:xfrm>
            <a:off x="2757240" y="2278080"/>
            <a:ext cx="3399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46c0a"/>
                </a:solidFill>
                <a:latin typeface="Calibri"/>
              </a:rPr>
              <a:t>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here to add your text or C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Your text and paste i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Box 39"/>
          <p:cNvSpPr/>
          <p:nvPr/>
        </p:nvSpPr>
        <p:spPr>
          <a:xfrm>
            <a:off x="3111120" y="3311640"/>
            <a:ext cx="3399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000"/>
                </a:solidFill>
                <a:latin typeface="Calibri"/>
              </a:rPr>
              <a:t>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here to add your text or C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Your text and paste i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Box 40"/>
          <p:cNvSpPr/>
          <p:nvPr/>
        </p:nvSpPr>
        <p:spPr>
          <a:xfrm>
            <a:off x="5722560" y="287280"/>
            <a:ext cx="291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46c0a"/>
                </a:solidFill>
                <a:latin typeface="Calibri"/>
              </a:rPr>
              <a:t>Click to add 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矩形 27"/>
          <p:cNvSpPr/>
          <p:nvPr/>
        </p:nvSpPr>
        <p:spPr>
          <a:xfrm rot="5400000">
            <a:off x="22680" y="403920"/>
            <a:ext cx="465120" cy="85680"/>
          </a:xfrm>
          <a:prstGeom prst="rect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矩形 28"/>
          <p:cNvSpPr/>
          <p:nvPr/>
        </p:nvSpPr>
        <p:spPr>
          <a:xfrm>
            <a:off x="108000" y="204840"/>
            <a:ext cx="302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Calibri"/>
              </a:rPr>
              <a:t>Click to add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空心弧 7"/>
          <p:cNvSpPr/>
          <p:nvPr/>
        </p:nvSpPr>
        <p:spPr>
          <a:xfrm flipH="1" flipV="1" rot="5400000">
            <a:off x="4601880" y="894240"/>
            <a:ext cx="3482640" cy="3170520"/>
          </a:xfrm>
          <a:custGeom>
            <a:avLst/>
            <a:gdLst>
              <a:gd name="textAreaLeft" fmla="*/ 499320 w 3482640"/>
              <a:gd name="textAreaRight" fmla="*/ 3000600 w 3482640"/>
              <a:gd name="textAreaTop" fmla="*/ -360 h 3170520"/>
              <a:gd name="textAreaBottom" fmla="*/ 994680 h 3170520"/>
            </a:gdLst>
            <a:ahLst/>
            <a:rect l="textAreaLeft" t="textAreaTop" r="textAreaRight" b="textAreaBottom"/>
            <a:pathLst>
              <a:path w="3482804" h="3169934">
                <a:moveTo>
                  <a:pt x="499604" y="473810"/>
                </a:moveTo>
                <a:lnTo>
                  <a:pt x="499604" y="473810"/>
                </a:lnTo>
                <a:cubicBezTo>
                  <a:pt x="826991" y="170714"/>
                  <a:pt x="1274412" y="0"/>
                  <a:pt x="1741402" y="0"/>
                </a:cubicBezTo>
                <a:cubicBezTo>
                  <a:pt x="2217151" y="0"/>
                  <a:pt x="2672187" y="177159"/>
                  <a:pt x="3000763" y="490308"/>
                </a:cubicBezTo>
                <a:lnTo>
                  <a:pt x="2420315" y="994844"/>
                </a:lnTo>
                <a:lnTo>
                  <a:pt x="2420315" y="994843"/>
                </a:lnTo>
                <a:cubicBezTo>
                  <a:pt x="2238142" y="847002"/>
                  <a:pt x="1994723" y="764366"/>
                  <a:pt x="1741402" y="764366"/>
                </a:cubicBezTo>
                <a:cubicBezTo>
                  <a:pt x="1492972" y="764366"/>
                  <a:pt x="1253872" y="843848"/>
                  <a:pt x="1072736" y="986647"/>
                </a:cubicBezTo>
                <a:lnTo>
                  <a:pt x="499604" y="473810"/>
                </a:lnTo>
                <a:close/>
              </a:path>
            </a:pathLst>
          </a:custGeom>
          <a:solidFill>
            <a:srgbClr val="ffc000"/>
          </a:solidFill>
          <a:ln w="0">
            <a:noFill/>
          </a:ln>
          <a:effectLst>
            <a:outerShdw dist="15375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空心弧 8"/>
          <p:cNvSpPr/>
          <p:nvPr/>
        </p:nvSpPr>
        <p:spPr>
          <a:xfrm flipV="1" rot="16200000">
            <a:off x="1057680" y="879480"/>
            <a:ext cx="3483000" cy="3170520"/>
          </a:xfrm>
          <a:custGeom>
            <a:avLst/>
            <a:gdLst>
              <a:gd name="textAreaLeft" fmla="*/ 484200 w 3483000"/>
              <a:gd name="textAreaRight" fmla="*/ 3000960 w 3483000"/>
              <a:gd name="textAreaTop" fmla="*/ -360 h 3170520"/>
              <a:gd name="textAreaBottom" fmla="*/ 994680 h 3170520"/>
            </a:gdLst>
            <a:ahLst/>
            <a:rect l="textAreaLeft" t="textAreaTop" r="textAreaRight" b="textAreaBottom"/>
            <a:pathLst>
              <a:path w="3482804" h="3169934">
                <a:moveTo>
                  <a:pt x="484373" y="488089"/>
                </a:moveTo>
                <a:lnTo>
                  <a:pt x="484373" y="488089"/>
                </a:lnTo>
                <a:cubicBezTo>
                  <a:pt x="812804" y="176290"/>
                  <a:pt x="1266824" y="0"/>
                  <a:pt x="1741402" y="0"/>
                </a:cubicBezTo>
                <a:cubicBezTo>
                  <a:pt x="2217151" y="0"/>
                  <a:pt x="2672187" y="177159"/>
                  <a:pt x="3000763" y="490308"/>
                </a:cubicBezTo>
                <a:lnTo>
                  <a:pt x="2420315" y="994844"/>
                </a:lnTo>
                <a:lnTo>
                  <a:pt x="2420315" y="994843"/>
                </a:lnTo>
                <a:cubicBezTo>
                  <a:pt x="2238142" y="847002"/>
                  <a:pt x="1994723" y="764366"/>
                  <a:pt x="1741402" y="764366"/>
                </a:cubicBezTo>
                <a:cubicBezTo>
                  <a:pt x="1488735" y="764366"/>
                  <a:pt x="1245893" y="846576"/>
                  <a:pt x="1063851" y="993739"/>
                </a:cubicBezTo>
                <a:lnTo>
                  <a:pt x="484373" y="488089"/>
                </a:lnTo>
                <a:close/>
              </a:path>
            </a:pathLst>
          </a:custGeom>
          <a:solidFill>
            <a:srgbClr val="ffc000"/>
          </a:solidFill>
          <a:ln w="0">
            <a:noFill/>
          </a:ln>
          <a:effectLst>
            <a:outerShdw dist="15375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空心弧 6"/>
          <p:cNvSpPr/>
          <p:nvPr/>
        </p:nvSpPr>
        <p:spPr>
          <a:xfrm flipH="1" flipV="1">
            <a:off x="2842200" y="-955440"/>
            <a:ext cx="3483000" cy="3168720"/>
          </a:xfrm>
          <a:custGeom>
            <a:avLst/>
            <a:gdLst>
              <a:gd name="textAreaLeft" fmla="*/ 487800 w 3483000"/>
              <a:gd name="textAreaRight" fmla="*/ 3000600 w 3483000"/>
              <a:gd name="textAreaTop" fmla="*/ 0 h 3168720"/>
              <a:gd name="textAreaBottom" fmla="*/ 994320 h 3168720"/>
            </a:gdLst>
            <a:ahLst/>
            <a:rect l="textAreaLeft" t="textAreaTop" r="textAreaRight" b="textAreaBottom"/>
            <a:pathLst>
              <a:path w="3482802" h="3169934">
                <a:moveTo>
                  <a:pt x="488354" y="484322"/>
                </a:moveTo>
                <a:lnTo>
                  <a:pt x="488354" y="484322"/>
                </a:lnTo>
                <a:cubicBezTo>
                  <a:pt x="816528" y="174816"/>
                  <a:pt x="1268817" y="0"/>
                  <a:pt x="1741401" y="0"/>
                </a:cubicBezTo>
                <a:cubicBezTo>
                  <a:pt x="2217150" y="0"/>
                  <a:pt x="2672185" y="177159"/>
                  <a:pt x="3000762" y="490308"/>
                </a:cubicBezTo>
                <a:lnTo>
                  <a:pt x="2420314" y="994844"/>
                </a:lnTo>
                <a:lnTo>
                  <a:pt x="2420313" y="994844"/>
                </a:lnTo>
                <a:cubicBezTo>
                  <a:pt x="2238141" y="847002"/>
                  <a:pt x="1994722" y="764366"/>
                  <a:pt x="1741401" y="764366"/>
                </a:cubicBezTo>
                <a:cubicBezTo>
                  <a:pt x="1489849" y="764366"/>
                  <a:pt x="1247989" y="845854"/>
                  <a:pt x="1066177" y="991866"/>
                </a:cubicBezTo>
                <a:lnTo>
                  <a:pt x="488354" y="484322"/>
                </a:lnTo>
                <a:close/>
              </a:path>
            </a:pathLst>
          </a:custGeom>
          <a:solidFill>
            <a:srgbClr val="e46c0a"/>
          </a:solidFill>
          <a:ln w="0">
            <a:noFill/>
          </a:ln>
          <a:effectLst>
            <a:outerShdw dist="15375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空心弧 9"/>
          <p:cNvSpPr/>
          <p:nvPr/>
        </p:nvSpPr>
        <p:spPr>
          <a:xfrm>
            <a:off x="2820960" y="2732040"/>
            <a:ext cx="3483000" cy="3170160"/>
          </a:xfrm>
          <a:custGeom>
            <a:avLst/>
            <a:gdLst>
              <a:gd name="textAreaLeft" fmla="*/ 488160 w 3483000"/>
              <a:gd name="textAreaRight" fmla="*/ 3000960 w 3483000"/>
              <a:gd name="textAreaTop" fmla="*/ 0 h 3170160"/>
              <a:gd name="textAreaBottom" fmla="*/ 994680 h 3170160"/>
            </a:gdLst>
            <a:ahLst/>
            <a:rect l="textAreaLeft" t="textAreaTop" r="textAreaRight" b="textAreaBottom"/>
            <a:pathLst>
              <a:path w="3482802" h="3169934">
                <a:moveTo>
                  <a:pt x="488354" y="484322"/>
                </a:moveTo>
                <a:lnTo>
                  <a:pt x="488354" y="484322"/>
                </a:lnTo>
                <a:cubicBezTo>
                  <a:pt x="816528" y="174816"/>
                  <a:pt x="1268817" y="0"/>
                  <a:pt x="1741401" y="0"/>
                </a:cubicBezTo>
                <a:cubicBezTo>
                  <a:pt x="2217150" y="0"/>
                  <a:pt x="2672185" y="177159"/>
                  <a:pt x="3000762" y="490308"/>
                </a:cubicBezTo>
                <a:lnTo>
                  <a:pt x="2420314" y="994844"/>
                </a:lnTo>
                <a:lnTo>
                  <a:pt x="2420313" y="994844"/>
                </a:lnTo>
                <a:cubicBezTo>
                  <a:pt x="2238141" y="847002"/>
                  <a:pt x="1994722" y="764366"/>
                  <a:pt x="1741401" y="764366"/>
                </a:cubicBezTo>
                <a:cubicBezTo>
                  <a:pt x="1489849" y="764366"/>
                  <a:pt x="1247989" y="845854"/>
                  <a:pt x="1066177" y="991866"/>
                </a:cubicBezTo>
                <a:lnTo>
                  <a:pt x="488354" y="484322"/>
                </a:lnTo>
                <a:close/>
              </a:path>
            </a:pathLst>
          </a:custGeom>
          <a:solidFill>
            <a:srgbClr val="e46c0a"/>
          </a:solidFill>
          <a:ln w="0">
            <a:noFill/>
          </a:ln>
          <a:effectLst>
            <a:outerShdw dist="15375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矩形 16"/>
          <p:cNvSpPr/>
          <p:nvPr/>
        </p:nvSpPr>
        <p:spPr>
          <a:xfrm rot="19142400">
            <a:off x="2669760" y="1325520"/>
            <a:ext cx="1711440" cy="16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TextBox 29"/>
          <p:cNvSpPr/>
          <p:nvPr/>
        </p:nvSpPr>
        <p:spPr>
          <a:xfrm>
            <a:off x="4086720" y="1593720"/>
            <a:ext cx="9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01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TextBox 30"/>
          <p:cNvSpPr/>
          <p:nvPr/>
        </p:nvSpPr>
        <p:spPr>
          <a:xfrm>
            <a:off x="4086720" y="2952720"/>
            <a:ext cx="9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02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TextBox 31"/>
          <p:cNvSpPr/>
          <p:nvPr/>
        </p:nvSpPr>
        <p:spPr>
          <a:xfrm>
            <a:off x="3620520" y="2128680"/>
            <a:ext cx="640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TextBox 32"/>
          <p:cNvSpPr/>
          <p:nvPr/>
        </p:nvSpPr>
        <p:spPr>
          <a:xfrm>
            <a:off x="4854240" y="2128680"/>
            <a:ext cx="640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TextBox 33"/>
          <p:cNvSpPr/>
          <p:nvPr/>
        </p:nvSpPr>
        <p:spPr>
          <a:xfrm>
            <a:off x="762120" y="1554120"/>
            <a:ext cx="23367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46c0a"/>
                </a:solidFill>
                <a:latin typeface="Calibri"/>
              </a:rPr>
              <a:t>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lick here to ad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your text or Cop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Your text and pas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it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TextBox 38"/>
          <p:cNvSpPr/>
          <p:nvPr/>
        </p:nvSpPr>
        <p:spPr>
          <a:xfrm>
            <a:off x="6012000" y="1554120"/>
            <a:ext cx="23367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46c0a"/>
                </a:solidFill>
                <a:latin typeface="Calibri"/>
              </a:rPr>
              <a:t>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lick here to ad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your text or Cop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Your text and pas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it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TextBox 39"/>
          <p:cNvSpPr/>
          <p:nvPr/>
        </p:nvSpPr>
        <p:spPr>
          <a:xfrm>
            <a:off x="3387600" y="3867120"/>
            <a:ext cx="23367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46c0a"/>
                </a:solidFill>
                <a:latin typeface="Calibri"/>
              </a:rPr>
              <a:t>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lick here to ad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your text or Cop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Your text and pas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it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TextBox 40"/>
          <p:cNvSpPr/>
          <p:nvPr/>
        </p:nvSpPr>
        <p:spPr>
          <a:xfrm>
            <a:off x="3376440" y="34920"/>
            <a:ext cx="23371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46c0a"/>
                </a:solidFill>
                <a:latin typeface="Calibri"/>
              </a:rPr>
              <a:t>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lick here to ad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your text or Cop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Your text and pas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it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4" name="组合 24"/>
          <p:cNvGrpSpPr/>
          <p:nvPr/>
        </p:nvGrpSpPr>
        <p:grpSpPr>
          <a:xfrm>
            <a:off x="4835160" y="930240"/>
            <a:ext cx="1234440" cy="1113840"/>
            <a:chOff x="4835160" y="930240"/>
            <a:chExt cx="1234440" cy="1113840"/>
          </a:xfrm>
        </p:grpSpPr>
        <p:pic>
          <p:nvPicPr>
            <p:cNvPr id="895" name="Picture 3" descr=""/>
            <p:cNvPicPr/>
            <p:nvPr/>
          </p:nvPicPr>
          <p:blipFill>
            <a:blip r:embed="rId1"/>
            <a:srcRect l="2775" t="0" r="7215" b="57688"/>
            <a:stretch/>
          </p:blipFill>
          <p:spPr>
            <a:xfrm flipH="1" rot="13318200">
              <a:off x="4633920" y="1473840"/>
              <a:ext cx="1636920" cy="25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96" name="矩形 26"/>
            <p:cNvGrpSpPr/>
            <p:nvPr/>
          </p:nvGrpSpPr>
          <p:grpSpPr>
            <a:xfrm>
              <a:off x="5083200" y="1141920"/>
              <a:ext cx="775080" cy="683640"/>
              <a:chOff x="5083200" y="1141920"/>
              <a:chExt cx="775080" cy="683640"/>
            </a:xfrm>
          </p:grpSpPr>
          <p:pic>
            <p:nvPicPr>
              <p:cNvPr id="897" name="矩形 26" descr=""/>
              <p:cNvPicPr/>
              <p:nvPr/>
            </p:nvPicPr>
            <p:blipFill>
              <a:blip r:embed="rId2"/>
              <a:stretch/>
            </p:blipFill>
            <p:spPr>
              <a:xfrm>
                <a:off x="5083200" y="1403280"/>
                <a:ext cx="775080" cy="16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98" name="Text Box 21"/>
              <p:cNvSpPr/>
              <p:nvPr/>
            </p:nvSpPr>
            <p:spPr>
              <a:xfrm rot="13317600">
                <a:off x="4960800" y="1482120"/>
                <a:ext cx="1018800" cy="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99" name="组合 34"/>
          <p:cNvGrpSpPr/>
          <p:nvPr/>
        </p:nvGrpSpPr>
        <p:grpSpPr>
          <a:xfrm>
            <a:off x="3094200" y="913680"/>
            <a:ext cx="1234440" cy="1114200"/>
            <a:chOff x="3094200" y="913680"/>
            <a:chExt cx="1234440" cy="1114200"/>
          </a:xfrm>
        </p:grpSpPr>
        <p:pic>
          <p:nvPicPr>
            <p:cNvPr id="900" name="Picture 3" descr=""/>
            <p:cNvPicPr/>
            <p:nvPr/>
          </p:nvPicPr>
          <p:blipFill>
            <a:blip r:embed="rId3"/>
            <a:srcRect l="2775" t="0" r="7215" b="57688"/>
            <a:stretch/>
          </p:blipFill>
          <p:spPr>
            <a:xfrm rot="8281800">
              <a:off x="2892960" y="1457640"/>
              <a:ext cx="1636920" cy="25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01" name="矩形 36"/>
            <p:cNvGrpSpPr/>
            <p:nvPr/>
          </p:nvGrpSpPr>
          <p:grpSpPr>
            <a:xfrm>
              <a:off x="3300480" y="1125000"/>
              <a:ext cx="784440" cy="687960"/>
              <a:chOff x="3300480" y="1125000"/>
              <a:chExt cx="784440" cy="687960"/>
            </a:xfrm>
          </p:grpSpPr>
          <p:pic>
            <p:nvPicPr>
              <p:cNvPr id="902" name="矩形 36" descr=""/>
              <p:cNvPicPr/>
              <p:nvPr/>
            </p:nvPicPr>
            <p:blipFill>
              <a:blip r:embed="rId4"/>
              <a:stretch/>
            </p:blipFill>
            <p:spPr>
              <a:xfrm>
                <a:off x="3300480" y="1388880"/>
                <a:ext cx="784440" cy="16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03" name="Text Box 26"/>
              <p:cNvSpPr/>
              <p:nvPr/>
            </p:nvSpPr>
            <p:spPr>
              <a:xfrm rot="8281200">
                <a:off x="3179520" y="1467360"/>
                <a:ext cx="1024920" cy="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04" name="组合 41"/>
          <p:cNvGrpSpPr/>
          <p:nvPr/>
        </p:nvGrpSpPr>
        <p:grpSpPr>
          <a:xfrm>
            <a:off x="4859640" y="2874600"/>
            <a:ext cx="1234080" cy="1113840"/>
            <a:chOff x="4859640" y="2874600"/>
            <a:chExt cx="1234080" cy="1113840"/>
          </a:xfrm>
        </p:grpSpPr>
        <p:pic>
          <p:nvPicPr>
            <p:cNvPr id="905" name="Picture 3" descr=""/>
            <p:cNvPicPr/>
            <p:nvPr/>
          </p:nvPicPr>
          <p:blipFill>
            <a:blip r:embed="rId5"/>
            <a:srcRect l="2775" t="0" r="7215" b="57688"/>
            <a:stretch/>
          </p:blipFill>
          <p:spPr>
            <a:xfrm rot="19081800">
              <a:off x="4658400" y="3418200"/>
              <a:ext cx="1636560" cy="25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06" name="矩形 43"/>
            <p:cNvGrpSpPr/>
            <p:nvPr/>
          </p:nvGrpSpPr>
          <p:grpSpPr>
            <a:xfrm>
              <a:off x="5110560" y="3089880"/>
              <a:ext cx="775080" cy="683640"/>
              <a:chOff x="5110560" y="3089880"/>
              <a:chExt cx="775080" cy="683640"/>
            </a:xfrm>
          </p:grpSpPr>
          <p:pic>
            <p:nvPicPr>
              <p:cNvPr id="907" name="矩形 43" descr=""/>
              <p:cNvPicPr/>
              <p:nvPr/>
            </p:nvPicPr>
            <p:blipFill>
              <a:blip r:embed="rId6"/>
              <a:stretch/>
            </p:blipFill>
            <p:spPr>
              <a:xfrm rot="21599400">
                <a:off x="5110560" y="3350160"/>
                <a:ext cx="775080" cy="16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08" name="Text Box 31"/>
              <p:cNvSpPr/>
              <p:nvPr/>
            </p:nvSpPr>
            <p:spPr>
              <a:xfrm rot="19081200">
                <a:off x="4988160" y="3429720"/>
                <a:ext cx="1018440" cy="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09" name="组合 44"/>
          <p:cNvGrpSpPr/>
          <p:nvPr/>
        </p:nvGrpSpPr>
        <p:grpSpPr>
          <a:xfrm>
            <a:off x="3037680" y="2853720"/>
            <a:ext cx="1233360" cy="1113120"/>
            <a:chOff x="3037680" y="2853720"/>
            <a:chExt cx="1233360" cy="1113120"/>
          </a:xfrm>
        </p:grpSpPr>
        <p:pic>
          <p:nvPicPr>
            <p:cNvPr id="910" name="Picture 3" descr=""/>
            <p:cNvPicPr/>
            <p:nvPr/>
          </p:nvPicPr>
          <p:blipFill>
            <a:blip r:embed="rId7"/>
            <a:srcRect l="2775" t="0" r="7215" b="57688"/>
            <a:stretch/>
          </p:blipFill>
          <p:spPr>
            <a:xfrm flipH="1" rot="2518200">
              <a:off x="2836800" y="3396960"/>
              <a:ext cx="1635120" cy="26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11" name="矩形 46"/>
            <p:cNvGrpSpPr/>
            <p:nvPr/>
          </p:nvGrpSpPr>
          <p:grpSpPr>
            <a:xfrm>
              <a:off x="3249720" y="3070800"/>
              <a:ext cx="774000" cy="682200"/>
              <a:chOff x="3249720" y="3070800"/>
              <a:chExt cx="774000" cy="682200"/>
            </a:xfrm>
          </p:grpSpPr>
          <p:pic>
            <p:nvPicPr>
              <p:cNvPr id="912" name="矩形 46" descr=""/>
              <p:cNvPicPr/>
              <p:nvPr/>
            </p:nvPicPr>
            <p:blipFill>
              <a:blip r:embed="rId8"/>
              <a:stretch/>
            </p:blipFill>
            <p:spPr>
              <a:xfrm>
                <a:off x="3249720" y="3330360"/>
                <a:ext cx="774000" cy="163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13" name="Text Box 36"/>
              <p:cNvSpPr/>
              <p:nvPr/>
            </p:nvSpPr>
            <p:spPr>
              <a:xfrm rot="2518200">
                <a:off x="3127320" y="3410280"/>
                <a:ext cx="1017000" cy="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矩形 3"/>
          <p:cNvSpPr/>
          <p:nvPr/>
        </p:nvSpPr>
        <p:spPr>
          <a:xfrm rot="5400000">
            <a:off x="-2310840" y="2310480"/>
            <a:ext cx="5143680" cy="522360"/>
          </a:xfrm>
          <a:prstGeom prst="rect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Click to add 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5" name="组合 6" descr=""/>
          <p:cNvPicPr/>
          <p:nvPr/>
        </p:nvPicPr>
        <p:blipFill>
          <a:blip r:embed="rId1"/>
          <a:stretch/>
        </p:blipFill>
        <p:spPr>
          <a:xfrm>
            <a:off x="560520" y="-4680"/>
            <a:ext cx="2536560" cy="5156280"/>
          </a:xfrm>
          <a:prstGeom prst="rect">
            <a:avLst/>
          </a:prstGeom>
          <a:ln w="0">
            <a:noFill/>
          </a:ln>
        </p:spPr>
      </p:pic>
      <p:sp>
        <p:nvSpPr>
          <p:cNvPr id="916" name="椭圆 8"/>
          <p:cNvSpPr/>
          <p:nvPr/>
        </p:nvSpPr>
        <p:spPr>
          <a:xfrm>
            <a:off x="2246400" y="309600"/>
            <a:ext cx="1120680" cy="11048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95959"/>
                </a:solidFill>
                <a:latin typeface="Agency FB"/>
                <a:ea typeface="Arial Unicode MS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7" name="组合 18"/>
          <p:cNvGrpSpPr/>
          <p:nvPr/>
        </p:nvGrpSpPr>
        <p:grpSpPr>
          <a:xfrm>
            <a:off x="522360" y="555480"/>
            <a:ext cx="1727280" cy="549360"/>
            <a:chOff x="522360" y="555480"/>
            <a:chExt cx="1727280" cy="549360"/>
          </a:xfrm>
        </p:grpSpPr>
        <p:sp>
          <p:nvSpPr>
            <p:cNvPr id="918" name="矩形 15"/>
            <p:cNvSpPr/>
            <p:nvPr/>
          </p:nvSpPr>
          <p:spPr>
            <a:xfrm>
              <a:off x="522360" y="555480"/>
              <a:ext cx="1727280" cy="45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矩形 16"/>
            <p:cNvSpPr/>
            <p:nvPr/>
          </p:nvSpPr>
          <p:spPr>
            <a:xfrm>
              <a:off x="522360" y="809640"/>
              <a:ext cx="1727280" cy="45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矩形 17"/>
            <p:cNvSpPr/>
            <p:nvPr/>
          </p:nvSpPr>
          <p:spPr>
            <a:xfrm>
              <a:off x="522360" y="1059480"/>
              <a:ext cx="1727280" cy="45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1" name="同心圆 9"/>
          <p:cNvSpPr/>
          <p:nvPr/>
        </p:nvSpPr>
        <p:spPr>
          <a:xfrm rot="10800000">
            <a:off x="2095200" y="158040"/>
            <a:ext cx="1423800" cy="1405080"/>
          </a:xfrm>
          <a:custGeom>
            <a:avLst/>
            <a:gdLst>
              <a:gd name="textAreaLeft" fmla="*/ 208440 w 1423800"/>
              <a:gd name="textAreaRight" fmla="*/ 1215360 w 1423800"/>
              <a:gd name="textAreaTop" fmla="*/ 205560 h 1405080"/>
              <a:gd name="textAreaBottom" fmla="*/ 1199520 h 1405080"/>
            </a:gdLst>
            <a:ahLst/>
            <a:rect l="textAreaLeft" t="textAreaTop" r="textAreaRight" b="textAreaBottom"/>
            <a:pathLst>
              <a:path w="1423818" h="1404156">
                <a:moveTo>
                  <a:pt x="0" y="702078"/>
                </a:moveTo>
                <a:lnTo>
                  <a:pt x="0" y="702078"/>
                </a:lnTo>
                <a:cubicBezTo>
                  <a:pt x="0" y="314331"/>
                  <a:pt x="318732" y="1"/>
                  <a:pt x="711909" y="1"/>
                </a:cubicBezTo>
                <a:cubicBezTo>
                  <a:pt x="711909" y="1"/>
                  <a:pt x="711909" y="1"/>
                  <a:pt x="711910" y="1"/>
                </a:cubicBezTo>
                <a:cubicBezTo>
                  <a:pt x="1105086" y="1"/>
                  <a:pt x="1423818" y="314332"/>
                  <a:pt x="1423818" y="702079"/>
                </a:cubicBezTo>
                <a:cubicBezTo>
                  <a:pt x="1423818" y="702079"/>
                  <a:pt x="1423817" y="702079"/>
                  <a:pt x="1423817" y="702080"/>
                </a:cubicBezTo>
                <a:lnTo>
                  <a:pt x="1423818" y="702080"/>
                </a:lnTo>
                <a:cubicBezTo>
                  <a:pt x="1423818" y="1089826"/>
                  <a:pt x="1105085" y="1404158"/>
                  <a:pt x="711909" y="1404158"/>
                </a:cubicBezTo>
                <a:cubicBezTo>
                  <a:pt x="318732" y="1404158"/>
                  <a:pt x="0" y="1089826"/>
                  <a:pt x="0" y="702080"/>
                </a:cubicBezTo>
                <a:cubicBezTo>
                  <a:pt x="0" y="702079"/>
                  <a:pt x="0" y="702079"/>
                  <a:pt x="0" y="702079"/>
                </a:cubicBezTo>
                <a:lnTo>
                  <a:pt x="0" y="702078"/>
                </a:lnTo>
                <a:close/>
                <a:moveTo>
                  <a:pt x="194448" y="702078"/>
                </a:moveTo>
                <a:lnTo>
                  <a:pt x="194448" y="702078"/>
                </a:lnTo>
                <a:cubicBezTo>
                  <a:pt x="194448" y="702078"/>
                  <a:pt x="194448" y="702078"/>
                  <a:pt x="194448" y="702078"/>
                </a:cubicBezTo>
                <a:cubicBezTo>
                  <a:pt x="194448" y="982434"/>
                  <a:pt x="426122" y="1209708"/>
                  <a:pt x="711908" y="1209708"/>
                </a:cubicBezTo>
                <a:lnTo>
                  <a:pt x="711908" y="1209709"/>
                </a:lnTo>
                <a:cubicBezTo>
                  <a:pt x="997693" y="1209709"/>
                  <a:pt x="1229369" y="982435"/>
                  <a:pt x="1229369" y="702079"/>
                </a:cubicBezTo>
                <a:cubicBezTo>
                  <a:pt x="1229369" y="421722"/>
                  <a:pt x="997693" y="194449"/>
                  <a:pt x="711908" y="194449"/>
                </a:cubicBezTo>
                <a:cubicBezTo>
                  <a:pt x="711907" y="194449"/>
                  <a:pt x="711907" y="194449"/>
                  <a:pt x="711907" y="194449"/>
                </a:cubicBezTo>
                <a:cubicBezTo>
                  <a:pt x="426121" y="194449"/>
                  <a:pt x="194446" y="421722"/>
                  <a:pt x="194446" y="702078"/>
                </a:cubicBezTo>
                <a:lnTo>
                  <a:pt x="194448" y="702078"/>
                </a:lnTo>
                <a:close/>
              </a:path>
            </a:pathLst>
          </a:cu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椭圆 10"/>
          <p:cNvSpPr/>
          <p:nvPr/>
        </p:nvSpPr>
        <p:spPr>
          <a:xfrm>
            <a:off x="1785960" y="1806480"/>
            <a:ext cx="1519200" cy="14986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95959"/>
                </a:solidFill>
                <a:latin typeface="Agency FB"/>
                <a:ea typeface="Arial Unicode MS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3" name="组合 26"/>
          <p:cNvGrpSpPr/>
          <p:nvPr/>
        </p:nvGrpSpPr>
        <p:grpSpPr>
          <a:xfrm>
            <a:off x="522360" y="2281320"/>
            <a:ext cx="1241280" cy="549360"/>
            <a:chOff x="522360" y="2281320"/>
            <a:chExt cx="1241280" cy="549360"/>
          </a:xfrm>
        </p:grpSpPr>
        <p:sp>
          <p:nvSpPr>
            <p:cNvPr id="924" name="矩形 27"/>
            <p:cNvSpPr/>
            <p:nvPr/>
          </p:nvSpPr>
          <p:spPr>
            <a:xfrm>
              <a:off x="522360" y="2281320"/>
              <a:ext cx="1241280" cy="45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矩形 28"/>
            <p:cNvSpPr/>
            <p:nvPr/>
          </p:nvSpPr>
          <p:spPr>
            <a:xfrm>
              <a:off x="522360" y="2535480"/>
              <a:ext cx="1241280" cy="45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矩形 29"/>
            <p:cNvSpPr/>
            <p:nvPr/>
          </p:nvSpPr>
          <p:spPr>
            <a:xfrm>
              <a:off x="522360" y="2785320"/>
              <a:ext cx="1241280" cy="45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7" name="同心圆 11"/>
          <p:cNvSpPr/>
          <p:nvPr/>
        </p:nvSpPr>
        <p:spPr>
          <a:xfrm rot="10800000">
            <a:off x="1579680" y="1603080"/>
            <a:ext cx="1930320" cy="1904760"/>
          </a:xfrm>
          <a:custGeom>
            <a:avLst/>
            <a:gdLst>
              <a:gd name="textAreaLeft" fmla="*/ 282600 w 1930320"/>
              <a:gd name="textAreaRight" fmla="*/ 1647720 w 1930320"/>
              <a:gd name="textAreaTop" fmla="*/ 278640 h 1904760"/>
              <a:gd name="textAreaBottom" fmla="*/ 1626120 h 1904760"/>
            </a:gdLst>
            <a:ahLst/>
            <a:rect l="textAreaLeft" t="textAreaTop" r="textAreaRight" b="textAreaBottom"/>
            <a:pathLst>
              <a:path w="1930620" h="1903959">
                <a:moveTo>
                  <a:pt x="0" y="951980"/>
                </a:moveTo>
                <a:lnTo>
                  <a:pt x="0" y="951980"/>
                </a:lnTo>
                <a:cubicBezTo>
                  <a:pt x="0" y="426216"/>
                  <a:pt x="432184" y="1"/>
                  <a:pt x="965310" y="1"/>
                </a:cubicBezTo>
                <a:cubicBezTo>
                  <a:pt x="965310" y="1"/>
                  <a:pt x="965311" y="1"/>
                  <a:pt x="965311" y="1"/>
                </a:cubicBezTo>
                <a:lnTo>
                  <a:pt x="965312" y="1"/>
                </a:lnTo>
                <a:cubicBezTo>
                  <a:pt x="1498437" y="1"/>
                  <a:pt x="1930621" y="426217"/>
                  <a:pt x="1930621" y="951981"/>
                </a:cubicBezTo>
                <a:cubicBezTo>
                  <a:pt x="1930621" y="951981"/>
                  <a:pt x="1930620" y="951982"/>
                  <a:pt x="1930620" y="951983"/>
                </a:cubicBezTo>
                <a:lnTo>
                  <a:pt x="1930621" y="951983"/>
                </a:lnTo>
                <a:cubicBezTo>
                  <a:pt x="1930621" y="1477747"/>
                  <a:pt x="1498436" y="1903963"/>
                  <a:pt x="965311" y="1903963"/>
                </a:cubicBezTo>
                <a:cubicBezTo>
                  <a:pt x="965310" y="1903963"/>
                  <a:pt x="965310" y="1903962"/>
                  <a:pt x="965310" y="1903962"/>
                </a:cubicBezTo>
                <a:cubicBezTo>
                  <a:pt x="432184" y="1903962"/>
                  <a:pt x="1" y="1477746"/>
                  <a:pt x="1" y="951983"/>
                </a:cubicBezTo>
                <a:cubicBezTo>
                  <a:pt x="1" y="951982"/>
                  <a:pt x="1" y="951982"/>
                  <a:pt x="1" y="951982"/>
                </a:cubicBezTo>
                <a:lnTo>
                  <a:pt x="0" y="951980"/>
                </a:lnTo>
                <a:close/>
                <a:moveTo>
                  <a:pt x="263660" y="951980"/>
                </a:moveTo>
                <a:lnTo>
                  <a:pt x="263660" y="951980"/>
                </a:lnTo>
                <a:cubicBezTo>
                  <a:pt x="263660" y="951980"/>
                  <a:pt x="263660" y="951980"/>
                  <a:pt x="263660" y="951980"/>
                </a:cubicBezTo>
                <a:cubicBezTo>
                  <a:pt x="263660" y="1332128"/>
                  <a:pt x="577798" y="1640299"/>
                  <a:pt x="965309" y="1640299"/>
                </a:cubicBezTo>
                <a:lnTo>
                  <a:pt x="965309" y="1640300"/>
                </a:lnTo>
                <a:cubicBezTo>
                  <a:pt x="1352819" y="1640300"/>
                  <a:pt x="1666959" y="1332129"/>
                  <a:pt x="1666959" y="951981"/>
                </a:cubicBezTo>
                <a:cubicBezTo>
                  <a:pt x="1666959" y="571832"/>
                  <a:pt x="1352819" y="263662"/>
                  <a:pt x="965309" y="263662"/>
                </a:cubicBezTo>
                <a:cubicBezTo>
                  <a:pt x="965308" y="263662"/>
                  <a:pt x="965308" y="263662"/>
                  <a:pt x="965308" y="263662"/>
                </a:cubicBezTo>
                <a:cubicBezTo>
                  <a:pt x="577797" y="263662"/>
                  <a:pt x="263658" y="571832"/>
                  <a:pt x="263658" y="951980"/>
                </a:cubicBezTo>
                <a:lnTo>
                  <a:pt x="263660" y="951980"/>
                </a:lnTo>
                <a:close/>
              </a:path>
            </a:pathLst>
          </a:cu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8" name="组合 30"/>
          <p:cNvGrpSpPr/>
          <p:nvPr/>
        </p:nvGrpSpPr>
        <p:grpSpPr>
          <a:xfrm>
            <a:off x="522360" y="3968640"/>
            <a:ext cx="1727280" cy="549360"/>
            <a:chOff x="522360" y="3968640"/>
            <a:chExt cx="1727280" cy="549360"/>
          </a:xfrm>
        </p:grpSpPr>
        <p:sp>
          <p:nvSpPr>
            <p:cNvPr id="929" name="矩形 31"/>
            <p:cNvSpPr/>
            <p:nvPr/>
          </p:nvSpPr>
          <p:spPr>
            <a:xfrm>
              <a:off x="522360" y="3968640"/>
              <a:ext cx="1727280" cy="45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矩形 32"/>
            <p:cNvSpPr/>
            <p:nvPr/>
          </p:nvSpPr>
          <p:spPr>
            <a:xfrm>
              <a:off x="522360" y="4222800"/>
              <a:ext cx="1727280" cy="45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矩形 33"/>
            <p:cNvSpPr/>
            <p:nvPr/>
          </p:nvSpPr>
          <p:spPr>
            <a:xfrm>
              <a:off x="522360" y="4472640"/>
              <a:ext cx="1727280" cy="45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2" name="同心圆 13"/>
          <p:cNvSpPr/>
          <p:nvPr/>
        </p:nvSpPr>
        <p:spPr>
          <a:xfrm rot="10800000">
            <a:off x="2095200" y="3541320"/>
            <a:ext cx="1423800" cy="1405080"/>
          </a:xfrm>
          <a:custGeom>
            <a:avLst/>
            <a:gdLst>
              <a:gd name="textAreaLeft" fmla="*/ 208440 w 1423800"/>
              <a:gd name="textAreaRight" fmla="*/ 1215360 w 1423800"/>
              <a:gd name="textAreaTop" fmla="*/ 205560 h 1405080"/>
              <a:gd name="textAreaBottom" fmla="*/ 1199520 h 1405080"/>
            </a:gdLst>
            <a:ahLst/>
            <a:rect l="textAreaLeft" t="textAreaTop" r="textAreaRight" b="textAreaBottom"/>
            <a:pathLst>
              <a:path w="1423818" h="1404156">
                <a:moveTo>
                  <a:pt x="0" y="702078"/>
                </a:moveTo>
                <a:lnTo>
                  <a:pt x="0" y="702078"/>
                </a:lnTo>
                <a:cubicBezTo>
                  <a:pt x="0" y="314331"/>
                  <a:pt x="318732" y="1"/>
                  <a:pt x="711909" y="1"/>
                </a:cubicBezTo>
                <a:cubicBezTo>
                  <a:pt x="711909" y="1"/>
                  <a:pt x="711909" y="1"/>
                  <a:pt x="711910" y="1"/>
                </a:cubicBezTo>
                <a:cubicBezTo>
                  <a:pt x="1105086" y="1"/>
                  <a:pt x="1423818" y="314332"/>
                  <a:pt x="1423818" y="702079"/>
                </a:cubicBezTo>
                <a:cubicBezTo>
                  <a:pt x="1423818" y="702079"/>
                  <a:pt x="1423817" y="702079"/>
                  <a:pt x="1423817" y="702080"/>
                </a:cubicBezTo>
                <a:lnTo>
                  <a:pt x="1423818" y="702080"/>
                </a:lnTo>
                <a:cubicBezTo>
                  <a:pt x="1423818" y="1089826"/>
                  <a:pt x="1105085" y="1404158"/>
                  <a:pt x="711909" y="1404158"/>
                </a:cubicBezTo>
                <a:cubicBezTo>
                  <a:pt x="318732" y="1404158"/>
                  <a:pt x="0" y="1089826"/>
                  <a:pt x="0" y="702080"/>
                </a:cubicBezTo>
                <a:cubicBezTo>
                  <a:pt x="0" y="702079"/>
                  <a:pt x="0" y="702079"/>
                  <a:pt x="0" y="702079"/>
                </a:cubicBezTo>
                <a:lnTo>
                  <a:pt x="0" y="702078"/>
                </a:lnTo>
                <a:close/>
                <a:moveTo>
                  <a:pt x="194448" y="702078"/>
                </a:moveTo>
                <a:lnTo>
                  <a:pt x="194448" y="702078"/>
                </a:lnTo>
                <a:cubicBezTo>
                  <a:pt x="194448" y="702078"/>
                  <a:pt x="194448" y="702078"/>
                  <a:pt x="194448" y="702078"/>
                </a:cubicBezTo>
                <a:cubicBezTo>
                  <a:pt x="194448" y="982434"/>
                  <a:pt x="426122" y="1209708"/>
                  <a:pt x="711908" y="1209708"/>
                </a:cubicBezTo>
                <a:lnTo>
                  <a:pt x="711908" y="1209709"/>
                </a:lnTo>
                <a:cubicBezTo>
                  <a:pt x="997693" y="1209709"/>
                  <a:pt x="1229369" y="982435"/>
                  <a:pt x="1229369" y="702079"/>
                </a:cubicBezTo>
                <a:cubicBezTo>
                  <a:pt x="1229369" y="421722"/>
                  <a:pt x="997693" y="194449"/>
                  <a:pt x="711908" y="194449"/>
                </a:cubicBezTo>
                <a:cubicBezTo>
                  <a:pt x="711907" y="194449"/>
                  <a:pt x="711907" y="194449"/>
                  <a:pt x="711907" y="194449"/>
                </a:cubicBezTo>
                <a:cubicBezTo>
                  <a:pt x="426121" y="194449"/>
                  <a:pt x="194446" y="421722"/>
                  <a:pt x="194446" y="702078"/>
                </a:cubicBezTo>
                <a:lnTo>
                  <a:pt x="194448" y="702078"/>
                </a:lnTo>
                <a:close/>
              </a:path>
            </a:pathLst>
          </a:cu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椭圆 14"/>
          <p:cNvSpPr/>
          <p:nvPr/>
        </p:nvSpPr>
        <p:spPr>
          <a:xfrm>
            <a:off x="2246400" y="3691080"/>
            <a:ext cx="1120680" cy="11048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95959"/>
                </a:solidFill>
                <a:latin typeface="Agency FB"/>
                <a:ea typeface="Arial Unicode MS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TextBox 34"/>
          <p:cNvSpPr/>
          <p:nvPr/>
        </p:nvSpPr>
        <p:spPr>
          <a:xfrm>
            <a:off x="4078800" y="233280"/>
            <a:ext cx="2264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46c0a"/>
                </a:solidFill>
                <a:latin typeface="Calibri"/>
              </a:rPr>
              <a:t>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here to add you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or Copy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nd paste i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TextBox 35"/>
          <p:cNvSpPr/>
          <p:nvPr/>
        </p:nvSpPr>
        <p:spPr>
          <a:xfrm>
            <a:off x="4078800" y="1971720"/>
            <a:ext cx="2264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46c0a"/>
                </a:solidFill>
                <a:latin typeface="Calibri"/>
              </a:rPr>
              <a:t>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here to add you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or Copy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nd paste i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TextBox 36"/>
          <p:cNvSpPr/>
          <p:nvPr/>
        </p:nvSpPr>
        <p:spPr>
          <a:xfrm>
            <a:off x="4078800" y="3643200"/>
            <a:ext cx="2264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46c0a"/>
                </a:solidFill>
                <a:latin typeface="Calibri"/>
              </a:rPr>
              <a:t>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here to add you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or Copy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nd paste i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任意多边形 10"/>
          <p:cNvSpPr/>
          <p:nvPr/>
        </p:nvSpPr>
        <p:spPr>
          <a:xfrm>
            <a:off x="4241880" y="2400480"/>
            <a:ext cx="3645000" cy="1800000"/>
          </a:xfrm>
          <a:custGeom>
            <a:avLst/>
            <a:gdLst>
              <a:gd name="textAreaLeft" fmla="*/ 0 w 3645000"/>
              <a:gd name="textAreaRight" fmla="*/ 3645360 w 3645000"/>
              <a:gd name="textAreaTop" fmla="*/ 0 h 1800000"/>
              <a:gd name="textAreaBottom" fmla="*/ 1800360 h 1800000"/>
            </a:gdLst>
            <a:ahLst/>
            <a:rect l="textAreaLeft" t="textAreaTop" r="textAreaRight" b="textAreaBottom"/>
            <a:pathLst>
              <a:path w="3644107" h="1801018">
                <a:moveTo>
                  <a:pt x="1239045" y="468312"/>
                </a:moveTo>
                <a:lnTo>
                  <a:pt x="3606007" y="0"/>
                </a:lnTo>
                <a:lnTo>
                  <a:pt x="3136107" y="571500"/>
                </a:lnTo>
                <a:lnTo>
                  <a:pt x="3644107" y="1092200"/>
                </a:lnTo>
                <a:lnTo>
                  <a:pt x="0" y="1801018"/>
                </a:lnTo>
                <a:lnTo>
                  <a:pt x="1239045" y="468312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f3740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任意多边形 7"/>
          <p:cNvSpPr/>
          <p:nvPr/>
        </p:nvSpPr>
        <p:spPr>
          <a:xfrm>
            <a:off x="-11160" y="343080"/>
            <a:ext cx="6043680" cy="4825800"/>
          </a:xfrm>
          <a:custGeom>
            <a:avLst/>
            <a:gdLst>
              <a:gd name="textAreaLeft" fmla="*/ 0 w 6043680"/>
              <a:gd name="textAreaRight" fmla="*/ 6044040 w 6043680"/>
              <a:gd name="textAreaTop" fmla="*/ 0 h 4825800"/>
              <a:gd name="textAreaBottom" fmla="*/ 4826160 h 4825800"/>
            </a:gdLst>
            <a:ahLst/>
            <a:rect l="textAreaLeft" t="textAreaTop" r="textAreaRight" b="textAreaBottom"/>
            <a:pathLst>
              <a:path w="6045200" h="4826000">
                <a:moveTo>
                  <a:pt x="0" y="0"/>
                </a:moveTo>
                <a:lnTo>
                  <a:pt x="0" y="4826000"/>
                </a:lnTo>
                <a:lnTo>
                  <a:pt x="5168900" y="3111500"/>
                </a:lnTo>
                <a:lnTo>
                  <a:pt x="6045200" y="1536700"/>
                </a:lnTo>
                <a:lnTo>
                  <a:pt x="0" y="0"/>
                </a:lnTo>
                <a:close/>
              </a:path>
            </a:pathLst>
          </a:cu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燕尾形 4"/>
          <p:cNvSpPr/>
          <p:nvPr/>
        </p:nvSpPr>
        <p:spPr>
          <a:xfrm flipV="1" rot="12028800">
            <a:off x="-768240" y="63360"/>
            <a:ext cx="3338280" cy="865440"/>
          </a:xfrm>
          <a:custGeom>
            <a:avLst/>
            <a:gdLst>
              <a:gd name="textAreaLeft" fmla="*/ 0 w 3338280"/>
              <a:gd name="textAreaRight" fmla="*/ 3338640 w 3338280"/>
              <a:gd name="textAreaTop" fmla="*/ 360 h 865440"/>
              <a:gd name="textAreaBottom" fmla="*/ 866160 h 865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805" y="0"/>
                </a:lnTo>
                <a:lnTo>
                  <a:pt x="21600" y="10800"/>
                </a:lnTo>
                <a:lnTo>
                  <a:pt x="18805" y="21600"/>
                </a:lnTo>
                <a:lnTo>
                  <a:pt x="0" y="21600"/>
                </a:lnTo>
                <a:lnTo>
                  <a:pt x="2795" y="10800"/>
                </a:ln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Click to add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任意多边形 9"/>
          <p:cNvSpPr/>
          <p:nvPr/>
        </p:nvSpPr>
        <p:spPr>
          <a:xfrm>
            <a:off x="4238640" y="3457440"/>
            <a:ext cx="905040" cy="743040"/>
          </a:xfrm>
          <a:custGeom>
            <a:avLst/>
            <a:gdLst>
              <a:gd name="textAreaLeft" fmla="*/ 0 w 905040"/>
              <a:gd name="textAreaRight" fmla="*/ 905400 w 905040"/>
              <a:gd name="textAreaTop" fmla="*/ 0 h 743040"/>
              <a:gd name="textAreaBottom" fmla="*/ 743400 h 743040"/>
            </a:gdLst>
            <a:ahLst/>
            <a:rect l="textAreaLeft" t="textAreaTop" r="textAreaRight" b="textAreaBottom"/>
            <a:pathLst>
              <a:path w="904875" h="742950">
                <a:moveTo>
                  <a:pt x="904875" y="0"/>
                </a:moveTo>
                <a:lnTo>
                  <a:pt x="0" y="742950"/>
                </a:lnTo>
                <a:lnTo>
                  <a:pt x="85725" y="266700"/>
                </a:lnTo>
                <a:lnTo>
                  <a:pt x="904875" y="0"/>
                </a:lnTo>
                <a:close/>
              </a:path>
            </a:pathLst>
          </a:custGeom>
          <a:gradFill rotWithShape="0">
            <a:gsLst>
              <a:gs pos="0">
                <a:srgbClr val="d26409"/>
              </a:gs>
              <a:gs pos="100000">
                <a:srgbClr val="636363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TextBox 12"/>
          <p:cNvSpPr/>
          <p:nvPr/>
        </p:nvSpPr>
        <p:spPr>
          <a:xfrm>
            <a:off x="190080" y="1708200"/>
            <a:ext cx="22640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lick here to add you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ext or Copy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nd paste i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lick here to add you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ext or Copy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nd paste i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TextBox 13"/>
          <p:cNvSpPr/>
          <p:nvPr/>
        </p:nvSpPr>
        <p:spPr>
          <a:xfrm>
            <a:off x="2417400" y="1708200"/>
            <a:ext cx="2264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lick here to add you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ext or Copy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nd paste i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lick here to add you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ext or Copy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nd paste i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矩形 9"/>
          <p:cNvSpPr/>
          <p:nvPr/>
        </p:nvSpPr>
        <p:spPr>
          <a:xfrm rot="20312400">
            <a:off x="-1166400" y="1953720"/>
            <a:ext cx="1581120" cy="1008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矩形 10"/>
          <p:cNvSpPr/>
          <p:nvPr/>
        </p:nvSpPr>
        <p:spPr>
          <a:xfrm rot="20312400">
            <a:off x="-806040" y="2895480"/>
            <a:ext cx="1579680" cy="1008360"/>
          </a:xfrm>
          <a:prstGeom prst="rect">
            <a:avLst/>
          </a:prstGeom>
          <a:solidFill>
            <a:srgbClr val="d09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矩形 11"/>
          <p:cNvSpPr/>
          <p:nvPr/>
        </p:nvSpPr>
        <p:spPr>
          <a:xfrm rot="20312400">
            <a:off x="-439200" y="3831840"/>
            <a:ext cx="1579320" cy="1008000"/>
          </a:xfrm>
          <a:prstGeom prst="rect">
            <a:avLst/>
          </a:prstGeom>
          <a:solidFill>
            <a:srgbClr val="9e7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矩形 4"/>
          <p:cNvSpPr/>
          <p:nvPr/>
        </p:nvSpPr>
        <p:spPr>
          <a:xfrm rot="20312400">
            <a:off x="1765080" y="-347760"/>
            <a:ext cx="7451640" cy="10065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矩形 5"/>
          <p:cNvSpPr/>
          <p:nvPr/>
        </p:nvSpPr>
        <p:spPr>
          <a:xfrm rot="20312400">
            <a:off x="2125800" y="591840"/>
            <a:ext cx="7451640" cy="1009440"/>
          </a:xfrm>
          <a:prstGeom prst="rect">
            <a:avLst/>
          </a:prstGeom>
          <a:solidFill>
            <a:srgbClr val="d09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矩形 6"/>
          <p:cNvSpPr/>
          <p:nvPr/>
        </p:nvSpPr>
        <p:spPr>
          <a:xfrm rot="20312400">
            <a:off x="2490480" y="1528560"/>
            <a:ext cx="7453440" cy="1008000"/>
          </a:xfrm>
          <a:prstGeom prst="rect">
            <a:avLst/>
          </a:prstGeom>
          <a:solidFill>
            <a:srgbClr val="9e7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矩形 7"/>
          <p:cNvSpPr/>
          <p:nvPr/>
        </p:nvSpPr>
        <p:spPr>
          <a:xfrm rot="20312400">
            <a:off x="2850840" y="2461680"/>
            <a:ext cx="7453440" cy="1008360"/>
          </a:xfrm>
          <a:prstGeom prst="rect">
            <a:avLst/>
          </a:prstGeom>
          <a:solidFill>
            <a:srgbClr val="644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矩形 3"/>
          <p:cNvSpPr/>
          <p:nvPr/>
        </p:nvSpPr>
        <p:spPr>
          <a:xfrm rot="20330400">
            <a:off x="572760" y="-1068120"/>
            <a:ext cx="1800360" cy="7307280"/>
          </a:xfrm>
          <a:prstGeom prst="rect">
            <a:avLst/>
          </a:prstGeom>
          <a:solidFill>
            <a:srgbClr val="e46c0a"/>
          </a:solidFill>
          <a:ln w="0">
            <a:noFill/>
          </a:ln>
          <a:effectLst>
            <a:outerShdw dist="15375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矩形 12"/>
          <p:cNvSpPr/>
          <p:nvPr/>
        </p:nvSpPr>
        <p:spPr>
          <a:xfrm rot="20312400">
            <a:off x="-78840" y="4765320"/>
            <a:ext cx="1579320" cy="1008000"/>
          </a:xfrm>
          <a:prstGeom prst="rect">
            <a:avLst/>
          </a:prstGeom>
          <a:solidFill>
            <a:srgbClr val="644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流程图: 库存数据 13"/>
          <p:cNvSpPr/>
          <p:nvPr/>
        </p:nvSpPr>
        <p:spPr>
          <a:xfrm rot="4147200">
            <a:off x="581400" y="870480"/>
            <a:ext cx="1179360" cy="1816200"/>
          </a:xfrm>
          <a:prstGeom prst="flowChartOnlineStorag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流程图: 库存数据 14"/>
          <p:cNvSpPr/>
          <p:nvPr/>
        </p:nvSpPr>
        <p:spPr>
          <a:xfrm rot="4147200">
            <a:off x="934200" y="1788120"/>
            <a:ext cx="1185840" cy="1822320"/>
          </a:xfrm>
          <a:prstGeom prst="flowChartOnlineStorage">
            <a:avLst/>
          </a:prstGeom>
          <a:solidFill>
            <a:srgbClr val="d09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流程图: 库存数据 15"/>
          <p:cNvSpPr/>
          <p:nvPr/>
        </p:nvSpPr>
        <p:spPr>
          <a:xfrm rot="4147200">
            <a:off x="1280160" y="2707200"/>
            <a:ext cx="1198800" cy="1815840"/>
          </a:xfrm>
          <a:prstGeom prst="flowChartOnlineStorage">
            <a:avLst/>
          </a:prstGeom>
          <a:solidFill>
            <a:srgbClr val="9e7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流程图: 库存数据 16"/>
          <p:cNvSpPr/>
          <p:nvPr/>
        </p:nvSpPr>
        <p:spPr>
          <a:xfrm rot="4147200">
            <a:off x="1612440" y="3657600"/>
            <a:ext cx="1257480" cy="1809720"/>
          </a:xfrm>
          <a:prstGeom prst="flowChartOnlineStorage">
            <a:avLst/>
          </a:prstGeom>
          <a:solidFill>
            <a:srgbClr val="644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6" name="矩形 17"/>
          <p:cNvGrpSpPr/>
          <p:nvPr/>
        </p:nvGrpSpPr>
        <p:grpSpPr>
          <a:xfrm>
            <a:off x="-773280" y="-765720"/>
            <a:ext cx="3571920" cy="7064640"/>
            <a:chOff x="-773280" y="-765720"/>
            <a:chExt cx="3571920" cy="7064640"/>
          </a:xfrm>
        </p:grpSpPr>
        <p:pic>
          <p:nvPicPr>
            <p:cNvPr id="957" name="矩形 17" descr=""/>
            <p:cNvPicPr/>
            <p:nvPr/>
          </p:nvPicPr>
          <p:blipFill>
            <a:blip r:embed="rId1"/>
            <a:stretch/>
          </p:blipFill>
          <p:spPr>
            <a:xfrm>
              <a:off x="-773280" y="-765720"/>
              <a:ext cx="3571920" cy="706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8" name="Text Box 17"/>
            <p:cNvSpPr/>
            <p:nvPr/>
          </p:nvSpPr>
          <p:spPr>
            <a:xfrm rot="20330400">
              <a:off x="515160" y="-826560"/>
              <a:ext cx="991440" cy="718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9" name="矩形 18"/>
          <p:cNvGrpSpPr/>
          <p:nvPr/>
        </p:nvGrpSpPr>
        <p:grpSpPr>
          <a:xfrm>
            <a:off x="633240" y="-1050480"/>
            <a:ext cx="3116160" cy="6722280"/>
            <a:chOff x="633240" y="-1050480"/>
            <a:chExt cx="3116160" cy="6722280"/>
          </a:xfrm>
        </p:grpSpPr>
        <p:pic>
          <p:nvPicPr>
            <p:cNvPr id="960" name="矩形 18" descr=""/>
            <p:cNvPicPr/>
            <p:nvPr/>
          </p:nvPicPr>
          <p:blipFill>
            <a:blip r:embed="rId2"/>
            <a:stretch/>
          </p:blipFill>
          <p:spPr>
            <a:xfrm>
              <a:off x="633240" y="-1050480"/>
              <a:ext cx="3116160" cy="672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1" name="Text Box 20"/>
            <p:cNvSpPr/>
            <p:nvPr/>
          </p:nvSpPr>
          <p:spPr>
            <a:xfrm rot="20330400">
              <a:off x="1941480" y="-1193760"/>
              <a:ext cx="496800" cy="700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2" name="矩形 19"/>
          <p:cNvSpPr/>
          <p:nvPr/>
        </p:nvSpPr>
        <p:spPr>
          <a:xfrm>
            <a:off x="5665680" y="4314960"/>
            <a:ext cx="291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lick to add 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矩形 20"/>
          <p:cNvSpPr/>
          <p:nvPr/>
        </p:nvSpPr>
        <p:spPr>
          <a:xfrm rot="20466600">
            <a:off x="555840" y="1386000"/>
            <a:ext cx="125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Title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矩形 21"/>
          <p:cNvSpPr/>
          <p:nvPr/>
        </p:nvSpPr>
        <p:spPr>
          <a:xfrm rot="20466600">
            <a:off x="908280" y="2330280"/>
            <a:ext cx="125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Title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矩形 22"/>
          <p:cNvSpPr/>
          <p:nvPr/>
        </p:nvSpPr>
        <p:spPr>
          <a:xfrm rot="20466600">
            <a:off x="1260720" y="3232080"/>
            <a:ext cx="125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Title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矩形 23"/>
          <p:cNvSpPr/>
          <p:nvPr/>
        </p:nvSpPr>
        <p:spPr>
          <a:xfrm rot="20466600">
            <a:off x="1613160" y="4176720"/>
            <a:ext cx="125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Title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TextBox 24"/>
          <p:cNvSpPr/>
          <p:nvPr/>
        </p:nvSpPr>
        <p:spPr>
          <a:xfrm rot="20360400">
            <a:off x="2197440" y="569880"/>
            <a:ext cx="344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here to add your 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TextBox 25"/>
          <p:cNvSpPr/>
          <p:nvPr/>
        </p:nvSpPr>
        <p:spPr>
          <a:xfrm rot="20360400">
            <a:off x="2540520" y="1500120"/>
            <a:ext cx="344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here to add your 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TextBox 26"/>
          <p:cNvSpPr/>
          <p:nvPr/>
        </p:nvSpPr>
        <p:spPr>
          <a:xfrm rot="20360400">
            <a:off x="2949120" y="2443320"/>
            <a:ext cx="344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here to add your 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TextBox 27"/>
          <p:cNvSpPr/>
          <p:nvPr/>
        </p:nvSpPr>
        <p:spPr>
          <a:xfrm rot="20360400">
            <a:off x="3286800" y="3386160"/>
            <a:ext cx="344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lick here to add your 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矩形 17"/>
          <p:cNvSpPr/>
          <p:nvPr/>
        </p:nvSpPr>
        <p:spPr>
          <a:xfrm rot="10800000">
            <a:off x="6075000" y="2859120"/>
            <a:ext cx="576360" cy="2284560"/>
          </a:xfrm>
          <a:prstGeom prst="rect">
            <a:avLst/>
          </a:prstGeom>
          <a:gradFill rotWithShape="0">
            <a:gsLst>
              <a:gs pos="0">
                <a:srgbClr val="bfbfbf"/>
              </a:gs>
              <a:gs pos="100000">
                <a:srgbClr val="404040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矩形 18"/>
          <p:cNvSpPr/>
          <p:nvPr/>
        </p:nvSpPr>
        <p:spPr>
          <a:xfrm rot="10800000">
            <a:off x="4427640" y="1491840"/>
            <a:ext cx="576000" cy="3651480"/>
          </a:xfrm>
          <a:prstGeom prst="rect">
            <a:avLst/>
          </a:prstGeom>
          <a:gradFill rotWithShape="0">
            <a:gsLst>
              <a:gs pos="0">
                <a:srgbClr val="e46c0a"/>
              </a:gs>
              <a:gs pos="100000">
                <a:srgbClr val="984807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流程图: 卡片 8"/>
          <p:cNvSpPr/>
          <p:nvPr/>
        </p:nvSpPr>
        <p:spPr>
          <a:xfrm rot="16200000">
            <a:off x="-532080" y="1791000"/>
            <a:ext cx="4159080" cy="576360"/>
          </a:xfrm>
          <a:custGeom>
            <a:avLst/>
            <a:gdLst>
              <a:gd name="textAreaLeft" fmla="*/ 0 w 4159080"/>
              <a:gd name="textAreaRight" fmla="*/ 4159440 w 415908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10000" h="10000">
                <a:moveTo>
                  <a:pt x="0" y="10000"/>
                </a:moveTo>
                <a:lnTo>
                  <a:pt x="2089" y="0"/>
                </a:lnTo>
                <a:lnTo>
                  <a:pt x="10000" y="0"/>
                </a:lnTo>
                <a:lnTo>
                  <a:pt x="10000" y="10000"/>
                </a:lnTo>
                <a:lnTo>
                  <a:pt x="0" y="10000"/>
                </a:lnTo>
                <a:close/>
              </a:path>
            </a:pathLst>
          </a:custGeom>
          <a:gradFill rotWithShape="0">
            <a:gsLst>
              <a:gs pos="0">
                <a:srgbClr val="926f00"/>
              </a:gs>
              <a:gs pos="100000">
                <a:srgbClr val="ffc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矩形 14"/>
          <p:cNvSpPr/>
          <p:nvPr/>
        </p:nvSpPr>
        <p:spPr>
          <a:xfrm>
            <a:off x="1403280" y="0"/>
            <a:ext cx="576360" cy="1708200"/>
          </a:xfrm>
          <a:prstGeom prst="rect">
            <a:avLst/>
          </a:prstGeom>
          <a:gradFill rotWithShape="0">
            <a:gsLst>
              <a:gs pos="0">
                <a:srgbClr val="bfbfbf"/>
              </a:gs>
              <a:gs pos="100000">
                <a:srgbClr val="404040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流程图: 卡片 8"/>
          <p:cNvSpPr/>
          <p:nvPr/>
        </p:nvSpPr>
        <p:spPr>
          <a:xfrm rot="16200000">
            <a:off x="81000" y="313920"/>
            <a:ext cx="1492200" cy="863640"/>
          </a:xfrm>
          <a:custGeom>
            <a:avLst/>
            <a:gdLst>
              <a:gd name="textAreaLeft" fmla="*/ 0 w 1492200"/>
              <a:gd name="textAreaRight" fmla="*/ 1492560 w 1492200"/>
              <a:gd name="textAreaTop" fmla="*/ 0 h 863640"/>
              <a:gd name="textAreaBottom" fmla="*/ 864000 h 863640"/>
            </a:gdLst>
            <a:ahLst/>
            <a:rect l="textAreaLeft" t="textAreaTop" r="textAreaRight" b="textAreaBottom"/>
            <a:pathLst>
              <a:path w="10000" h="10000">
                <a:moveTo>
                  <a:pt x="0" y="10000"/>
                </a:moveTo>
                <a:lnTo>
                  <a:pt x="6671" y="0"/>
                </a:lnTo>
                <a:lnTo>
                  <a:pt x="10000" y="0"/>
                </a:lnTo>
                <a:lnTo>
                  <a:pt x="10000" y="10000"/>
                </a:lnTo>
                <a:lnTo>
                  <a:pt x="0" y="10000"/>
                </a:lnTo>
                <a:close/>
              </a:path>
            </a:pathLst>
          </a:custGeom>
          <a:gradFill rotWithShape="0">
            <a:gsLst>
              <a:gs pos="0">
                <a:srgbClr val="f5801f"/>
              </a:gs>
              <a:gs pos="100000">
                <a:srgbClr val="9e4b0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流程图: 卡片 8"/>
          <p:cNvSpPr/>
          <p:nvPr/>
        </p:nvSpPr>
        <p:spPr>
          <a:xfrm flipV="1" rot="10800000">
            <a:off x="1258920" y="338760"/>
            <a:ext cx="3744720" cy="1152360"/>
          </a:xfrm>
          <a:custGeom>
            <a:avLst/>
            <a:gdLst>
              <a:gd name="textAreaLeft" fmla="*/ 0 w 3744720"/>
              <a:gd name="textAreaRight" fmla="*/ 3745080 w 3744720"/>
              <a:gd name="textAreaTop" fmla="*/ -360 h 1152360"/>
              <a:gd name="textAreaBottom" fmla="*/ 1152360 h 1152360"/>
            </a:gdLst>
            <a:ahLst/>
            <a:rect l="textAreaLeft" t="textAreaTop" r="textAreaRight" b="textAreaBottom"/>
            <a:pathLst>
              <a:path w="10000" h="10037">
                <a:moveTo>
                  <a:pt x="0" y="10037"/>
                </a:moveTo>
                <a:lnTo>
                  <a:pt x="1948" y="0"/>
                </a:lnTo>
                <a:lnTo>
                  <a:pt x="10000" y="37"/>
                </a:lnTo>
                <a:lnTo>
                  <a:pt x="10000" y="10037"/>
                </a:lnTo>
                <a:lnTo>
                  <a:pt x="0" y="10037"/>
                </a:lnTo>
                <a:close/>
              </a:path>
            </a:pathLst>
          </a:custGeom>
          <a:gradFill rotWithShape="0">
            <a:gsLst>
              <a:gs pos="0">
                <a:srgbClr val="f5801f"/>
              </a:gs>
              <a:gs pos="100000">
                <a:srgbClr val="9e4b0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流程图: 卡片 8"/>
          <p:cNvSpPr/>
          <p:nvPr/>
        </p:nvSpPr>
        <p:spPr>
          <a:xfrm flipV="1" rot="10800000">
            <a:off x="1834920" y="3003480"/>
            <a:ext cx="4529160" cy="1155600"/>
          </a:xfrm>
          <a:custGeom>
            <a:avLst/>
            <a:gdLst>
              <a:gd name="textAreaLeft" fmla="*/ 0 w 4529160"/>
              <a:gd name="textAreaRight" fmla="*/ 4529520 w 4529160"/>
              <a:gd name="textAreaTop" fmla="*/ 0 h 1155600"/>
              <a:gd name="textAreaBottom" fmla="*/ 1155600 h 1155600"/>
            </a:gdLst>
            <a:ahLst/>
            <a:rect l="textAreaLeft" t="textAreaTop" r="textAreaRight" b="textAreaBottom"/>
            <a:pathLst>
              <a:path w="10000" h="10037">
                <a:moveTo>
                  <a:pt x="0" y="10037"/>
                </a:moveTo>
                <a:lnTo>
                  <a:pt x="1948" y="0"/>
                </a:lnTo>
                <a:lnTo>
                  <a:pt x="10000" y="37"/>
                </a:lnTo>
                <a:lnTo>
                  <a:pt x="10000" y="10037"/>
                </a:lnTo>
                <a:lnTo>
                  <a:pt x="0" y="10037"/>
                </a:lnTo>
                <a:close/>
              </a:path>
            </a:pathLst>
          </a:custGeom>
          <a:gradFill rotWithShape="0">
            <a:gsLst>
              <a:gs pos="0">
                <a:srgbClr val="926f00"/>
              </a:gs>
              <a:gs pos="100000">
                <a:srgbClr val="ffc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流程图: 数据 16"/>
          <p:cNvSpPr/>
          <p:nvPr/>
        </p:nvSpPr>
        <p:spPr>
          <a:xfrm flipH="1">
            <a:off x="1402560" y="1695600"/>
            <a:ext cx="5256360" cy="1163520"/>
          </a:xfrm>
          <a:custGeom>
            <a:avLst/>
            <a:gdLst>
              <a:gd name="textAreaLeft" fmla="*/ -360 w 5256360"/>
              <a:gd name="textAreaRight" fmla="*/ 5256360 w 5256360"/>
              <a:gd name="textAreaTop" fmla="*/ 0 h 1163520"/>
              <a:gd name="textAreaBottom" fmla="*/ 1163880 h 1163520"/>
            </a:gdLst>
            <a:ahLst/>
            <a:rect l="textAreaLeft" t="textAreaTop" r="textAreaRight" b="textAreaBottom"/>
            <a:pathLst>
              <a:path w="10000" h="10037">
                <a:moveTo>
                  <a:pt x="0" y="10037"/>
                </a:moveTo>
                <a:lnTo>
                  <a:pt x="1118" y="0"/>
                </a:lnTo>
                <a:lnTo>
                  <a:pt x="10000" y="37"/>
                </a:lnTo>
                <a:lnTo>
                  <a:pt x="8797" y="10037"/>
                </a:lnTo>
                <a:lnTo>
                  <a:pt x="0" y="10037"/>
                </a:lnTo>
                <a:close/>
              </a:path>
            </a:pathLst>
          </a:custGeom>
          <a:gradFill rotWithShape="0">
            <a:gsLst>
              <a:gs pos="0">
                <a:srgbClr val="bfbfbf"/>
              </a:gs>
              <a:gs pos="100000">
                <a:srgbClr val="404040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矩形 19"/>
          <p:cNvSpPr/>
          <p:nvPr/>
        </p:nvSpPr>
        <p:spPr>
          <a:xfrm>
            <a:off x="5788080" y="4159080"/>
            <a:ext cx="576360" cy="984600"/>
          </a:xfrm>
          <a:prstGeom prst="rect">
            <a:avLst/>
          </a:prstGeom>
          <a:gradFill rotWithShape="0">
            <a:gsLst>
              <a:gs pos="0">
                <a:srgbClr val="ffc000"/>
              </a:gs>
              <a:gs pos="100000">
                <a:srgbClr val="926f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TextBox 20"/>
          <p:cNvSpPr/>
          <p:nvPr/>
        </p:nvSpPr>
        <p:spPr>
          <a:xfrm>
            <a:off x="1321920" y="500040"/>
            <a:ext cx="77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STE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TextBox 21"/>
          <p:cNvSpPr/>
          <p:nvPr/>
        </p:nvSpPr>
        <p:spPr>
          <a:xfrm>
            <a:off x="2030040" y="1862280"/>
            <a:ext cx="77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STE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TextBox 22"/>
          <p:cNvSpPr/>
          <p:nvPr/>
        </p:nvSpPr>
        <p:spPr>
          <a:xfrm>
            <a:off x="1991880" y="3165480"/>
            <a:ext cx="77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STE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TextBox 23"/>
          <p:cNvSpPr/>
          <p:nvPr/>
        </p:nvSpPr>
        <p:spPr>
          <a:xfrm>
            <a:off x="2279880" y="515880"/>
            <a:ext cx="2027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Click here to add you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text or Copy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and paste it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TextBox 24"/>
          <p:cNvSpPr/>
          <p:nvPr/>
        </p:nvSpPr>
        <p:spPr>
          <a:xfrm>
            <a:off x="3018240" y="1862280"/>
            <a:ext cx="2027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Click here to add you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text or Copy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and paste it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TextBox 25"/>
          <p:cNvSpPr/>
          <p:nvPr/>
        </p:nvSpPr>
        <p:spPr>
          <a:xfrm>
            <a:off x="3038040" y="3170160"/>
            <a:ext cx="2027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Click here to add you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text or Copy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and paste it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6" name="组合 30"/>
          <p:cNvGrpSpPr/>
          <p:nvPr/>
        </p:nvGrpSpPr>
        <p:grpSpPr>
          <a:xfrm>
            <a:off x="8604000" y="271440"/>
            <a:ext cx="207720" cy="457200"/>
            <a:chOff x="8604000" y="271440"/>
            <a:chExt cx="207720" cy="457200"/>
          </a:xfrm>
        </p:grpSpPr>
        <p:sp>
          <p:nvSpPr>
            <p:cNvPr id="987" name="矩形 28"/>
            <p:cNvSpPr/>
            <p:nvPr/>
          </p:nvSpPr>
          <p:spPr>
            <a:xfrm rot="10800000">
              <a:off x="8604000" y="373680"/>
              <a:ext cx="207720" cy="251640"/>
            </a:xfrm>
            <a:prstGeom prst="rect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矩形 27"/>
            <p:cNvSpPr/>
            <p:nvPr/>
          </p:nvSpPr>
          <p:spPr>
            <a:xfrm rot="10800000">
              <a:off x="8604000" y="301680"/>
              <a:ext cx="135720" cy="395640"/>
            </a:xfrm>
            <a:prstGeom prst="rect">
              <a:avLst/>
            </a:prstGeom>
            <a:solidFill>
              <a:srgbClr val="e46c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矩形 26"/>
            <p:cNvSpPr/>
            <p:nvPr/>
          </p:nvSpPr>
          <p:spPr>
            <a:xfrm rot="10800000">
              <a:off x="8604360" y="271440"/>
              <a:ext cx="72000" cy="45720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0" name="TextBox 31"/>
          <p:cNvSpPr/>
          <p:nvPr/>
        </p:nvSpPr>
        <p:spPr>
          <a:xfrm>
            <a:off x="6361920" y="2491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lick to add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饼形 16"/>
          <p:cNvSpPr/>
          <p:nvPr/>
        </p:nvSpPr>
        <p:spPr>
          <a:xfrm flipH="1" flipV="1" rot="18000000">
            <a:off x="5581080" y="3674520"/>
            <a:ext cx="1119240" cy="1030320"/>
          </a:xfrm>
          <a:custGeom>
            <a:avLst/>
            <a:gdLst>
              <a:gd name="textAreaLeft" fmla="*/ 163800 w 1119240"/>
              <a:gd name="textAreaRight" fmla="*/ 955440 w 1119240"/>
              <a:gd name="textAreaTop" fmla="*/ 150840 h 1030320"/>
              <a:gd name="textAreaBottom" fmla="*/ 879480 h 1030320"/>
            </a:gdLst>
            <a:ahLst/>
            <a:rect l="textAreaLeft" t="textAreaTop" r="textAreaRight" b="textAreaBottom"/>
            <a:pathLst>
              <a:path w="1118976" h="1029715">
                <a:moveTo>
                  <a:pt x="295765" y="60785"/>
                </a:moveTo>
                <a:lnTo>
                  <a:pt x="295765" y="60785"/>
                </a:lnTo>
                <a:cubicBezTo>
                  <a:pt x="376904" y="20878"/>
                  <a:pt x="467486" y="0"/>
                  <a:pt x="559488" y="0"/>
                </a:cubicBezTo>
                <a:cubicBezTo>
                  <a:pt x="599059" y="0"/>
                  <a:pt x="638518" y="3863"/>
                  <a:pt x="677204" y="11524"/>
                </a:cubicBezTo>
                <a:lnTo>
                  <a:pt x="559488" y="514858"/>
                </a:lnTo>
                <a:lnTo>
                  <a:pt x="295765" y="60785"/>
                </a:lnTo>
                <a:close/>
              </a:path>
            </a:pathLst>
          </a:custGeom>
          <a:gradFill rotWithShape="0">
            <a:gsLst>
              <a:gs pos="0">
                <a:srgbClr val="0b323c"/>
              </a:gs>
              <a:gs pos="100000">
                <a:srgbClr val="1c5c6d"/>
              </a:gs>
            </a:gsLst>
            <a:lin ang="63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饼形 10"/>
          <p:cNvSpPr/>
          <p:nvPr/>
        </p:nvSpPr>
        <p:spPr>
          <a:xfrm flipH="1" rot="3600000">
            <a:off x="5581080" y="602640"/>
            <a:ext cx="1119240" cy="1030320"/>
          </a:xfrm>
          <a:custGeom>
            <a:avLst/>
            <a:gdLst>
              <a:gd name="textAreaLeft" fmla="*/ 163800 w 1119240"/>
              <a:gd name="textAreaRight" fmla="*/ 955440 w 1119240"/>
              <a:gd name="textAreaTop" fmla="*/ 150840 h 1030320"/>
              <a:gd name="textAreaBottom" fmla="*/ 879480 h 1030320"/>
            </a:gdLst>
            <a:ahLst/>
            <a:rect l="textAreaLeft" t="textAreaTop" r="textAreaRight" b="textAreaBottom"/>
            <a:pathLst>
              <a:path w="1118976" h="1029715">
                <a:moveTo>
                  <a:pt x="295765" y="60785"/>
                </a:moveTo>
                <a:lnTo>
                  <a:pt x="295765" y="60785"/>
                </a:lnTo>
                <a:cubicBezTo>
                  <a:pt x="376904" y="20878"/>
                  <a:pt x="467486" y="0"/>
                  <a:pt x="559488" y="0"/>
                </a:cubicBezTo>
                <a:cubicBezTo>
                  <a:pt x="599059" y="0"/>
                  <a:pt x="638518" y="3863"/>
                  <a:pt x="677204" y="11524"/>
                </a:cubicBezTo>
                <a:lnTo>
                  <a:pt x="559488" y="514858"/>
                </a:lnTo>
                <a:lnTo>
                  <a:pt x="295765" y="60785"/>
                </a:lnTo>
                <a:close/>
              </a:path>
            </a:pathLst>
          </a:custGeom>
          <a:gradFill rotWithShape="0">
            <a:gsLst>
              <a:gs pos="0">
                <a:srgbClr val="8e3b00"/>
              </a:gs>
              <a:gs pos="100000">
                <a:srgbClr val="f46b00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饼形 13"/>
          <p:cNvSpPr/>
          <p:nvPr/>
        </p:nvSpPr>
        <p:spPr>
          <a:xfrm flipV="1" rot="3600000">
            <a:off x="2508840" y="3674520"/>
            <a:ext cx="1119240" cy="1028880"/>
          </a:xfrm>
          <a:custGeom>
            <a:avLst/>
            <a:gdLst>
              <a:gd name="textAreaLeft" fmla="*/ 163800 w 1119240"/>
              <a:gd name="textAreaRight" fmla="*/ 955440 w 1119240"/>
              <a:gd name="textAreaTop" fmla="*/ 150480 h 1028880"/>
              <a:gd name="textAreaBottom" fmla="*/ 878400 h 1028880"/>
            </a:gdLst>
            <a:ahLst/>
            <a:rect l="textAreaLeft" t="textAreaTop" r="textAreaRight" b="textAreaBottom"/>
            <a:pathLst>
              <a:path w="1118976" h="1029715">
                <a:moveTo>
                  <a:pt x="295765" y="60785"/>
                </a:moveTo>
                <a:lnTo>
                  <a:pt x="295765" y="60785"/>
                </a:lnTo>
                <a:cubicBezTo>
                  <a:pt x="376904" y="20878"/>
                  <a:pt x="467486" y="0"/>
                  <a:pt x="559488" y="0"/>
                </a:cubicBezTo>
                <a:cubicBezTo>
                  <a:pt x="599059" y="0"/>
                  <a:pt x="638518" y="3863"/>
                  <a:pt x="677204" y="11524"/>
                </a:cubicBezTo>
                <a:lnTo>
                  <a:pt x="559488" y="514858"/>
                </a:lnTo>
                <a:lnTo>
                  <a:pt x="295765" y="60785"/>
                </a:lnTo>
                <a:close/>
              </a:path>
            </a:pathLst>
          </a:custGeom>
          <a:gradFill rotWithShape="0">
            <a:gsLst>
              <a:gs pos="0">
                <a:srgbClr val="313131"/>
              </a:gs>
              <a:gs pos="100000">
                <a:srgbClr val="595959"/>
              </a:gs>
            </a:gsLst>
            <a:lin ang="63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饼形 6"/>
          <p:cNvSpPr/>
          <p:nvPr/>
        </p:nvSpPr>
        <p:spPr>
          <a:xfrm rot="18000000">
            <a:off x="2508840" y="603360"/>
            <a:ext cx="1119240" cy="1028880"/>
          </a:xfrm>
          <a:custGeom>
            <a:avLst/>
            <a:gdLst>
              <a:gd name="textAreaLeft" fmla="*/ 163800 w 1119240"/>
              <a:gd name="textAreaRight" fmla="*/ 955440 w 1119240"/>
              <a:gd name="textAreaTop" fmla="*/ 150480 h 1028880"/>
              <a:gd name="textAreaBottom" fmla="*/ 878400 h 1028880"/>
            </a:gdLst>
            <a:ahLst/>
            <a:rect l="textAreaLeft" t="textAreaTop" r="textAreaRight" b="textAreaBottom"/>
            <a:pathLst>
              <a:path w="1118976" h="1029715">
                <a:moveTo>
                  <a:pt x="295765" y="60785"/>
                </a:moveTo>
                <a:lnTo>
                  <a:pt x="295765" y="60785"/>
                </a:lnTo>
                <a:cubicBezTo>
                  <a:pt x="376904" y="20878"/>
                  <a:pt x="467486" y="0"/>
                  <a:pt x="559488" y="0"/>
                </a:cubicBezTo>
                <a:cubicBezTo>
                  <a:pt x="599059" y="0"/>
                  <a:pt x="638518" y="3863"/>
                  <a:pt x="677204" y="11524"/>
                </a:cubicBezTo>
                <a:lnTo>
                  <a:pt x="559488" y="514858"/>
                </a:lnTo>
                <a:lnTo>
                  <a:pt x="295765" y="60785"/>
                </a:lnTo>
                <a:close/>
              </a:path>
            </a:pathLst>
          </a:custGeom>
          <a:gradFill rotWithShape="0">
            <a:gsLst>
              <a:gs pos="0">
                <a:srgbClr val="a07400"/>
              </a:gs>
              <a:gs pos="100000">
                <a:srgbClr val="ffca00"/>
              </a:gs>
            </a:gsLst>
            <a:lin ang="63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5" name="Picture 3" descr=""/>
          <p:cNvPicPr/>
          <p:nvPr/>
        </p:nvPicPr>
        <p:blipFill>
          <a:blip r:embed="rId1"/>
          <a:srcRect l="7212" t="0" r="2768" b="57688"/>
          <a:stretch/>
        </p:blipFill>
        <p:spPr>
          <a:xfrm>
            <a:off x="1343160" y="971640"/>
            <a:ext cx="2436840" cy="147600"/>
          </a:xfrm>
          <a:prstGeom prst="rect">
            <a:avLst/>
          </a:prstGeom>
          <a:ln w="0">
            <a:noFill/>
          </a:ln>
        </p:spPr>
      </p:pic>
      <p:pic>
        <p:nvPicPr>
          <p:cNvPr id="996" name="Picture 3" descr=""/>
          <p:cNvPicPr/>
          <p:nvPr/>
        </p:nvPicPr>
        <p:blipFill>
          <a:blip r:embed="rId2"/>
          <a:srcRect l="7212" t="0" r="2768" b="57688"/>
          <a:stretch/>
        </p:blipFill>
        <p:spPr>
          <a:xfrm>
            <a:off x="5440320" y="973080"/>
            <a:ext cx="2436840" cy="147600"/>
          </a:xfrm>
          <a:prstGeom prst="rect">
            <a:avLst/>
          </a:prstGeom>
          <a:ln w="0">
            <a:noFill/>
          </a:ln>
        </p:spPr>
      </p:pic>
      <p:pic>
        <p:nvPicPr>
          <p:cNvPr id="997" name="Picture 3" descr=""/>
          <p:cNvPicPr/>
          <p:nvPr/>
        </p:nvPicPr>
        <p:blipFill>
          <a:blip r:embed="rId3"/>
          <a:srcRect l="7212" t="57688" r="2768" b="0"/>
          <a:stretch/>
        </p:blipFill>
        <p:spPr>
          <a:xfrm>
            <a:off x="5440320" y="4187880"/>
            <a:ext cx="2436840" cy="147600"/>
          </a:xfrm>
          <a:prstGeom prst="rect">
            <a:avLst/>
          </a:prstGeom>
          <a:ln w="0">
            <a:noFill/>
          </a:ln>
        </p:spPr>
      </p:pic>
      <p:pic>
        <p:nvPicPr>
          <p:cNvPr id="998" name="Picture 3" descr=""/>
          <p:cNvPicPr/>
          <p:nvPr/>
        </p:nvPicPr>
        <p:blipFill>
          <a:blip r:embed="rId4"/>
          <a:srcRect l="7212" t="57688" r="2768" b="0"/>
          <a:stretch/>
        </p:blipFill>
        <p:spPr>
          <a:xfrm>
            <a:off x="1333440" y="4187880"/>
            <a:ext cx="2436840" cy="147600"/>
          </a:xfrm>
          <a:prstGeom prst="rect">
            <a:avLst/>
          </a:prstGeom>
          <a:ln w="0">
            <a:noFill/>
          </a:ln>
        </p:spPr>
      </p:pic>
      <p:sp>
        <p:nvSpPr>
          <p:cNvPr id="999" name="TextBox 27"/>
          <p:cNvSpPr/>
          <p:nvPr/>
        </p:nvSpPr>
        <p:spPr>
          <a:xfrm>
            <a:off x="766440" y="1109520"/>
            <a:ext cx="226404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000"/>
                </a:solidFill>
                <a:latin typeface="Calibri"/>
              </a:rPr>
              <a:t>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here to add you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or Copy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nd paste i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右箭头 4"/>
          <p:cNvSpPr/>
          <p:nvPr/>
        </p:nvSpPr>
        <p:spPr>
          <a:xfrm rot="2509800">
            <a:off x="2626920" y="546120"/>
            <a:ext cx="2243160" cy="1455840"/>
          </a:xfrm>
          <a:custGeom>
            <a:avLst/>
            <a:gdLst>
              <a:gd name="textAreaLeft" fmla="*/ 0 w 2243160"/>
              <a:gd name="textAreaRight" fmla="*/ 2243520 w 2243160"/>
              <a:gd name="textAreaTop" fmla="*/ 0 h 1455840"/>
              <a:gd name="textAreaBottom" fmla="*/ 1456200 h 1455840"/>
            </a:gdLst>
            <a:ahLst/>
            <a:rect l="textAreaLeft" t="textAreaTop" r="textAreaRight" b="textAreaBottom"/>
            <a:pathLst>
              <a:path w="2243387" h="1455537">
                <a:moveTo>
                  <a:pt x="767420" y="363884"/>
                </a:moveTo>
                <a:lnTo>
                  <a:pt x="1515619" y="363884"/>
                </a:lnTo>
                <a:lnTo>
                  <a:pt x="1515619" y="0"/>
                </a:lnTo>
                <a:lnTo>
                  <a:pt x="2243387" y="727769"/>
                </a:lnTo>
                <a:lnTo>
                  <a:pt x="1515619" y="1455537"/>
                </a:lnTo>
                <a:lnTo>
                  <a:pt x="1515619" y="1091653"/>
                </a:lnTo>
                <a:lnTo>
                  <a:pt x="0" y="1053186"/>
                </a:lnTo>
                <a:lnTo>
                  <a:pt x="767420" y="363884"/>
                </a:lnTo>
                <a:close/>
              </a:path>
            </a:pathLst>
          </a:custGeom>
          <a:gradFill rotWithShape="0">
            <a:gsLst>
              <a:gs pos="0">
                <a:srgbClr val="a07400"/>
              </a:gs>
              <a:gs pos="100000">
                <a:srgbClr val="ffca00"/>
              </a:gs>
            </a:gsLst>
            <a:lin ang="1909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右箭头 4"/>
          <p:cNvSpPr/>
          <p:nvPr/>
        </p:nvSpPr>
        <p:spPr>
          <a:xfrm flipH="1" rot="19090200">
            <a:off x="4339800" y="546120"/>
            <a:ext cx="2243160" cy="1455840"/>
          </a:xfrm>
          <a:custGeom>
            <a:avLst/>
            <a:gdLst>
              <a:gd name="textAreaLeft" fmla="*/ -360 w 2243160"/>
              <a:gd name="textAreaRight" fmla="*/ 2243160 w 2243160"/>
              <a:gd name="textAreaTop" fmla="*/ 0 h 1455840"/>
              <a:gd name="textAreaBottom" fmla="*/ 1456200 h 1455840"/>
            </a:gdLst>
            <a:ahLst/>
            <a:rect l="textAreaLeft" t="textAreaTop" r="textAreaRight" b="textAreaBottom"/>
            <a:pathLst>
              <a:path w="2243387" h="1455537">
                <a:moveTo>
                  <a:pt x="767420" y="363884"/>
                </a:moveTo>
                <a:lnTo>
                  <a:pt x="1515619" y="363884"/>
                </a:lnTo>
                <a:lnTo>
                  <a:pt x="1515619" y="0"/>
                </a:lnTo>
                <a:lnTo>
                  <a:pt x="2243387" y="727769"/>
                </a:lnTo>
                <a:lnTo>
                  <a:pt x="1515619" y="1455537"/>
                </a:lnTo>
                <a:lnTo>
                  <a:pt x="1515619" y="1091653"/>
                </a:lnTo>
                <a:lnTo>
                  <a:pt x="0" y="1053186"/>
                </a:lnTo>
                <a:lnTo>
                  <a:pt x="767420" y="363884"/>
                </a:lnTo>
                <a:close/>
              </a:path>
            </a:pathLst>
          </a:custGeom>
          <a:gradFill rotWithShape="0">
            <a:gsLst>
              <a:gs pos="0">
                <a:srgbClr val="8e3b00"/>
              </a:gs>
              <a:gs pos="100000">
                <a:srgbClr val="f46b00"/>
              </a:gs>
            </a:gsLst>
            <a:lin ang="1909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右箭头 4"/>
          <p:cNvSpPr/>
          <p:nvPr/>
        </p:nvSpPr>
        <p:spPr>
          <a:xfrm flipV="1" rot="19090200">
            <a:off x="2626920" y="3305880"/>
            <a:ext cx="2243160" cy="1455840"/>
          </a:xfrm>
          <a:custGeom>
            <a:avLst/>
            <a:gdLst>
              <a:gd name="textAreaLeft" fmla="*/ 0 w 2243160"/>
              <a:gd name="textAreaRight" fmla="*/ 2243520 w 2243160"/>
              <a:gd name="textAreaTop" fmla="*/ 360 h 1455840"/>
              <a:gd name="textAreaBottom" fmla="*/ 1456560 h 1455840"/>
            </a:gdLst>
            <a:ahLst/>
            <a:rect l="textAreaLeft" t="textAreaTop" r="textAreaRight" b="textAreaBottom"/>
            <a:pathLst>
              <a:path w="2243387" h="1455537">
                <a:moveTo>
                  <a:pt x="767420" y="363884"/>
                </a:moveTo>
                <a:lnTo>
                  <a:pt x="1515619" y="363884"/>
                </a:lnTo>
                <a:lnTo>
                  <a:pt x="1515619" y="0"/>
                </a:lnTo>
                <a:lnTo>
                  <a:pt x="2243387" y="727769"/>
                </a:lnTo>
                <a:lnTo>
                  <a:pt x="1515619" y="1455537"/>
                </a:lnTo>
                <a:lnTo>
                  <a:pt x="1515619" y="1091653"/>
                </a:lnTo>
                <a:lnTo>
                  <a:pt x="0" y="1053186"/>
                </a:lnTo>
                <a:lnTo>
                  <a:pt x="767420" y="363884"/>
                </a:lnTo>
                <a:close/>
              </a:path>
            </a:pathLst>
          </a:custGeom>
          <a:gradFill rotWithShape="0">
            <a:gsLst>
              <a:gs pos="0">
                <a:srgbClr val="313131"/>
              </a:gs>
              <a:gs pos="100000">
                <a:srgbClr val="595959"/>
              </a:gs>
            </a:gsLst>
            <a:lin ang="1909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右箭头 4"/>
          <p:cNvSpPr/>
          <p:nvPr/>
        </p:nvSpPr>
        <p:spPr>
          <a:xfrm flipH="1" flipV="1" rot="2509800">
            <a:off x="4339800" y="3305880"/>
            <a:ext cx="2243160" cy="1456200"/>
          </a:xfrm>
          <a:custGeom>
            <a:avLst/>
            <a:gdLst>
              <a:gd name="textAreaLeft" fmla="*/ -360 w 2243160"/>
              <a:gd name="textAreaRight" fmla="*/ 2243160 w 2243160"/>
              <a:gd name="textAreaTop" fmla="*/ -360 h 1456200"/>
              <a:gd name="textAreaBottom" fmla="*/ 1456200 h 1456200"/>
            </a:gdLst>
            <a:ahLst/>
            <a:rect l="textAreaLeft" t="textAreaTop" r="textAreaRight" b="textAreaBottom"/>
            <a:pathLst>
              <a:path w="2243387" h="1455537">
                <a:moveTo>
                  <a:pt x="767420" y="363884"/>
                </a:moveTo>
                <a:lnTo>
                  <a:pt x="1515619" y="363884"/>
                </a:lnTo>
                <a:lnTo>
                  <a:pt x="1515619" y="0"/>
                </a:lnTo>
                <a:lnTo>
                  <a:pt x="2243387" y="727769"/>
                </a:lnTo>
                <a:lnTo>
                  <a:pt x="1515619" y="1455537"/>
                </a:lnTo>
                <a:lnTo>
                  <a:pt x="1515619" y="1091653"/>
                </a:lnTo>
                <a:lnTo>
                  <a:pt x="0" y="1053186"/>
                </a:lnTo>
                <a:lnTo>
                  <a:pt x="767420" y="363884"/>
                </a:lnTo>
                <a:close/>
              </a:path>
            </a:pathLst>
          </a:custGeom>
          <a:gradFill rotWithShape="0">
            <a:gsLst>
              <a:gs pos="0">
                <a:srgbClr val="0b323c"/>
              </a:gs>
              <a:gs pos="100000">
                <a:srgbClr val="1c5c6d"/>
              </a:gs>
            </a:gsLst>
            <a:lin ang="1909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直接连接符 22"/>
          <p:cNvSpPr/>
          <p:nvPr/>
        </p:nvSpPr>
        <p:spPr>
          <a:xfrm>
            <a:off x="2881440" y="771480"/>
            <a:ext cx="1336680" cy="1266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直接连接符 24"/>
          <p:cNvSpPr/>
          <p:nvPr/>
        </p:nvSpPr>
        <p:spPr>
          <a:xfrm flipH="1">
            <a:off x="4968360" y="771480"/>
            <a:ext cx="1336680" cy="1266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直接连接符 25"/>
          <p:cNvSpPr/>
          <p:nvPr/>
        </p:nvSpPr>
        <p:spPr>
          <a:xfrm flipV="1">
            <a:off x="2881440" y="3279240"/>
            <a:ext cx="1336680" cy="1266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直接连接符 26"/>
          <p:cNvSpPr/>
          <p:nvPr/>
        </p:nvSpPr>
        <p:spPr>
          <a:xfrm flipH="1" flipV="1">
            <a:off x="4968360" y="3279240"/>
            <a:ext cx="1336680" cy="1266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TextBox 28"/>
          <p:cNvSpPr/>
          <p:nvPr/>
        </p:nvSpPr>
        <p:spPr>
          <a:xfrm>
            <a:off x="6152760" y="1109520"/>
            <a:ext cx="226404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46c0a"/>
                </a:solidFill>
                <a:latin typeface="Calibri"/>
              </a:rPr>
              <a:t>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here to add you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or Copy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nd paste i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TextBox 29"/>
          <p:cNvSpPr/>
          <p:nvPr/>
        </p:nvSpPr>
        <p:spPr>
          <a:xfrm>
            <a:off x="766440" y="2889360"/>
            <a:ext cx="226404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libri"/>
              </a:rPr>
              <a:t>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here to add you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or Copy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nd paste i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TextBox 30"/>
          <p:cNvSpPr/>
          <p:nvPr/>
        </p:nvSpPr>
        <p:spPr>
          <a:xfrm>
            <a:off x="6152760" y="2889360"/>
            <a:ext cx="226404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5968"/>
                </a:solidFill>
                <a:latin typeface="Calibri"/>
              </a:rPr>
              <a:t>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here to add you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or Copy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nd paste i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矩形 31"/>
          <p:cNvSpPr/>
          <p:nvPr/>
        </p:nvSpPr>
        <p:spPr>
          <a:xfrm>
            <a:off x="3208320" y="2386080"/>
            <a:ext cx="291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lick to add 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矩形 6"/>
          <p:cNvSpPr/>
          <p:nvPr/>
        </p:nvSpPr>
        <p:spPr>
          <a:xfrm>
            <a:off x="0" y="1276200"/>
            <a:ext cx="9144000" cy="2519640"/>
          </a:xfrm>
          <a:prstGeom prst="rect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直接连接符 23"/>
          <p:cNvSpPr/>
          <p:nvPr/>
        </p:nvSpPr>
        <p:spPr>
          <a:xfrm>
            <a:off x="47520" y="1703520"/>
            <a:ext cx="90964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直角三角形 14"/>
          <p:cNvSpPr/>
          <p:nvPr/>
        </p:nvSpPr>
        <p:spPr>
          <a:xfrm flipH="1">
            <a:off x="577080" y="895320"/>
            <a:ext cx="392040" cy="380880"/>
          </a:xfrm>
          <a:prstGeom prst="rtTriangle">
            <a:avLst/>
          </a:prstGeom>
          <a:gradFill rotWithShape="0">
            <a:gsLst>
              <a:gs pos="0">
                <a:srgbClr val="a07400"/>
              </a:gs>
              <a:gs pos="100000">
                <a:srgbClr val="ffca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矩形 7"/>
          <p:cNvSpPr/>
          <p:nvPr/>
        </p:nvSpPr>
        <p:spPr>
          <a:xfrm rot="5400000">
            <a:off x="587160" y="1274760"/>
            <a:ext cx="3289320" cy="2520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0">
            <a:noFill/>
          </a:ln>
          <a:effectLst>
            <a:outerShdw dist="15375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矩形 8"/>
          <p:cNvSpPr/>
          <p:nvPr/>
        </p:nvSpPr>
        <p:spPr>
          <a:xfrm>
            <a:off x="6026040" y="4273560"/>
            <a:ext cx="291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lick to add 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直接连接符 10"/>
          <p:cNvSpPr/>
          <p:nvPr/>
        </p:nvSpPr>
        <p:spPr>
          <a:xfrm>
            <a:off x="971640" y="1563840"/>
            <a:ext cx="2520720" cy="0"/>
          </a:xfrm>
          <a:prstGeom prst="line">
            <a:avLst/>
          </a:prstGeom>
          <a:ln w="9360">
            <a:solidFill>
              <a:srgbClr val="40404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直接连接符 11"/>
          <p:cNvSpPr/>
          <p:nvPr/>
        </p:nvSpPr>
        <p:spPr>
          <a:xfrm>
            <a:off x="971640" y="2211480"/>
            <a:ext cx="2520720" cy="0"/>
          </a:xfrm>
          <a:prstGeom prst="line">
            <a:avLst/>
          </a:prstGeom>
          <a:ln w="9360">
            <a:solidFill>
              <a:srgbClr val="40404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直接连接符 12"/>
          <p:cNvSpPr/>
          <p:nvPr/>
        </p:nvSpPr>
        <p:spPr>
          <a:xfrm>
            <a:off x="971640" y="2859120"/>
            <a:ext cx="2520720" cy="0"/>
          </a:xfrm>
          <a:prstGeom prst="line">
            <a:avLst/>
          </a:prstGeom>
          <a:ln w="9360">
            <a:solidFill>
              <a:srgbClr val="40404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直接连接符 13"/>
          <p:cNvSpPr/>
          <p:nvPr/>
        </p:nvSpPr>
        <p:spPr>
          <a:xfrm>
            <a:off x="971640" y="3508200"/>
            <a:ext cx="2520720" cy="0"/>
          </a:xfrm>
          <a:prstGeom prst="line">
            <a:avLst/>
          </a:prstGeom>
          <a:ln w="9360">
            <a:solidFill>
              <a:srgbClr val="40404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直角三角形 15"/>
          <p:cNvSpPr/>
          <p:nvPr/>
        </p:nvSpPr>
        <p:spPr>
          <a:xfrm flipH="1" flipV="1">
            <a:off x="577080" y="3795840"/>
            <a:ext cx="392040" cy="380880"/>
          </a:xfrm>
          <a:prstGeom prst="rtTriangle">
            <a:avLst/>
          </a:prstGeom>
          <a:gradFill rotWithShape="0">
            <a:gsLst>
              <a:gs pos="0">
                <a:srgbClr val="a07400"/>
              </a:gs>
              <a:gs pos="100000">
                <a:srgbClr val="ffca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直角三角形 16"/>
          <p:cNvSpPr/>
          <p:nvPr/>
        </p:nvSpPr>
        <p:spPr>
          <a:xfrm>
            <a:off x="3492360" y="895320"/>
            <a:ext cx="390600" cy="380880"/>
          </a:xfrm>
          <a:prstGeom prst="rtTriangle">
            <a:avLst/>
          </a:prstGeom>
          <a:gradFill rotWithShape="0">
            <a:gsLst>
              <a:gs pos="0">
                <a:srgbClr val="a07400"/>
              </a:gs>
              <a:gs pos="100000">
                <a:srgbClr val="ffca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直角三角形 17"/>
          <p:cNvSpPr/>
          <p:nvPr/>
        </p:nvSpPr>
        <p:spPr>
          <a:xfrm flipV="1">
            <a:off x="3492360" y="3795840"/>
            <a:ext cx="390600" cy="380880"/>
          </a:xfrm>
          <a:prstGeom prst="rtTriangle">
            <a:avLst/>
          </a:prstGeom>
          <a:gradFill rotWithShape="0">
            <a:gsLst>
              <a:gs pos="0">
                <a:srgbClr val="a07400"/>
              </a:gs>
              <a:gs pos="100000">
                <a:srgbClr val="ffca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矩形 18"/>
          <p:cNvSpPr/>
          <p:nvPr/>
        </p:nvSpPr>
        <p:spPr>
          <a:xfrm>
            <a:off x="1283400" y="1076400"/>
            <a:ext cx="1895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</a:rPr>
              <a:t>Click to add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矩形 19"/>
          <p:cNvSpPr/>
          <p:nvPr/>
        </p:nvSpPr>
        <p:spPr>
          <a:xfrm>
            <a:off x="1283400" y="1708200"/>
            <a:ext cx="1895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</a:rPr>
              <a:t>Click to add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矩形 20"/>
          <p:cNvSpPr/>
          <p:nvPr/>
        </p:nvSpPr>
        <p:spPr>
          <a:xfrm>
            <a:off x="1283400" y="2335320"/>
            <a:ext cx="1895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</a:rPr>
              <a:t>Click to add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矩形 21"/>
          <p:cNvSpPr/>
          <p:nvPr/>
        </p:nvSpPr>
        <p:spPr>
          <a:xfrm>
            <a:off x="1283400" y="3003480"/>
            <a:ext cx="1895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</a:rPr>
              <a:t>Click to add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矩形 22"/>
          <p:cNvSpPr/>
          <p:nvPr/>
        </p:nvSpPr>
        <p:spPr>
          <a:xfrm>
            <a:off x="1283400" y="3651120"/>
            <a:ext cx="1895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</a:rPr>
              <a:t>Click to add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矩形 25"/>
          <p:cNvSpPr/>
          <p:nvPr/>
        </p:nvSpPr>
        <p:spPr>
          <a:xfrm>
            <a:off x="4182840" y="1347840"/>
            <a:ext cx="1895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Click to add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TextBox 26"/>
          <p:cNvSpPr/>
          <p:nvPr/>
        </p:nvSpPr>
        <p:spPr>
          <a:xfrm>
            <a:off x="4222440" y="1936800"/>
            <a:ext cx="226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lick here to add you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ext or Copy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nd paste i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矩形 27"/>
          <p:cNvSpPr/>
          <p:nvPr/>
        </p:nvSpPr>
        <p:spPr>
          <a:xfrm>
            <a:off x="3782880" y="1851120"/>
            <a:ext cx="519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TextBox 28"/>
          <p:cNvSpPr/>
          <p:nvPr/>
        </p:nvSpPr>
        <p:spPr>
          <a:xfrm>
            <a:off x="6906960" y="1936800"/>
            <a:ext cx="226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lick here to add you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ext or Copy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nd paste i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矩形 29"/>
          <p:cNvSpPr/>
          <p:nvPr/>
        </p:nvSpPr>
        <p:spPr>
          <a:xfrm>
            <a:off x="6479640" y="1851120"/>
            <a:ext cx="494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4" name="组合 18"/>
          <p:cNvGrpSpPr/>
          <p:nvPr/>
        </p:nvGrpSpPr>
        <p:grpSpPr>
          <a:xfrm>
            <a:off x="3348000" y="915840"/>
            <a:ext cx="2604960" cy="1611360"/>
            <a:chOff x="3348000" y="915840"/>
            <a:chExt cx="2604960" cy="1611360"/>
          </a:xfrm>
        </p:grpSpPr>
        <p:sp>
          <p:nvSpPr>
            <p:cNvPr id="1035" name="矩形 16"/>
            <p:cNvSpPr/>
            <p:nvPr/>
          </p:nvSpPr>
          <p:spPr>
            <a:xfrm>
              <a:off x="3356280" y="915840"/>
              <a:ext cx="2596680" cy="1611360"/>
            </a:xfrm>
            <a:prstGeom prst="rect">
              <a:avLst/>
            </a:prstGeom>
            <a:gradFill rotWithShape="0">
              <a:gsLst>
                <a:gs pos="0">
                  <a:srgbClr val="a07400"/>
                </a:gs>
                <a:gs pos="100000">
                  <a:srgbClr val="ffca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矩形 17"/>
            <p:cNvSpPr/>
            <p:nvPr/>
          </p:nvSpPr>
          <p:spPr>
            <a:xfrm>
              <a:off x="3348000" y="1497600"/>
              <a:ext cx="2067840" cy="1029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7" name="组合 19"/>
          <p:cNvGrpSpPr/>
          <p:nvPr/>
        </p:nvGrpSpPr>
        <p:grpSpPr>
          <a:xfrm>
            <a:off x="2700360" y="1635120"/>
            <a:ext cx="2604960" cy="1612800"/>
            <a:chOff x="2700360" y="1635120"/>
            <a:chExt cx="2604960" cy="1612800"/>
          </a:xfrm>
        </p:grpSpPr>
        <p:sp>
          <p:nvSpPr>
            <p:cNvPr id="1038" name="矩形 13"/>
            <p:cNvSpPr/>
            <p:nvPr/>
          </p:nvSpPr>
          <p:spPr>
            <a:xfrm>
              <a:off x="2708640" y="1635120"/>
              <a:ext cx="2596680" cy="1612800"/>
            </a:xfrm>
            <a:prstGeom prst="rect">
              <a:avLst/>
            </a:prstGeom>
            <a:gradFill rotWithShape="0">
              <a:gsLst>
                <a:gs pos="0">
                  <a:srgbClr val="7f3c00"/>
                </a:gs>
                <a:gs pos="100000">
                  <a:srgbClr val="db6d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矩形 14"/>
            <p:cNvSpPr/>
            <p:nvPr/>
          </p:nvSpPr>
          <p:spPr>
            <a:xfrm>
              <a:off x="2700360" y="2217600"/>
              <a:ext cx="2067840" cy="1030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40" name="组合 20" descr=""/>
          <p:cNvPicPr/>
          <p:nvPr/>
        </p:nvPicPr>
        <p:blipFill>
          <a:blip r:embed="rId1"/>
          <a:stretch/>
        </p:blipFill>
        <p:spPr>
          <a:xfrm>
            <a:off x="2048040" y="2346480"/>
            <a:ext cx="2616120" cy="1628640"/>
          </a:xfrm>
          <a:prstGeom prst="rect">
            <a:avLst/>
          </a:prstGeom>
          <a:ln w="0">
            <a:noFill/>
          </a:ln>
        </p:spPr>
      </p:pic>
      <p:grpSp>
        <p:nvGrpSpPr>
          <p:cNvPr id="1041" name="组合 21"/>
          <p:cNvGrpSpPr/>
          <p:nvPr/>
        </p:nvGrpSpPr>
        <p:grpSpPr>
          <a:xfrm>
            <a:off x="1403280" y="3076560"/>
            <a:ext cx="2606760" cy="1611360"/>
            <a:chOff x="1403280" y="3076560"/>
            <a:chExt cx="2606760" cy="1611360"/>
          </a:xfrm>
        </p:grpSpPr>
        <p:sp>
          <p:nvSpPr>
            <p:cNvPr id="1042" name="矩形 3"/>
            <p:cNvSpPr/>
            <p:nvPr/>
          </p:nvSpPr>
          <p:spPr>
            <a:xfrm>
              <a:off x="1411560" y="3076560"/>
              <a:ext cx="2598480" cy="1611360"/>
            </a:xfrm>
            <a:prstGeom prst="rect">
              <a:avLst/>
            </a:prstGeom>
            <a:gradFill rotWithShape="0">
              <a:gsLst>
                <a:gs pos="0">
                  <a:srgbClr val="3c2121"/>
                </a:gs>
                <a:gs pos="100000">
                  <a:srgbClr val="6c404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矩形 4"/>
            <p:cNvSpPr/>
            <p:nvPr/>
          </p:nvSpPr>
          <p:spPr>
            <a:xfrm>
              <a:off x="1403280" y="3658320"/>
              <a:ext cx="2069280" cy="1029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44" name="TextBox 6" descr=""/>
          <p:cNvPicPr/>
          <p:nvPr/>
        </p:nvPicPr>
        <p:blipFill>
          <a:blip r:embed="rId2"/>
          <a:stretch/>
        </p:blipFill>
        <p:spPr>
          <a:xfrm>
            <a:off x="3127320" y="3456000"/>
            <a:ext cx="1573200" cy="1440000"/>
          </a:xfrm>
          <a:prstGeom prst="rect">
            <a:avLst/>
          </a:prstGeom>
          <a:ln w="0">
            <a:noFill/>
          </a:ln>
        </p:spPr>
      </p:pic>
      <p:pic>
        <p:nvPicPr>
          <p:cNvPr id="1045" name="TextBox 23" descr=""/>
          <p:cNvPicPr/>
          <p:nvPr/>
        </p:nvPicPr>
        <p:blipFill>
          <a:blip r:embed="rId3"/>
          <a:stretch/>
        </p:blipFill>
        <p:spPr>
          <a:xfrm>
            <a:off x="3681360" y="2730600"/>
            <a:ext cx="1573200" cy="1439640"/>
          </a:xfrm>
          <a:prstGeom prst="rect">
            <a:avLst/>
          </a:prstGeom>
          <a:ln w="0">
            <a:noFill/>
          </a:ln>
        </p:spPr>
      </p:pic>
      <p:pic>
        <p:nvPicPr>
          <p:cNvPr id="1046" name="TextBox 28" descr=""/>
          <p:cNvPicPr/>
          <p:nvPr/>
        </p:nvPicPr>
        <p:blipFill>
          <a:blip r:embed="rId4"/>
          <a:stretch/>
        </p:blipFill>
        <p:spPr>
          <a:xfrm>
            <a:off x="4334040" y="2004840"/>
            <a:ext cx="1573200" cy="1444680"/>
          </a:xfrm>
          <a:prstGeom prst="rect">
            <a:avLst/>
          </a:prstGeom>
          <a:ln w="0">
            <a:noFill/>
          </a:ln>
        </p:spPr>
      </p:pic>
      <p:pic>
        <p:nvPicPr>
          <p:cNvPr id="1047" name="TextBox 29" descr=""/>
          <p:cNvPicPr/>
          <p:nvPr/>
        </p:nvPicPr>
        <p:blipFill>
          <a:blip r:embed="rId5"/>
          <a:stretch/>
        </p:blipFill>
        <p:spPr>
          <a:xfrm>
            <a:off x="4973760" y="1285920"/>
            <a:ext cx="1573200" cy="1444680"/>
          </a:xfrm>
          <a:prstGeom prst="rect">
            <a:avLst/>
          </a:prstGeom>
          <a:ln w="0">
            <a:noFill/>
          </a:ln>
        </p:spPr>
      </p:pic>
      <p:sp>
        <p:nvSpPr>
          <p:cNvPr id="1048" name="矩形 30"/>
          <p:cNvSpPr/>
          <p:nvPr/>
        </p:nvSpPr>
        <p:spPr>
          <a:xfrm>
            <a:off x="337320" y="230040"/>
            <a:ext cx="291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lick to add 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TextBox 32"/>
          <p:cNvSpPr/>
          <p:nvPr/>
        </p:nvSpPr>
        <p:spPr>
          <a:xfrm>
            <a:off x="6018120" y="3086280"/>
            <a:ext cx="23367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46c0a"/>
                </a:solidFill>
                <a:latin typeface="Calibri"/>
              </a:rPr>
              <a:t>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here to ad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your text or Cop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Your text and pas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TextBox 33"/>
          <p:cNvSpPr/>
          <p:nvPr/>
        </p:nvSpPr>
        <p:spPr>
          <a:xfrm>
            <a:off x="3342600" y="1050840"/>
            <a:ext cx="262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here to 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TextBox 34"/>
          <p:cNvSpPr/>
          <p:nvPr/>
        </p:nvSpPr>
        <p:spPr>
          <a:xfrm>
            <a:off x="2692440" y="1751040"/>
            <a:ext cx="262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here to 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TextBox 35"/>
          <p:cNvSpPr/>
          <p:nvPr/>
        </p:nvSpPr>
        <p:spPr>
          <a:xfrm>
            <a:off x="2032200" y="2473200"/>
            <a:ext cx="262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here to 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TextBox 36"/>
          <p:cNvSpPr/>
          <p:nvPr/>
        </p:nvSpPr>
        <p:spPr>
          <a:xfrm>
            <a:off x="1384560" y="3195720"/>
            <a:ext cx="262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lick here to 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燕尾形 3"/>
          <p:cNvSpPr/>
          <p:nvPr/>
        </p:nvSpPr>
        <p:spPr>
          <a:xfrm rot="16200000">
            <a:off x="4141800" y="1260360"/>
            <a:ext cx="557280" cy="557280"/>
          </a:xfrm>
          <a:custGeom>
            <a:avLst/>
            <a:gdLst>
              <a:gd name="textAreaLeft" fmla="*/ 0 w 557280"/>
              <a:gd name="textAreaRight" fmla="*/ 557640 w 557280"/>
              <a:gd name="textAreaTop" fmla="*/ 0 h 557280"/>
              <a:gd name="textAreaBottom" fmla="*/ 557640 h 557280"/>
            </a:gdLst>
            <a:ahLst/>
            <a:rect l="textAreaLeft" t="textAreaTop" r="textAreaRight" b="textAreaBottom"/>
            <a:pathLst>
              <a:path w="1368152" h="1368152">
                <a:moveTo>
                  <a:pt x="0" y="0"/>
                </a:moveTo>
                <a:lnTo>
                  <a:pt x="1368152" y="684076"/>
                </a:lnTo>
                <a:lnTo>
                  <a:pt x="0" y="1368152"/>
                </a:lnTo>
                <a:lnTo>
                  <a:pt x="684076" y="684076"/>
                </a:lnTo>
                <a:lnTo>
                  <a:pt x="0" y="0"/>
                </a:lnTo>
                <a:close/>
              </a:path>
            </a:pathLst>
          </a:custGeom>
          <a:solidFill>
            <a:srgbClr val="ffc000"/>
          </a:solidFill>
          <a:ln w="0">
            <a:noFill/>
          </a:ln>
          <a:effectLst>
            <a:outerShdw dist="38160" dir="54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燕尾形 3"/>
          <p:cNvSpPr/>
          <p:nvPr/>
        </p:nvSpPr>
        <p:spPr>
          <a:xfrm>
            <a:off x="5094360" y="2212920"/>
            <a:ext cx="557280" cy="557280"/>
          </a:xfrm>
          <a:custGeom>
            <a:avLst/>
            <a:gdLst>
              <a:gd name="textAreaLeft" fmla="*/ 0 w 557280"/>
              <a:gd name="textAreaRight" fmla="*/ 557640 w 557280"/>
              <a:gd name="textAreaTop" fmla="*/ 0 h 557280"/>
              <a:gd name="textAreaBottom" fmla="*/ 557640 h 557280"/>
            </a:gdLst>
            <a:ahLst/>
            <a:rect l="textAreaLeft" t="textAreaTop" r="textAreaRight" b="textAreaBottom"/>
            <a:pathLst>
              <a:path w="1368152" h="1368152">
                <a:moveTo>
                  <a:pt x="0" y="0"/>
                </a:moveTo>
                <a:lnTo>
                  <a:pt x="1368152" y="684076"/>
                </a:lnTo>
                <a:lnTo>
                  <a:pt x="0" y="1368152"/>
                </a:lnTo>
                <a:lnTo>
                  <a:pt x="684076" y="684076"/>
                </a:lnTo>
                <a:lnTo>
                  <a:pt x="0" y="0"/>
                </a:lnTo>
                <a:close/>
              </a:path>
            </a:pathLst>
          </a:custGeom>
          <a:solidFill>
            <a:srgbClr val="ffc000"/>
          </a:solidFill>
          <a:ln w="0">
            <a:noFill/>
          </a:ln>
          <a:effectLst>
            <a:outerShdw dist="38160" dir="108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燕尾形 3"/>
          <p:cNvSpPr/>
          <p:nvPr/>
        </p:nvSpPr>
        <p:spPr>
          <a:xfrm flipH="1" flipV="1" rot="16200000">
            <a:off x="4141800" y="3162600"/>
            <a:ext cx="556920" cy="557280"/>
          </a:xfrm>
          <a:custGeom>
            <a:avLst/>
            <a:gdLst>
              <a:gd name="textAreaLeft" fmla="*/ -360 w 556920"/>
              <a:gd name="textAreaRight" fmla="*/ 556920 w 556920"/>
              <a:gd name="textAreaTop" fmla="*/ 360 h 557280"/>
              <a:gd name="textAreaBottom" fmla="*/ 558000 h 557280"/>
            </a:gdLst>
            <a:ahLst/>
            <a:rect l="textAreaLeft" t="textAreaTop" r="textAreaRight" b="textAreaBottom"/>
            <a:pathLst>
              <a:path w="1368152" h="1368152">
                <a:moveTo>
                  <a:pt x="0" y="0"/>
                </a:moveTo>
                <a:lnTo>
                  <a:pt x="1368152" y="684076"/>
                </a:lnTo>
                <a:lnTo>
                  <a:pt x="0" y="1368152"/>
                </a:lnTo>
                <a:lnTo>
                  <a:pt x="684076" y="684076"/>
                </a:lnTo>
                <a:lnTo>
                  <a:pt x="0" y="0"/>
                </a:lnTo>
                <a:close/>
              </a:path>
            </a:pathLst>
          </a:custGeom>
          <a:solidFill>
            <a:srgbClr val="ffc000"/>
          </a:solidFill>
          <a:ln w="0">
            <a:noFill/>
          </a:ln>
          <a:effectLst>
            <a:outerShdw dist="38160" dir="162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燕尾形 3"/>
          <p:cNvSpPr/>
          <p:nvPr/>
        </p:nvSpPr>
        <p:spPr>
          <a:xfrm flipH="1">
            <a:off x="3189240" y="2211480"/>
            <a:ext cx="557280" cy="557280"/>
          </a:xfrm>
          <a:custGeom>
            <a:avLst/>
            <a:gdLst>
              <a:gd name="textAreaLeft" fmla="*/ 360 w 557280"/>
              <a:gd name="textAreaRight" fmla="*/ 558000 w 557280"/>
              <a:gd name="textAreaTop" fmla="*/ 0 h 557280"/>
              <a:gd name="textAreaBottom" fmla="*/ 557640 h 557280"/>
            </a:gdLst>
            <a:ahLst/>
            <a:rect l="textAreaLeft" t="textAreaTop" r="textAreaRight" b="textAreaBottom"/>
            <a:pathLst>
              <a:path w="1368152" h="1368152">
                <a:moveTo>
                  <a:pt x="0" y="0"/>
                </a:moveTo>
                <a:lnTo>
                  <a:pt x="1368152" y="684076"/>
                </a:lnTo>
                <a:lnTo>
                  <a:pt x="0" y="1368152"/>
                </a:lnTo>
                <a:lnTo>
                  <a:pt x="684076" y="684076"/>
                </a:lnTo>
                <a:lnTo>
                  <a:pt x="0" y="0"/>
                </a:lnTo>
                <a:close/>
              </a:path>
            </a:pathLst>
          </a:custGeom>
          <a:solidFill>
            <a:srgbClr val="ffc000"/>
          </a:solidFill>
          <a:ln w="0">
            <a:noFill/>
          </a:ln>
          <a:effectLst>
            <a:outerShdw dist="38160" dir="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燕尾形 3"/>
          <p:cNvSpPr/>
          <p:nvPr/>
        </p:nvSpPr>
        <p:spPr>
          <a:xfrm rot="13500000">
            <a:off x="3465360" y="1538280"/>
            <a:ext cx="558720" cy="555480"/>
          </a:xfrm>
          <a:custGeom>
            <a:avLst/>
            <a:gdLst>
              <a:gd name="textAreaLeft" fmla="*/ 0 w 558720"/>
              <a:gd name="textAreaRight" fmla="*/ 559080 w 558720"/>
              <a:gd name="textAreaTop" fmla="*/ 0 h 555480"/>
              <a:gd name="textAreaBottom" fmla="*/ 555480 h 555480"/>
            </a:gdLst>
            <a:ahLst/>
            <a:rect l="textAreaLeft" t="textAreaTop" r="textAreaRight" b="textAreaBottom"/>
            <a:pathLst>
              <a:path w="1368152" h="1368152">
                <a:moveTo>
                  <a:pt x="0" y="0"/>
                </a:moveTo>
                <a:lnTo>
                  <a:pt x="1368152" y="684076"/>
                </a:lnTo>
                <a:lnTo>
                  <a:pt x="0" y="1368152"/>
                </a:lnTo>
                <a:lnTo>
                  <a:pt x="684076" y="684076"/>
                </a:lnTo>
                <a:lnTo>
                  <a:pt x="0" y="0"/>
                </a:lnTo>
                <a:close/>
              </a:path>
            </a:pathLst>
          </a:custGeom>
          <a:solidFill>
            <a:srgbClr val="e46c0a"/>
          </a:solidFill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燕尾形 3"/>
          <p:cNvSpPr/>
          <p:nvPr/>
        </p:nvSpPr>
        <p:spPr>
          <a:xfrm flipH="1" rot="8100000">
            <a:off x="4812840" y="1538280"/>
            <a:ext cx="557640" cy="557280"/>
          </a:xfrm>
          <a:custGeom>
            <a:avLst/>
            <a:gdLst>
              <a:gd name="textAreaLeft" fmla="*/ -360 w 557640"/>
              <a:gd name="textAreaRight" fmla="*/ 557640 w 557640"/>
              <a:gd name="textAreaTop" fmla="*/ 0 h 557280"/>
              <a:gd name="textAreaBottom" fmla="*/ 557640 h 557280"/>
            </a:gdLst>
            <a:ahLst/>
            <a:rect l="textAreaLeft" t="textAreaTop" r="textAreaRight" b="textAreaBottom"/>
            <a:pathLst>
              <a:path w="1368152" h="1368152">
                <a:moveTo>
                  <a:pt x="0" y="0"/>
                </a:moveTo>
                <a:lnTo>
                  <a:pt x="1368152" y="684076"/>
                </a:lnTo>
                <a:lnTo>
                  <a:pt x="0" y="1368152"/>
                </a:lnTo>
                <a:lnTo>
                  <a:pt x="684076" y="684076"/>
                </a:lnTo>
                <a:lnTo>
                  <a:pt x="0" y="0"/>
                </a:lnTo>
                <a:close/>
              </a:path>
            </a:pathLst>
          </a:custGeom>
          <a:solidFill>
            <a:srgbClr val="e46c0a"/>
          </a:solidFill>
          <a:ln w="0">
            <a:noFill/>
          </a:ln>
          <a:effectLst>
            <a:outerShdw dist="38183" dir="81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燕尾形 3"/>
          <p:cNvSpPr/>
          <p:nvPr/>
        </p:nvSpPr>
        <p:spPr>
          <a:xfrm flipV="1" rot="8100000">
            <a:off x="3466800" y="2886120"/>
            <a:ext cx="557640" cy="557280"/>
          </a:xfrm>
          <a:custGeom>
            <a:avLst/>
            <a:gdLst>
              <a:gd name="textAreaLeft" fmla="*/ 0 w 557640"/>
              <a:gd name="textAreaRight" fmla="*/ 558000 w 557640"/>
              <a:gd name="textAreaTop" fmla="*/ 360 h 557280"/>
              <a:gd name="textAreaBottom" fmla="*/ 558000 h 557280"/>
            </a:gdLst>
            <a:ahLst/>
            <a:rect l="textAreaLeft" t="textAreaTop" r="textAreaRight" b="textAreaBottom"/>
            <a:pathLst>
              <a:path w="1368152" h="1368152">
                <a:moveTo>
                  <a:pt x="0" y="0"/>
                </a:moveTo>
                <a:lnTo>
                  <a:pt x="1368152" y="684076"/>
                </a:lnTo>
                <a:lnTo>
                  <a:pt x="0" y="1368152"/>
                </a:lnTo>
                <a:lnTo>
                  <a:pt x="684076" y="684076"/>
                </a:lnTo>
                <a:lnTo>
                  <a:pt x="0" y="0"/>
                </a:lnTo>
                <a:close/>
              </a:path>
            </a:pathLst>
          </a:custGeom>
          <a:solidFill>
            <a:srgbClr val="e46c0a"/>
          </a:solidFill>
          <a:ln w="0">
            <a:noFill/>
          </a:ln>
          <a:effectLst>
            <a:outerShdw dist="38183" dir="189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燕尾形 3"/>
          <p:cNvSpPr/>
          <p:nvPr/>
        </p:nvSpPr>
        <p:spPr>
          <a:xfrm flipH="1" flipV="1" rot="13500000">
            <a:off x="4812840" y="2886120"/>
            <a:ext cx="557640" cy="557280"/>
          </a:xfrm>
          <a:custGeom>
            <a:avLst/>
            <a:gdLst>
              <a:gd name="textAreaLeft" fmla="*/ -360 w 557640"/>
              <a:gd name="textAreaRight" fmla="*/ 557640 w 557640"/>
              <a:gd name="textAreaTop" fmla="*/ 360 h 557280"/>
              <a:gd name="textAreaBottom" fmla="*/ 558000 h 557280"/>
            </a:gdLst>
            <a:ahLst/>
            <a:rect l="textAreaLeft" t="textAreaTop" r="textAreaRight" b="textAreaBottom"/>
            <a:pathLst>
              <a:path w="1368152" h="1368152">
                <a:moveTo>
                  <a:pt x="0" y="0"/>
                </a:moveTo>
                <a:lnTo>
                  <a:pt x="1368152" y="684076"/>
                </a:lnTo>
                <a:lnTo>
                  <a:pt x="0" y="1368152"/>
                </a:lnTo>
                <a:lnTo>
                  <a:pt x="684076" y="684076"/>
                </a:lnTo>
                <a:lnTo>
                  <a:pt x="0" y="0"/>
                </a:lnTo>
                <a:close/>
              </a:path>
            </a:pathLst>
          </a:custGeom>
          <a:solidFill>
            <a:srgbClr val="e46c0a"/>
          </a:solidFill>
          <a:ln w="0">
            <a:noFill/>
          </a:ln>
          <a:effectLst>
            <a:outerShdw dist="38183" dir="135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TextBox 13"/>
          <p:cNvSpPr/>
          <p:nvPr/>
        </p:nvSpPr>
        <p:spPr>
          <a:xfrm>
            <a:off x="1784520" y="2021040"/>
            <a:ext cx="1368360" cy="9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e46c0a"/>
                </a:solidFill>
                <a:latin typeface="Calibri"/>
              </a:rPr>
              <a:t>Your tex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Click here to add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your text or Copy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Your text and past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it her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TextBox 22"/>
          <p:cNvSpPr/>
          <p:nvPr/>
        </p:nvSpPr>
        <p:spPr>
          <a:xfrm>
            <a:off x="5651640" y="2021040"/>
            <a:ext cx="1368360" cy="9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e46c0a"/>
                </a:solidFill>
                <a:latin typeface="Calibri"/>
              </a:rPr>
              <a:t>Your tex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Click here to add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your text or Copy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Your text and past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it her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TextBox 23"/>
          <p:cNvSpPr/>
          <p:nvPr/>
        </p:nvSpPr>
        <p:spPr>
          <a:xfrm>
            <a:off x="3724200" y="484200"/>
            <a:ext cx="1368360" cy="9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e46c0a"/>
                </a:solidFill>
                <a:latin typeface="Calibri"/>
              </a:rPr>
              <a:t>Your tex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Click here to add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your text or Copy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Your text and past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it her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TextBox 24"/>
          <p:cNvSpPr/>
          <p:nvPr/>
        </p:nvSpPr>
        <p:spPr>
          <a:xfrm>
            <a:off x="3724200" y="3720960"/>
            <a:ext cx="1368360" cy="9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e46c0a"/>
                </a:solidFill>
                <a:latin typeface="Calibri"/>
              </a:rPr>
              <a:t>Your tex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Click here to add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your text or Copy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Your text and past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it her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TextBox 25"/>
          <p:cNvSpPr/>
          <p:nvPr/>
        </p:nvSpPr>
        <p:spPr>
          <a:xfrm>
            <a:off x="5345280" y="3443400"/>
            <a:ext cx="1368360" cy="9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e46c0a"/>
                </a:solidFill>
                <a:latin typeface="Calibri"/>
              </a:rPr>
              <a:t>Your tex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Click here to add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your text or Copy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Your text and past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it her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TextBox 26"/>
          <p:cNvSpPr/>
          <p:nvPr/>
        </p:nvSpPr>
        <p:spPr>
          <a:xfrm>
            <a:off x="2139840" y="3443400"/>
            <a:ext cx="1366920" cy="9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e46c0a"/>
                </a:solidFill>
                <a:latin typeface="Calibri"/>
              </a:rPr>
              <a:t>Your tex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Click here to add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your text or Copy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Your text and past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it her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TextBox 27"/>
          <p:cNvSpPr/>
          <p:nvPr/>
        </p:nvSpPr>
        <p:spPr>
          <a:xfrm>
            <a:off x="5345280" y="790560"/>
            <a:ext cx="1368360" cy="9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e46c0a"/>
                </a:solidFill>
                <a:latin typeface="Calibri"/>
              </a:rPr>
              <a:t>Your tex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Click here to add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your text or Copy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Your text and past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it her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TextBox 28"/>
          <p:cNvSpPr/>
          <p:nvPr/>
        </p:nvSpPr>
        <p:spPr>
          <a:xfrm>
            <a:off x="2139840" y="790560"/>
            <a:ext cx="1366920" cy="9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e46c0a"/>
                </a:solidFill>
                <a:latin typeface="Calibri"/>
              </a:rPr>
              <a:t>Your tex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Click here to add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your text or Copy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Your text and past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it her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矩形 29"/>
          <p:cNvSpPr/>
          <p:nvPr/>
        </p:nvSpPr>
        <p:spPr>
          <a:xfrm>
            <a:off x="78480" y="84240"/>
            <a:ext cx="1895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lick to add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矩形 30"/>
          <p:cNvSpPr/>
          <p:nvPr/>
        </p:nvSpPr>
        <p:spPr>
          <a:xfrm>
            <a:off x="4050360" y="2295360"/>
            <a:ext cx="74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2" name="椭圆 109"/>
          <p:cNvGrpSpPr/>
          <p:nvPr/>
        </p:nvGrpSpPr>
        <p:grpSpPr>
          <a:xfrm>
            <a:off x="2773440" y="4552920"/>
            <a:ext cx="3084480" cy="220680"/>
            <a:chOff x="2773440" y="4552920"/>
            <a:chExt cx="3084480" cy="220680"/>
          </a:xfrm>
        </p:grpSpPr>
        <p:pic>
          <p:nvPicPr>
            <p:cNvPr id="1073" name="椭圆 109" descr=""/>
            <p:cNvPicPr/>
            <p:nvPr/>
          </p:nvPicPr>
          <p:blipFill>
            <a:blip r:embed="rId1"/>
            <a:stretch/>
          </p:blipFill>
          <p:spPr>
            <a:xfrm>
              <a:off x="2773440" y="4552920"/>
              <a:ext cx="3084480" cy="22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4" name=""/>
            <p:cNvSpPr/>
            <p:nvPr/>
          </p:nvSpPr>
          <p:spPr>
            <a:xfrm>
              <a:off x="3227400" y="4583160"/>
              <a:ext cx="2179800" cy="1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5" name="椭圆 108"/>
          <p:cNvGrpSpPr/>
          <p:nvPr/>
        </p:nvGrpSpPr>
        <p:grpSpPr>
          <a:xfrm>
            <a:off x="517680" y="4552920"/>
            <a:ext cx="3079440" cy="220680"/>
            <a:chOff x="517680" y="4552920"/>
            <a:chExt cx="3079440" cy="220680"/>
          </a:xfrm>
        </p:grpSpPr>
        <p:pic>
          <p:nvPicPr>
            <p:cNvPr id="1076" name="椭圆 108" descr=""/>
            <p:cNvPicPr/>
            <p:nvPr/>
          </p:nvPicPr>
          <p:blipFill>
            <a:blip r:embed="rId2"/>
            <a:stretch/>
          </p:blipFill>
          <p:spPr>
            <a:xfrm>
              <a:off x="517680" y="4552920"/>
              <a:ext cx="3079440" cy="22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7" name=""/>
            <p:cNvSpPr/>
            <p:nvPr/>
          </p:nvSpPr>
          <p:spPr>
            <a:xfrm>
              <a:off x="968400" y="4583160"/>
              <a:ext cx="2179440" cy="1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8" name="等腰三角形 42"/>
          <p:cNvSpPr/>
          <p:nvPr/>
        </p:nvSpPr>
        <p:spPr>
          <a:xfrm rot="10800000">
            <a:off x="2822400" y="1491480"/>
            <a:ext cx="3252960" cy="20401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等腰三角形 46"/>
          <p:cNvSpPr/>
          <p:nvPr/>
        </p:nvSpPr>
        <p:spPr>
          <a:xfrm rot="15427800">
            <a:off x="3814560" y="2274840"/>
            <a:ext cx="3254400" cy="204156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lin ang="19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等腰三角形 47"/>
          <p:cNvSpPr/>
          <p:nvPr/>
        </p:nvSpPr>
        <p:spPr>
          <a:xfrm flipH="1" rot="6172200">
            <a:off x="1828440" y="2275200"/>
            <a:ext cx="3254400" cy="20412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lin ang="407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梯形 48"/>
          <p:cNvSpPr/>
          <p:nvPr/>
        </p:nvSpPr>
        <p:spPr>
          <a:xfrm rot="10800000">
            <a:off x="2828520" y="1492200"/>
            <a:ext cx="3243240" cy="689040"/>
          </a:xfrm>
          <a:custGeom>
            <a:avLst/>
            <a:gdLst>
              <a:gd name="textAreaLeft" fmla="*/ 365760 w 3243240"/>
              <a:gd name="textAreaRight" fmla="*/ 2877480 w 3243240"/>
              <a:gd name="textAreaTop" fmla="*/ 77760 h 689040"/>
              <a:gd name="textAreaBottom" fmla="*/ 689400 h 689040"/>
            </a:gdLst>
            <a:ahLst/>
            <a:rect l="textAreaLeft" t="textAreaTop" r="textAreaRight" b="textAreaBottom"/>
            <a:pathLst>
              <a:path w="3243615" h="688934">
                <a:moveTo>
                  <a:pt x="0" y="688934"/>
                </a:moveTo>
                <a:lnTo>
                  <a:pt x="548908" y="0"/>
                </a:lnTo>
                <a:lnTo>
                  <a:pt x="2694707" y="0"/>
                </a:lnTo>
                <a:lnTo>
                  <a:pt x="3243615" y="688934"/>
                </a:lnTo>
                <a:lnTo>
                  <a:pt x="0" y="688934"/>
                </a:lnTo>
                <a:close/>
              </a:path>
            </a:pathLst>
          </a:custGeom>
          <a:gradFill rotWithShape="0">
            <a:gsLst>
              <a:gs pos="0">
                <a:srgbClr val="fbc69b"/>
              </a:gs>
              <a:gs pos="100000">
                <a:srgbClr val="e46c0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梯形 49"/>
          <p:cNvSpPr/>
          <p:nvPr/>
        </p:nvSpPr>
        <p:spPr>
          <a:xfrm rot="15392400">
            <a:off x="4503600" y="2812320"/>
            <a:ext cx="3243240" cy="662040"/>
          </a:xfrm>
          <a:custGeom>
            <a:avLst/>
            <a:gdLst>
              <a:gd name="textAreaLeft" fmla="*/ 351360 w 3243240"/>
              <a:gd name="textAreaRight" fmla="*/ 2891880 w 3243240"/>
              <a:gd name="textAreaTop" fmla="*/ 71640 h 662040"/>
              <a:gd name="textAreaBottom" fmla="*/ 662400 h 662040"/>
            </a:gdLst>
            <a:ahLst/>
            <a:rect l="textAreaLeft" t="textAreaTop" r="textAreaRight" b="textAreaBottom"/>
            <a:pathLst>
              <a:path w="3243615" h="661788">
                <a:moveTo>
                  <a:pt x="0" y="661788"/>
                </a:moveTo>
                <a:lnTo>
                  <a:pt x="527280" y="0"/>
                </a:lnTo>
                <a:lnTo>
                  <a:pt x="2716335" y="0"/>
                </a:lnTo>
                <a:lnTo>
                  <a:pt x="3243615" y="661788"/>
                </a:lnTo>
                <a:lnTo>
                  <a:pt x="0" y="661788"/>
                </a:lnTo>
                <a:close/>
              </a:path>
            </a:pathLst>
          </a:custGeom>
          <a:gradFill rotWithShape="0">
            <a:gsLst>
              <a:gs pos="0">
                <a:srgbClr val="bfbfbf"/>
              </a:gs>
              <a:gs pos="100000">
                <a:srgbClr val="0d0d0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梯形 50"/>
          <p:cNvSpPr/>
          <p:nvPr/>
        </p:nvSpPr>
        <p:spPr>
          <a:xfrm flipH="1" rot="6207600">
            <a:off x="1151640" y="2806200"/>
            <a:ext cx="3243240" cy="677520"/>
          </a:xfrm>
          <a:custGeom>
            <a:avLst/>
            <a:gdLst>
              <a:gd name="textAreaLeft" fmla="*/ 360360 w 3243240"/>
              <a:gd name="textAreaRight" fmla="*/ 2882880 w 3243240"/>
              <a:gd name="textAreaTop" fmla="*/ 75240 h 677520"/>
              <a:gd name="textAreaBottom" fmla="*/ 677880 h 677520"/>
            </a:gdLst>
            <a:ahLst/>
            <a:rect l="textAreaLeft" t="textAreaTop" r="textAreaRight" b="textAreaBottom"/>
            <a:pathLst>
              <a:path w="3243615" h="678455">
                <a:moveTo>
                  <a:pt x="0" y="678455"/>
                </a:moveTo>
                <a:lnTo>
                  <a:pt x="540559" y="0"/>
                </a:lnTo>
                <a:lnTo>
                  <a:pt x="2703056" y="0"/>
                </a:lnTo>
                <a:lnTo>
                  <a:pt x="3243615" y="678455"/>
                </a:lnTo>
                <a:lnTo>
                  <a:pt x="0" y="678455"/>
                </a:lnTo>
                <a:close/>
              </a:path>
            </a:pathLst>
          </a:custGeom>
          <a:gradFill rotWithShape="0">
            <a:gsLst>
              <a:gs pos="0">
                <a:srgbClr val="ffc000"/>
              </a:gs>
              <a:gs pos="100000">
                <a:srgbClr val="ffe48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4" name="组合 72" descr=""/>
          <p:cNvPicPr/>
          <p:nvPr/>
        </p:nvPicPr>
        <p:blipFill>
          <a:blip r:embed="rId3"/>
          <a:stretch/>
        </p:blipFill>
        <p:spPr>
          <a:xfrm>
            <a:off x="3382920" y="1676520"/>
            <a:ext cx="639720" cy="323640"/>
          </a:xfrm>
          <a:prstGeom prst="rect">
            <a:avLst/>
          </a:prstGeom>
          <a:ln w="0">
            <a:noFill/>
          </a:ln>
        </p:spPr>
      </p:pic>
      <p:pic>
        <p:nvPicPr>
          <p:cNvPr id="1085" name="组合 74" descr=""/>
          <p:cNvPicPr/>
          <p:nvPr/>
        </p:nvPicPr>
        <p:blipFill>
          <a:blip r:embed="rId4"/>
          <a:stretch/>
        </p:blipFill>
        <p:spPr>
          <a:xfrm>
            <a:off x="5778360" y="2073240"/>
            <a:ext cx="324000" cy="639720"/>
          </a:xfrm>
          <a:prstGeom prst="rect">
            <a:avLst/>
          </a:prstGeom>
          <a:ln w="0">
            <a:noFill/>
          </a:ln>
        </p:spPr>
      </p:pic>
      <p:pic>
        <p:nvPicPr>
          <p:cNvPr id="1086" name="组合 91" descr=""/>
          <p:cNvPicPr/>
          <p:nvPr/>
        </p:nvPicPr>
        <p:blipFill>
          <a:blip r:embed="rId5"/>
          <a:stretch/>
        </p:blipFill>
        <p:spPr>
          <a:xfrm>
            <a:off x="2438280" y="3505320"/>
            <a:ext cx="324000" cy="633240"/>
          </a:xfrm>
          <a:prstGeom prst="rect">
            <a:avLst/>
          </a:prstGeom>
          <a:ln w="0">
            <a:noFill/>
          </a:ln>
        </p:spPr>
      </p:pic>
      <p:grpSp>
        <p:nvGrpSpPr>
          <p:cNvPr id="1087" name="椭圆 112"/>
          <p:cNvGrpSpPr/>
          <p:nvPr/>
        </p:nvGrpSpPr>
        <p:grpSpPr>
          <a:xfrm>
            <a:off x="5261040" y="4552920"/>
            <a:ext cx="3078000" cy="220680"/>
            <a:chOff x="5261040" y="4552920"/>
            <a:chExt cx="3078000" cy="220680"/>
          </a:xfrm>
        </p:grpSpPr>
        <p:pic>
          <p:nvPicPr>
            <p:cNvPr id="1088" name="椭圆 112" descr=""/>
            <p:cNvPicPr/>
            <p:nvPr/>
          </p:nvPicPr>
          <p:blipFill>
            <a:blip r:embed="rId6"/>
            <a:stretch/>
          </p:blipFill>
          <p:spPr>
            <a:xfrm>
              <a:off x="5261040" y="4552920"/>
              <a:ext cx="3078000" cy="22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9" name=""/>
            <p:cNvSpPr/>
            <p:nvPr/>
          </p:nvSpPr>
          <p:spPr>
            <a:xfrm>
              <a:off x="5708520" y="4583160"/>
              <a:ext cx="2179800" cy="1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90" name="Picture 2" descr="\\MAGNUM\Projects\Microsoft\Cloud Power FY12\Design\Icons\PNGs\Cloud_on_your_terms.png"/>
          <p:cNvPicPr/>
          <p:nvPr/>
        </p:nvPicPr>
        <p:blipFill>
          <a:blip r:embed="rId7">
            <a:lum bright="100000"/>
          </a:blip>
          <a:stretch/>
        </p:blipFill>
        <p:spPr>
          <a:xfrm>
            <a:off x="3193920" y="2300400"/>
            <a:ext cx="2617920" cy="274140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10253f">
                <a:alpha val="45000"/>
              </a:srgbClr>
            </a:outerShdw>
          </a:effectLst>
        </p:spPr>
      </p:pic>
      <p:sp>
        <p:nvSpPr>
          <p:cNvPr id="1091" name="Freeform 22"/>
          <p:cNvSpPr/>
          <p:nvPr/>
        </p:nvSpPr>
        <p:spPr>
          <a:xfrm>
            <a:off x="4976640" y="3200400"/>
            <a:ext cx="441360" cy="471600"/>
          </a:xfrm>
          <a:custGeom>
            <a:avLst/>
            <a:gdLst>
              <a:gd name="textAreaLeft" fmla="*/ 0 w 441360"/>
              <a:gd name="textAreaRight" fmla="*/ 441720 w 441360"/>
              <a:gd name="textAreaTop" fmla="*/ 0 h 471600"/>
              <a:gd name="textAreaBottom" fmla="*/ 471960 h 471600"/>
            </a:gdLst>
            <a:ahLst/>
            <a:rect l="textAreaLeft" t="textAreaTop" r="textAreaRight" b="textAreaBottom"/>
            <a:pathLst>
              <a:path w="300" h="300">
                <a:moveTo>
                  <a:pt x="300" y="141"/>
                </a:moveTo>
                <a:cubicBezTo>
                  <a:pt x="285" y="141"/>
                  <a:pt x="285" y="141"/>
                  <a:pt x="285" y="141"/>
                </a:cubicBezTo>
                <a:cubicBezTo>
                  <a:pt x="280" y="74"/>
                  <a:pt x="226" y="20"/>
                  <a:pt x="159" y="15"/>
                </a:cubicBezTo>
                <a:cubicBezTo>
                  <a:pt x="159" y="0"/>
                  <a:pt x="159" y="0"/>
                  <a:pt x="159" y="0"/>
                </a:cubicBezTo>
                <a:cubicBezTo>
                  <a:pt x="141" y="0"/>
                  <a:pt x="141" y="0"/>
                  <a:pt x="141" y="0"/>
                </a:cubicBezTo>
                <a:cubicBezTo>
                  <a:pt x="141" y="15"/>
                  <a:pt x="141" y="15"/>
                  <a:pt x="141" y="15"/>
                </a:cubicBezTo>
                <a:cubicBezTo>
                  <a:pt x="74" y="20"/>
                  <a:pt x="20" y="74"/>
                  <a:pt x="15" y="141"/>
                </a:cubicBezTo>
                <a:cubicBezTo>
                  <a:pt x="0" y="141"/>
                  <a:pt x="0" y="141"/>
                  <a:pt x="0" y="141"/>
                </a:cubicBezTo>
                <a:cubicBezTo>
                  <a:pt x="0" y="159"/>
                  <a:pt x="0" y="159"/>
                  <a:pt x="0" y="159"/>
                </a:cubicBezTo>
                <a:cubicBezTo>
                  <a:pt x="15" y="159"/>
                  <a:pt x="15" y="159"/>
                  <a:pt x="15" y="159"/>
                </a:cubicBezTo>
                <a:cubicBezTo>
                  <a:pt x="20" y="226"/>
                  <a:pt x="74" y="280"/>
                  <a:pt x="141" y="285"/>
                </a:cubicBezTo>
                <a:cubicBezTo>
                  <a:pt x="141" y="300"/>
                  <a:pt x="141" y="300"/>
                  <a:pt x="141" y="300"/>
                </a:cubicBezTo>
                <a:cubicBezTo>
                  <a:pt x="159" y="300"/>
                  <a:pt x="159" y="300"/>
                  <a:pt x="159" y="300"/>
                </a:cubicBezTo>
                <a:cubicBezTo>
                  <a:pt x="159" y="285"/>
                  <a:pt x="159" y="285"/>
                  <a:pt x="159" y="285"/>
                </a:cubicBezTo>
                <a:cubicBezTo>
                  <a:pt x="226" y="280"/>
                  <a:pt x="280" y="226"/>
                  <a:pt x="285" y="159"/>
                </a:cubicBezTo>
                <a:cubicBezTo>
                  <a:pt x="300" y="159"/>
                  <a:pt x="300" y="159"/>
                  <a:pt x="300" y="159"/>
                </a:cubicBezTo>
                <a:lnTo>
                  <a:pt x="300" y="141"/>
                </a:lnTo>
                <a:close/>
                <a:moveTo>
                  <a:pt x="258" y="141"/>
                </a:moveTo>
                <a:cubicBezTo>
                  <a:pt x="230" y="141"/>
                  <a:pt x="230" y="141"/>
                  <a:pt x="230" y="141"/>
                </a:cubicBezTo>
                <a:cubicBezTo>
                  <a:pt x="226" y="103"/>
                  <a:pt x="197" y="74"/>
                  <a:pt x="159" y="70"/>
                </a:cubicBezTo>
                <a:cubicBezTo>
                  <a:pt x="159" y="42"/>
                  <a:pt x="159" y="42"/>
                  <a:pt x="159" y="42"/>
                </a:cubicBezTo>
                <a:cubicBezTo>
                  <a:pt x="211" y="47"/>
                  <a:pt x="253" y="89"/>
                  <a:pt x="258" y="141"/>
                </a:cubicBezTo>
                <a:close/>
                <a:moveTo>
                  <a:pt x="141" y="125"/>
                </a:moveTo>
                <a:cubicBezTo>
                  <a:pt x="133" y="127"/>
                  <a:pt x="127" y="133"/>
                  <a:pt x="125" y="141"/>
                </a:cubicBezTo>
                <a:cubicBezTo>
                  <a:pt x="97" y="141"/>
                  <a:pt x="97" y="141"/>
                  <a:pt x="97" y="141"/>
                </a:cubicBezTo>
                <a:cubicBezTo>
                  <a:pt x="101" y="118"/>
                  <a:pt x="118" y="101"/>
                  <a:pt x="141" y="97"/>
                </a:cubicBezTo>
                <a:lnTo>
                  <a:pt x="141" y="125"/>
                </a:lnTo>
                <a:close/>
                <a:moveTo>
                  <a:pt x="125" y="159"/>
                </a:moveTo>
                <a:cubicBezTo>
                  <a:pt x="127" y="167"/>
                  <a:pt x="133" y="173"/>
                  <a:pt x="141" y="175"/>
                </a:cubicBezTo>
                <a:cubicBezTo>
                  <a:pt x="141" y="203"/>
                  <a:pt x="141" y="203"/>
                  <a:pt x="141" y="203"/>
                </a:cubicBezTo>
                <a:cubicBezTo>
                  <a:pt x="118" y="199"/>
                  <a:pt x="101" y="182"/>
                  <a:pt x="97" y="159"/>
                </a:cubicBezTo>
                <a:lnTo>
                  <a:pt x="125" y="159"/>
                </a:lnTo>
                <a:close/>
                <a:moveTo>
                  <a:pt x="159" y="175"/>
                </a:moveTo>
                <a:cubicBezTo>
                  <a:pt x="167" y="173"/>
                  <a:pt x="173" y="167"/>
                  <a:pt x="175" y="159"/>
                </a:cubicBezTo>
                <a:cubicBezTo>
                  <a:pt x="203" y="159"/>
                  <a:pt x="203" y="159"/>
                  <a:pt x="203" y="159"/>
                </a:cubicBezTo>
                <a:cubicBezTo>
                  <a:pt x="199" y="182"/>
                  <a:pt x="182" y="199"/>
                  <a:pt x="159" y="203"/>
                </a:cubicBezTo>
                <a:lnTo>
                  <a:pt x="159" y="175"/>
                </a:lnTo>
                <a:close/>
                <a:moveTo>
                  <a:pt x="175" y="141"/>
                </a:moveTo>
                <a:cubicBezTo>
                  <a:pt x="173" y="133"/>
                  <a:pt x="167" y="127"/>
                  <a:pt x="159" y="125"/>
                </a:cubicBezTo>
                <a:cubicBezTo>
                  <a:pt x="159" y="97"/>
                  <a:pt x="159" y="97"/>
                  <a:pt x="159" y="97"/>
                </a:cubicBezTo>
                <a:cubicBezTo>
                  <a:pt x="182" y="101"/>
                  <a:pt x="199" y="118"/>
                  <a:pt x="203" y="141"/>
                </a:cubicBezTo>
                <a:lnTo>
                  <a:pt x="175" y="141"/>
                </a:lnTo>
                <a:close/>
                <a:moveTo>
                  <a:pt x="141" y="42"/>
                </a:moveTo>
                <a:cubicBezTo>
                  <a:pt x="141" y="70"/>
                  <a:pt x="141" y="70"/>
                  <a:pt x="141" y="70"/>
                </a:cubicBezTo>
                <a:cubicBezTo>
                  <a:pt x="103" y="74"/>
                  <a:pt x="74" y="103"/>
                  <a:pt x="70" y="141"/>
                </a:cubicBezTo>
                <a:cubicBezTo>
                  <a:pt x="42" y="141"/>
                  <a:pt x="42" y="141"/>
                  <a:pt x="42" y="141"/>
                </a:cubicBezTo>
                <a:cubicBezTo>
                  <a:pt x="47" y="89"/>
                  <a:pt x="89" y="47"/>
                  <a:pt x="141" y="42"/>
                </a:cubicBezTo>
                <a:close/>
                <a:moveTo>
                  <a:pt x="42" y="159"/>
                </a:moveTo>
                <a:cubicBezTo>
                  <a:pt x="70" y="159"/>
                  <a:pt x="70" y="159"/>
                  <a:pt x="70" y="159"/>
                </a:cubicBezTo>
                <a:cubicBezTo>
                  <a:pt x="74" y="197"/>
                  <a:pt x="103" y="226"/>
                  <a:pt x="141" y="230"/>
                </a:cubicBezTo>
                <a:cubicBezTo>
                  <a:pt x="141" y="258"/>
                  <a:pt x="141" y="258"/>
                  <a:pt x="141" y="258"/>
                </a:cubicBezTo>
                <a:cubicBezTo>
                  <a:pt x="89" y="253"/>
                  <a:pt x="47" y="211"/>
                  <a:pt x="42" y="159"/>
                </a:cubicBezTo>
                <a:close/>
                <a:moveTo>
                  <a:pt x="159" y="258"/>
                </a:moveTo>
                <a:cubicBezTo>
                  <a:pt x="159" y="230"/>
                  <a:pt x="159" y="230"/>
                  <a:pt x="159" y="230"/>
                </a:cubicBezTo>
                <a:cubicBezTo>
                  <a:pt x="197" y="226"/>
                  <a:pt x="226" y="197"/>
                  <a:pt x="230" y="159"/>
                </a:cubicBezTo>
                <a:cubicBezTo>
                  <a:pt x="258" y="159"/>
                  <a:pt x="258" y="159"/>
                  <a:pt x="258" y="159"/>
                </a:cubicBezTo>
                <a:cubicBezTo>
                  <a:pt x="253" y="211"/>
                  <a:pt x="211" y="253"/>
                  <a:pt x="159" y="25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c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2" name="TextBox 119" descr=""/>
          <p:cNvPicPr/>
          <p:nvPr/>
        </p:nvPicPr>
        <p:blipFill>
          <a:blip r:embed="rId8"/>
          <a:stretch/>
        </p:blipFill>
        <p:spPr>
          <a:xfrm>
            <a:off x="658800" y="2840040"/>
            <a:ext cx="1816200" cy="2298600"/>
          </a:xfrm>
          <a:prstGeom prst="rect">
            <a:avLst/>
          </a:prstGeom>
          <a:ln w="0">
            <a:noFill/>
          </a:ln>
        </p:spPr>
      </p:pic>
      <p:sp>
        <p:nvSpPr>
          <p:cNvPr id="1093" name="TextBox 120"/>
          <p:cNvSpPr/>
          <p:nvPr/>
        </p:nvSpPr>
        <p:spPr>
          <a:xfrm rot="16998000">
            <a:off x="970560" y="2013120"/>
            <a:ext cx="226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Click here to add you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text or Copy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and paste i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4" name="TextBox 121" descr=""/>
          <p:cNvPicPr/>
          <p:nvPr/>
        </p:nvPicPr>
        <p:blipFill>
          <a:blip r:embed="rId9"/>
          <a:stretch/>
        </p:blipFill>
        <p:spPr>
          <a:xfrm>
            <a:off x="2352600" y="189000"/>
            <a:ext cx="2036880" cy="1444680"/>
          </a:xfrm>
          <a:prstGeom prst="rect">
            <a:avLst/>
          </a:prstGeom>
          <a:ln w="0">
            <a:noFill/>
          </a:ln>
        </p:spPr>
      </p:pic>
      <p:sp>
        <p:nvSpPr>
          <p:cNvPr id="1095" name="TextBox 122"/>
          <p:cNvSpPr/>
          <p:nvPr/>
        </p:nvSpPr>
        <p:spPr>
          <a:xfrm rot="21598200">
            <a:off x="3910320" y="568440"/>
            <a:ext cx="226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Click here to add you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text or Copy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and paste i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6" name="TextBox 124" descr=""/>
          <p:cNvPicPr/>
          <p:nvPr/>
        </p:nvPicPr>
        <p:blipFill>
          <a:blip r:embed="rId10"/>
          <a:stretch/>
        </p:blipFill>
        <p:spPr>
          <a:xfrm>
            <a:off x="5907240" y="712800"/>
            <a:ext cx="1815840" cy="2292480"/>
          </a:xfrm>
          <a:prstGeom prst="rect">
            <a:avLst/>
          </a:prstGeom>
          <a:ln w="0">
            <a:noFill/>
          </a:ln>
        </p:spPr>
      </p:pic>
      <p:sp>
        <p:nvSpPr>
          <p:cNvPr id="1097" name="TextBox 125"/>
          <p:cNvSpPr/>
          <p:nvPr/>
        </p:nvSpPr>
        <p:spPr>
          <a:xfrm rot="4582200">
            <a:off x="5884560" y="2957040"/>
            <a:ext cx="226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Click here to add you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text or Copy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and paste i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空心弧 3"/>
          <p:cNvSpPr/>
          <p:nvPr/>
        </p:nvSpPr>
        <p:spPr>
          <a:xfrm flipH="1" rot="9900000">
            <a:off x="110520" y="-509760"/>
            <a:ext cx="1385640" cy="1308240"/>
          </a:xfrm>
          <a:custGeom>
            <a:avLst/>
            <a:gdLst>
              <a:gd name="textAreaLeft" fmla="*/ 701640 w 1385640"/>
              <a:gd name="textAreaRight" fmla="*/ 1385640 w 1385640"/>
              <a:gd name="textAreaTop" fmla="*/ 0 h 1308240"/>
              <a:gd name="textAreaBottom" fmla="*/ 663480 h 1308240"/>
            </a:gdLst>
            <a:ahLst/>
            <a:rect l="textAreaLeft" t="textAreaTop" r="textAreaRight" b="textAreaBottom"/>
            <a:pathLst>
              <a:path w="1386123" h="1309818">
                <a:moveTo>
                  <a:pt x="704386" y="87"/>
                </a:moveTo>
                <a:lnTo>
                  <a:pt x="704385" y="87"/>
                </a:lnTo>
                <a:cubicBezTo>
                  <a:pt x="1082688" y="5929"/>
                  <a:pt x="1386124" y="297384"/>
                  <a:pt x="1386124" y="654909"/>
                </a:cubicBezTo>
                <a:cubicBezTo>
                  <a:pt x="1386124" y="657995"/>
                  <a:pt x="1386100" y="661081"/>
                  <a:pt x="1386054" y="664167"/>
                </a:cubicBezTo>
                <a:lnTo>
                  <a:pt x="1254337" y="662407"/>
                </a:lnTo>
                <a:cubicBezTo>
                  <a:pt x="1254375" y="659907"/>
                  <a:pt x="1254395" y="657408"/>
                  <a:pt x="1254395" y="654909"/>
                </a:cubicBezTo>
                <a:cubicBezTo>
                  <a:pt x="1254395" y="369251"/>
                  <a:pt x="1008556" y="136398"/>
                  <a:pt x="702107" y="131795"/>
                </a:cubicBezTo>
                <a:lnTo>
                  <a:pt x="704386" y="87"/>
                </a:lnTo>
                <a:close/>
              </a:path>
            </a:pathLst>
          </a:cu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空心弧 4"/>
          <p:cNvSpPr/>
          <p:nvPr/>
        </p:nvSpPr>
        <p:spPr>
          <a:xfrm flipH="1" rot="10493400">
            <a:off x="437040" y="622440"/>
            <a:ext cx="1386000" cy="1309320"/>
          </a:xfrm>
          <a:custGeom>
            <a:avLst/>
            <a:gdLst>
              <a:gd name="textAreaLeft" fmla="*/ 360 w 1386000"/>
              <a:gd name="textAreaRight" fmla="*/ 1385280 w 1386000"/>
              <a:gd name="textAreaTop" fmla="*/ 0 h 1309320"/>
              <a:gd name="textAreaBottom" fmla="*/ 1298880 h 1309320"/>
            </a:gdLst>
            <a:ahLst/>
            <a:rect l="textAreaLeft" t="textAreaTop" r="textAreaRight" b="textAreaBottom"/>
            <a:pathLst>
              <a:path w="1386123" h="1309818">
                <a:moveTo>
                  <a:pt x="568580" y="1299168"/>
                </a:moveTo>
                <a:lnTo>
                  <a:pt x="568580" y="1299167"/>
                </a:lnTo>
                <a:cubicBezTo>
                  <a:pt x="239269" y="1242351"/>
                  <a:pt x="0" y="971235"/>
                  <a:pt x="0" y="654909"/>
                </a:cubicBezTo>
                <a:cubicBezTo>
                  <a:pt x="0" y="293212"/>
                  <a:pt x="310294" y="0"/>
                  <a:pt x="693062" y="0"/>
                </a:cubicBezTo>
                <a:cubicBezTo>
                  <a:pt x="1060268" y="0"/>
                  <a:pt x="1363740" y="270642"/>
                  <a:pt x="1384965" y="617053"/>
                </a:cubicBezTo>
                <a:lnTo>
                  <a:pt x="1255575" y="624133"/>
                </a:lnTo>
                <a:lnTo>
                  <a:pt x="1255575" y="624132"/>
                </a:lnTo>
                <a:cubicBezTo>
                  <a:pt x="1238094" y="346433"/>
                  <a:pt x="991441" y="129580"/>
                  <a:pt x="693062" y="129580"/>
                </a:cubicBezTo>
                <a:cubicBezTo>
                  <a:pt x="381860" y="129580"/>
                  <a:pt x="129581" y="364777"/>
                  <a:pt x="129581" y="654909"/>
                </a:cubicBezTo>
                <a:cubicBezTo>
                  <a:pt x="129581" y="909116"/>
                  <a:pt x="324817" y="1126850"/>
                  <a:pt x="593167" y="1171916"/>
                </a:cubicBezTo>
                <a:lnTo>
                  <a:pt x="568580" y="1299168"/>
                </a:ln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空心弧 5"/>
          <p:cNvSpPr/>
          <p:nvPr/>
        </p:nvSpPr>
        <p:spPr>
          <a:xfrm flipH="1">
            <a:off x="1697040" y="604800"/>
            <a:ext cx="1386000" cy="1311480"/>
          </a:xfrm>
          <a:custGeom>
            <a:avLst/>
            <a:gdLst>
              <a:gd name="textAreaLeft" fmla="*/ 0 w 1386000"/>
              <a:gd name="textAreaRight" fmla="*/ 1386000 w 1386000"/>
              <a:gd name="textAreaTop" fmla="*/ 0 h 1311480"/>
              <a:gd name="textAreaBottom" fmla="*/ 1311840 h 1311480"/>
            </a:gdLst>
            <a:ahLst/>
            <a:rect l="textAreaLeft" t="textAreaTop" r="textAreaRight" b="textAreaBottom"/>
            <a:pathLst>
              <a:path w="1386123" h="1309818">
                <a:moveTo>
                  <a:pt x="703015" y="1309750"/>
                </a:moveTo>
                <a:lnTo>
                  <a:pt x="703015" y="1309750"/>
                </a:lnTo>
                <a:cubicBezTo>
                  <a:pt x="699697" y="1309795"/>
                  <a:pt x="696379" y="1309818"/>
                  <a:pt x="693061" y="1309818"/>
                </a:cubicBezTo>
                <a:cubicBezTo>
                  <a:pt x="310293" y="1309818"/>
                  <a:pt x="-1" y="1016605"/>
                  <a:pt x="-1" y="654909"/>
                </a:cubicBezTo>
                <a:cubicBezTo>
                  <a:pt x="-1" y="293212"/>
                  <a:pt x="310293" y="0"/>
                  <a:pt x="693061" y="0"/>
                </a:cubicBezTo>
                <a:cubicBezTo>
                  <a:pt x="1074828" y="0"/>
                  <a:pt x="1384706" y="291739"/>
                  <a:pt x="1386118" y="652488"/>
                </a:cubicBezTo>
                <a:lnTo>
                  <a:pt x="1257966" y="652936"/>
                </a:lnTo>
                <a:lnTo>
                  <a:pt x="1257966" y="652935"/>
                </a:lnTo>
                <a:cubicBezTo>
                  <a:pt x="1256800" y="362788"/>
                  <a:pt x="1004225" y="128153"/>
                  <a:pt x="693061" y="128153"/>
                </a:cubicBezTo>
                <a:cubicBezTo>
                  <a:pt x="381070" y="128153"/>
                  <a:pt x="128152" y="363989"/>
                  <a:pt x="128152" y="654909"/>
                </a:cubicBezTo>
                <a:cubicBezTo>
                  <a:pt x="128152" y="945828"/>
                  <a:pt x="381070" y="1181665"/>
                  <a:pt x="693061" y="1181665"/>
                </a:cubicBezTo>
                <a:cubicBezTo>
                  <a:pt x="695729" y="1181665"/>
                  <a:pt x="698398" y="1181647"/>
                  <a:pt x="701067" y="1181612"/>
                </a:cubicBezTo>
                <a:lnTo>
                  <a:pt x="703015" y="1309750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空心弧 6"/>
          <p:cNvSpPr/>
          <p:nvPr/>
        </p:nvSpPr>
        <p:spPr>
          <a:xfrm flipH="1" rot="16200000">
            <a:off x="1692360" y="1824120"/>
            <a:ext cx="1386000" cy="1309680"/>
          </a:xfrm>
          <a:custGeom>
            <a:avLst/>
            <a:gdLst>
              <a:gd name="textAreaLeft" fmla="*/ 0 w 1386000"/>
              <a:gd name="textAreaRight" fmla="*/ 1386000 w 1386000"/>
              <a:gd name="textAreaTop" fmla="*/ 0 h 1309680"/>
              <a:gd name="textAreaBottom" fmla="*/ 660240 h 1309680"/>
            </a:gdLst>
            <a:ahLst/>
            <a:rect l="textAreaLeft" t="textAreaTop" r="textAreaRight" b="textAreaBottom"/>
            <a:pathLst>
              <a:path w="1386123" h="1309818">
                <a:moveTo>
                  <a:pt x="23" y="660213"/>
                </a:moveTo>
                <a:lnTo>
                  <a:pt x="22" y="660213"/>
                </a:lnTo>
                <a:cubicBezTo>
                  <a:pt x="7" y="658445"/>
                  <a:pt x="0" y="656677"/>
                  <a:pt x="0" y="654909"/>
                </a:cubicBezTo>
                <a:cubicBezTo>
                  <a:pt x="0" y="293212"/>
                  <a:pt x="310294" y="0"/>
                  <a:pt x="693062" y="0"/>
                </a:cubicBezTo>
                <a:cubicBezTo>
                  <a:pt x="1074829" y="0"/>
                  <a:pt x="1384707" y="291739"/>
                  <a:pt x="1386119" y="652488"/>
                </a:cubicBezTo>
                <a:lnTo>
                  <a:pt x="1257966" y="652936"/>
                </a:lnTo>
                <a:lnTo>
                  <a:pt x="1257966" y="652935"/>
                </a:lnTo>
                <a:cubicBezTo>
                  <a:pt x="1256800" y="362788"/>
                  <a:pt x="1004225" y="128153"/>
                  <a:pt x="693061" y="128153"/>
                </a:cubicBezTo>
                <a:cubicBezTo>
                  <a:pt x="381070" y="128153"/>
                  <a:pt x="128152" y="363989"/>
                  <a:pt x="128152" y="654909"/>
                </a:cubicBezTo>
                <a:cubicBezTo>
                  <a:pt x="128152" y="656350"/>
                  <a:pt x="128158" y="657791"/>
                  <a:pt x="128171" y="659231"/>
                </a:cubicBezTo>
                <a:lnTo>
                  <a:pt x="23" y="660213"/>
                </a:lnTo>
                <a:close/>
              </a:path>
            </a:pathLst>
          </a:cu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空心弧 7"/>
          <p:cNvSpPr/>
          <p:nvPr/>
        </p:nvSpPr>
        <p:spPr>
          <a:xfrm flipH="1" rot="5400000">
            <a:off x="1685880" y="3083040"/>
            <a:ext cx="1386000" cy="1309680"/>
          </a:xfrm>
          <a:custGeom>
            <a:avLst/>
            <a:gdLst>
              <a:gd name="textAreaLeft" fmla="*/ 0 w 1386000"/>
              <a:gd name="textAreaRight" fmla="*/ 1386000 w 1386000"/>
              <a:gd name="textAreaTop" fmla="*/ 0 h 1309680"/>
              <a:gd name="textAreaBottom" fmla="*/ 1310040 h 1309680"/>
            </a:gdLst>
            <a:ahLst/>
            <a:rect l="textAreaLeft" t="textAreaTop" r="textAreaRight" b="textAreaBottom"/>
            <a:pathLst>
              <a:path w="1386123" h="1309818">
                <a:moveTo>
                  <a:pt x="703015" y="1309750"/>
                </a:moveTo>
                <a:lnTo>
                  <a:pt x="703015" y="1309750"/>
                </a:lnTo>
                <a:cubicBezTo>
                  <a:pt x="699697" y="1309795"/>
                  <a:pt x="696379" y="1309818"/>
                  <a:pt x="693061" y="1309818"/>
                </a:cubicBezTo>
                <a:cubicBezTo>
                  <a:pt x="310293" y="1309818"/>
                  <a:pt x="-1" y="1016605"/>
                  <a:pt x="-1" y="654909"/>
                </a:cubicBezTo>
                <a:cubicBezTo>
                  <a:pt x="-1" y="293212"/>
                  <a:pt x="310293" y="0"/>
                  <a:pt x="693061" y="0"/>
                </a:cubicBezTo>
                <a:cubicBezTo>
                  <a:pt x="1074828" y="0"/>
                  <a:pt x="1384706" y="291739"/>
                  <a:pt x="1386118" y="652488"/>
                </a:cubicBezTo>
                <a:lnTo>
                  <a:pt x="1257966" y="652936"/>
                </a:lnTo>
                <a:lnTo>
                  <a:pt x="1257966" y="652935"/>
                </a:lnTo>
                <a:cubicBezTo>
                  <a:pt x="1256800" y="362788"/>
                  <a:pt x="1004225" y="128153"/>
                  <a:pt x="693061" y="128153"/>
                </a:cubicBezTo>
                <a:cubicBezTo>
                  <a:pt x="381070" y="128153"/>
                  <a:pt x="128152" y="363989"/>
                  <a:pt x="128152" y="654909"/>
                </a:cubicBezTo>
                <a:cubicBezTo>
                  <a:pt x="128152" y="945828"/>
                  <a:pt x="381070" y="1181665"/>
                  <a:pt x="693061" y="1181665"/>
                </a:cubicBezTo>
                <a:cubicBezTo>
                  <a:pt x="695729" y="1181665"/>
                  <a:pt x="698398" y="1181647"/>
                  <a:pt x="701067" y="1181612"/>
                </a:cubicBezTo>
                <a:lnTo>
                  <a:pt x="703015" y="1309750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5" name="组合 26"/>
          <p:cNvGrpSpPr/>
          <p:nvPr/>
        </p:nvGrpSpPr>
        <p:grpSpPr>
          <a:xfrm>
            <a:off x="-716040" y="3035160"/>
            <a:ext cx="2567880" cy="1386000"/>
            <a:chOff x="-716040" y="3035160"/>
            <a:chExt cx="2567880" cy="1386000"/>
          </a:xfrm>
        </p:grpSpPr>
        <p:sp>
          <p:nvSpPr>
            <p:cNvPr id="576" name="空心弧 8"/>
            <p:cNvSpPr/>
            <p:nvPr/>
          </p:nvSpPr>
          <p:spPr>
            <a:xfrm flipH="1" rot="16200000">
              <a:off x="504000" y="3073680"/>
              <a:ext cx="1386000" cy="1308600"/>
            </a:xfrm>
            <a:custGeom>
              <a:avLst/>
              <a:gdLst>
                <a:gd name="textAreaLeft" fmla="*/ 360 w 1386000"/>
                <a:gd name="textAreaRight" fmla="*/ 703440 w 1386000"/>
                <a:gd name="textAreaTop" fmla="*/ 0 h 1308600"/>
                <a:gd name="textAreaBottom" fmla="*/ 1308960 h 1308600"/>
              </a:gdLst>
              <a:ahLst/>
              <a:rect l="textAreaLeft" t="textAreaTop" r="textAreaRight" b="textAreaBottom"/>
              <a:pathLst>
                <a:path w="1386123" h="1309818">
                  <a:moveTo>
                    <a:pt x="703015" y="1309750"/>
                  </a:moveTo>
                  <a:lnTo>
                    <a:pt x="703015" y="1309750"/>
                  </a:lnTo>
                  <a:cubicBezTo>
                    <a:pt x="699697" y="1309795"/>
                    <a:pt x="696379" y="1309818"/>
                    <a:pt x="693061" y="1309818"/>
                  </a:cubicBezTo>
                  <a:cubicBezTo>
                    <a:pt x="310293" y="1309818"/>
                    <a:pt x="-1" y="1016605"/>
                    <a:pt x="-1" y="654909"/>
                  </a:cubicBezTo>
                  <a:cubicBezTo>
                    <a:pt x="-1" y="293212"/>
                    <a:pt x="310293" y="0"/>
                    <a:pt x="693061" y="0"/>
                  </a:cubicBezTo>
                  <a:cubicBezTo>
                    <a:pt x="693765" y="0"/>
                    <a:pt x="694469" y="1"/>
                    <a:pt x="695172" y="3"/>
                  </a:cubicBezTo>
                  <a:lnTo>
                    <a:pt x="694758" y="128757"/>
                  </a:lnTo>
                  <a:lnTo>
                    <a:pt x="694757" y="128757"/>
                  </a:lnTo>
                  <a:cubicBezTo>
                    <a:pt x="694192" y="128755"/>
                    <a:pt x="693627" y="128755"/>
                    <a:pt x="693062" y="128755"/>
                  </a:cubicBezTo>
                  <a:cubicBezTo>
                    <a:pt x="381404" y="128755"/>
                    <a:pt x="128756" y="364322"/>
                    <a:pt x="128756" y="654909"/>
                  </a:cubicBezTo>
                  <a:cubicBezTo>
                    <a:pt x="128756" y="945495"/>
                    <a:pt x="381404" y="1181063"/>
                    <a:pt x="693062" y="1181063"/>
                  </a:cubicBezTo>
                  <a:cubicBezTo>
                    <a:pt x="695727" y="1181063"/>
                    <a:pt x="698392" y="1181045"/>
                    <a:pt x="701058" y="1181010"/>
                  </a:cubicBezTo>
                  <a:lnTo>
                    <a:pt x="703015" y="1309750"/>
                  </a:ln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空心弧 9"/>
            <p:cNvSpPr/>
            <p:nvPr/>
          </p:nvSpPr>
          <p:spPr>
            <a:xfrm flipH="1" rot="10800000">
              <a:off x="-716400" y="3072600"/>
              <a:ext cx="1384920" cy="1310040"/>
            </a:xfrm>
            <a:custGeom>
              <a:avLst/>
              <a:gdLst>
                <a:gd name="textAreaLeft" fmla="*/ 657360 w 1384920"/>
                <a:gd name="textAreaRight" fmla="*/ 1384920 w 1384920"/>
                <a:gd name="textAreaTop" fmla="*/ 0 h 1310040"/>
                <a:gd name="textAreaBottom" fmla="*/ 653040 h 1310040"/>
              </a:gdLst>
              <a:ahLst/>
              <a:rect l="textAreaLeft" t="textAreaTop" r="textAreaRight" b="textAreaBottom"/>
              <a:pathLst>
                <a:path w="1386123" h="1309818">
                  <a:moveTo>
                    <a:pt x="658080" y="835"/>
                  </a:moveTo>
                  <a:lnTo>
                    <a:pt x="658079" y="834"/>
                  </a:lnTo>
                  <a:cubicBezTo>
                    <a:pt x="669731" y="278"/>
                    <a:pt x="681395" y="0"/>
                    <a:pt x="693061" y="0"/>
                  </a:cubicBezTo>
                  <a:cubicBezTo>
                    <a:pt x="1074828" y="0"/>
                    <a:pt x="1384706" y="291739"/>
                    <a:pt x="1386118" y="652488"/>
                  </a:cubicBezTo>
                  <a:lnTo>
                    <a:pt x="1257966" y="652936"/>
                  </a:lnTo>
                  <a:lnTo>
                    <a:pt x="1257966" y="652935"/>
                  </a:lnTo>
                  <a:cubicBezTo>
                    <a:pt x="1256800" y="362788"/>
                    <a:pt x="1004225" y="128153"/>
                    <a:pt x="693061" y="128153"/>
                  </a:cubicBezTo>
                  <a:cubicBezTo>
                    <a:pt x="683677" y="128153"/>
                    <a:pt x="674295" y="128371"/>
                    <a:pt x="664923" y="128806"/>
                  </a:cubicBezTo>
                  <a:lnTo>
                    <a:pt x="658080" y="835"/>
                  </a:lnTo>
                  <a:close/>
                </a:path>
              </a:pathLst>
            </a:custGeom>
            <a:solidFill>
              <a:srgbClr val="e46c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8" name="TextBox 10"/>
          <p:cNvSpPr/>
          <p:nvPr/>
        </p:nvSpPr>
        <p:spPr>
          <a:xfrm>
            <a:off x="2134440" y="915840"/>
            <a:ext cx="488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Box 11"/>
          <p:cNvSpPr/>
          <p:nvPr/>
        </p:nvSpPr>
        <p:spPr>
          <a:xfrm>
            <a:off x="2134080" y="3373560"/>
            <a:ext cx="465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Box 21"/>
          <p:cNvSpPr/>
          <p:nvPr/>
        </p:nvSpPr>
        <p:spPr>
          <a:xfrm>
            <a:off x="3889440" y="808200"/>
            <a:ext cx="4282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here to add your text or Copy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nd paste i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Box 22"/>
          <p:cNvSpPr/>
          <p:nvPr/>
        </p:nvSpPr>
        <p:spPr>
          <a:xfrm>
            <a:off x="3889440" y="3274920"/>
            <a:ext cx="4282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here to add your text or Copy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nd paste i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2" name="组合 25"/>
          <p:cNvGrpSpPr/>
          <p:nvPr/>
        </p:nvGrpSpPr>
        <p:grpSpPr>
          <a:xfrm>
            <a:off x="6838920" y="-498600"/>
            <a:ext cx="2755440" cy="1789560"/>
            <a:chOff x="6838920" y="-498600"/>
            <a:chExt cx="2755440" cy="1789560"/>
          </a:xfrm>
        </p:grpSpPr>
        <p:sp>
          <p:nvSpPr>
            <p:cNvPr id="583" name="空心弧 23"/>
            <p:cNvSpPr/>
            <p:nvPr/>
          </p:nvSpPr>
          <p:spPr>
            <a:xfrm flipH="1" rot="5896200">
              <a:off x="6894000" y="-374400"/>
              <a:ext cx="1383840" cy="1309680"/>
            </a:xfrm>
            <a:custGeom>
              <a:avLst/>
              <a:gdLst>
                <a:gd name="textAreaLeft" fmla="*/ 700920 w 1383840"/>
                <a:gd name="textAreaRight" fmla="*/ 1384200 w 1383840"/>
                <a:gd name="textAreaTop" fmla="*/ 0 h 1309680"/>
                <a:gd name="textAreaBottom" fmla="*/ 664200 h 1309680"/>
              </a:gdLst>
              <a:ahLst/>
              <a:rect l="textAreaLeft" t="textAreaTop" r="textAreaRight" b="textAreaBottom"/>
              <a:pathLst>
                <a:path w="1386123" h="1309818">
                  <a:moveTo>
                    <a:pt x="704386" y="87"/>
                  </a:moveTo>
                  <a:lnTo>
                    <a:pt x="704385" y="87"/>
                  </a:lnTo>
                  <a:cubicBezTo>
                    <a:pt x="1082688" y="5929"/>
                    <a:pt x="1386124" y="297384"/>
                    <a:pt x="1386124" y="654909"/>
                  </a:cubicBezTo>
                  <a:cubicBezTo>
                    <a:pt x="1386124" y="657995"/>
                    <a:pt x="1386100" y="661081"/>
                    <a:pt x="1386054" y="664167"/>
                  </a:cubicBezTo>
                  <a:lnTo>
                    <a:pt x="1254337" y="662407"/>
                  </a:lnTo>
                  <a:cubicBezTo>
                    <a:pt x="1254375" y="659907"/>
                    <a:pt x="1254395" y="657408"/>
                    <a:pt x="1254395" y="654909"/>
                  </a:cubicBezTo>
                  <a:cubicBezTo>
                    <a:pt x="1254395" y="369251"/>
                    <a:pt x="1008556" y="136398"/>
                    <a:pt x="702107" y="131795"/>
                  </a:cubicBezTo>
                  <a:lnTo>
                    <a:pt x="704386" y="87"/>
                  </a:lnTo>
                  <a:close/>
                </a:path>
              </a:pathLst>
            </a:custGeom>
            <a:solidFill>
              <a:srgbClr val="e46c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空心弧 24"/>
            <p:cNvSpPr/>
            <p:nvPr/>
          </p:nvSpPr>
          <p:spPr>
            <a:xfrm flipH="1" rot="6489000">
              <a:off x="8064000" y="-225360"/>
              <a:ext cx="1383840" cy="1309680"/>
            </a:xfrm>
            <a:custGeom>
              <a:avLst/>
              <a:gdLst>
                <a:gd name="textAreaLeft" fmla="*/ 360 w 1383840"/>
                <a:gd name="textAreaRight" fmla="*/ 1383120 w 1383840"/>
                <a:gd name="textAreaTop" fmla="*/ 0 h 1309680"/>
                <a:gd name="textAreaBottom" fmla="*/ 1299240 h 1309680"/>
              </a:gdLst>
              <a:ahLst/>
              <a:rect l="textAreaLeft" t="textAreaTop" r="textAreaRight" b="textAreaBottom"/>
              <a:pathLst>
                <a:path w="1386123" h="1309818">
                  <a:moveTo>
                    <a:pt x="568580" y="1299168"/>
                  </a:moveTo>
                  <a:lnTo>
                    <a:pt x="568580" y="1299167"/>
                  </a:lnTo>
                  <a:cubicBezTo>
                    <a:pt x="239269" y="1242351"/>
                    <a:pt x="0" y="971235"/>
                    <a:pt x="0" y="654909"/>
                  </a:cubicBezTo>
                  <a:cubicBezTo>
                    <a:pt x="0" y="293212"/>
                    <a:pt x="310294" y="0"/>
                    <a:pt x="693062" y="0"/>
                  </a:cubicBezTo>
                  <a:cubicBezTo>
                    <a:pt x="1060268" y="0"/>
                    <a:pt x="1363740" y="270642"/>
                    <a:pt x="1384965" y="617053"/>
                  </a:cubicBezTo>
                  <a:lnTo>
                    <a:pt x="1255575" y="624133"/>
                  </a:lnTo>
                  <a:lnTo>
                    <a:pt x="1255575" y="624132"/>
                  </a:lnTo>
                  <a:cubicBezTo>
                    <a:pt x="1238094" y="346433"/>
                    <a:pt x="991441" y="129580"/>
                    <a:pt x="693062" y="129580"/>
                  </a:cubicBezTo>
                  <a:cubicBezTo>
                    <a:pt x="381860" y="129580"/>
                    <a:pt x="129581" y="364777"/>
                    <a:pt x="129581" y="654909"/>
                  </a:cubicBezTo>
                  <a:cubicBezTo>
                    <a:pt x="129581" y="909116"/>
                    <a:pt x="324817" y="1126850"/>
                    <a:pt x="593167" y="1171916"/>
                  </a:cubicBezTo>
                  <a:lnTo>
                    <a:pt x="568580" y="1299168"/>
                  </a:ln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5" name="组合 27"/>
          <p:cNvGrpSpPr/>
          <p:nvPr/>
        </p:nvGrpSpPr>
        <p:grpSpPr>
          <a:xfrm>
            <a:off x="7688880" y="3372840"/>
            <a:ext cx="2171880" cy="2882520"/>
            <a:chOff x="7688880" y="3372840"/>
            <a:chExt cx="2171880" cy="2882520"/>
          </a:xfrm>
        </p:grpSpPr>
        <p:sp>
          <p:nvSpPr>
            <p:cNvPr id="586" name="空心弧 28"/>
            <p:cNvSpPr/>
            <p:nvPr/>
          </p:nvSpPr>
          <p:spPr>
            <a:xfrm flipH="1" rot="12044400">
              <a:off x="8287560" y="3575880"/>
              <a:ext cx="1386000" cy="1310400"/>
            </a:xfrm>
            <a:custGeom>
              <a:avLst/>
              <a:gdLst>
                <a:gd name="textAreaLeft" fmla="*/ 360 w 1386000"/>
                <a:gd name="textAreaRight" fmla="*/ 703440 w 1386000"/>
                <a:gd name="textAreaTop" fmla="*/ 0 h 1310400"/>
                <a:gd name="textAreaBottom" fmla="*/ 1310760 h 1310400"/>
              </a:gdLst>
              <a:ahLst/>
              <a:rect l="textAreaLeft" t="textAreaTop" r="textAreaRight" b="textAreaBottom"/>
              <a:pathLst>
                <a:path w="1386123" h="1309818">
                  <a:moveTo>
                    <a:pt x="703015" y="1309750"/>
                  </a:moveTo>
                  <a:lnTo>
                    <a:pt x="703015" y="1309750"/>
                  </a:lnTo>
                  <a:cubicBezTo>
                    <a:pt x="699697" y="1309795"/>
                    <a:pt x="696379" y="1309818"/>
                    <a:pt x="693061" y="1309818"/>
                  </a:cubicBezTo>
                  <a:cubicBezTo>
                    <a:pt x="310293" y="1309818"/>
                    <a:pt x="-1" y="1016605"/>
                    <a:pt x="-1" y="654909"/>
                  </a:cubicBezTo>
                  <a:cubicBezTo>
                    <a:pt x="-1" y="293212"/>
                    <a:pt x="310293" y="0"/>
                    <a:pt x="693061" y="0"/>
                  </a:cubicBezTo>
                  <a:cubicBezTo>
                    <a:pt x="693765" y="0"/>
                    <a:pt x="694469" y="1"/>
                    <a:pt x="695172" y="3"/>
                  </a:cubicBezTo>
                  <a:lnTo>
                    <a:pt x="694758" y="128757"/>
                  </a:lnTo>
                  <a:lnTo>
                    <a:pt x="694757" y="128757"/>
                  </a:lnTo>
                  <a:cubicBezTo>
                    <a:pt x="694192" y="128755"/>
                    <a:pt x="693627" y="128755"/>
                    <a:pt x="693062" y="128755"/>
                  </a:cubicBezTo>
                  <a:cubicBezTo>
                    <a:pt x="381404" y="128755"/>
                    <a:pt x="128756" y="364322"/>
                    <a:pt x="128756" y="654909"/>
                  </a:cubicBezTo>
                  <a:cubicBezTo>
                    <a:pt x="128756" y="945495"/>
                    <a:pt x="381404" y="1181063"/>
                    <a:pt x="693062" y="1181063"/>
                  </a:cubicBezTo>
                  <a:cubicBezTo>
                    <a:pt x="695727" y="1181063"/>
                    <a:pt x="698392" y="1181045"/>
                    <a:pt x="701058" y="1181010"/>
                  </a:cubicBezTo>
                  <a:lnTo>
                    <a:pt x="703015" y="1309750"/>
                  </a:ln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空心弧 29"/>
            <p:cNvSpPr/>
            <p:nvPr/>
          </p:nvSpPr>
          <p:spPr>
            <a:xfrm flipH="1" rot="6644400">
              <a:off x="7853040" y="4719600"/>
              <a:ext cx="1386720" cy="1310040"/>
            </a:xfrm>
            <a:custGeom>
              <a:avLst/>
              <a:gdLst>
                <a:gd name="textAreaLeft" fmla="*/ 658800 w 1386720"/>
                <a:gd name="textAreaRight" fmla="*/ 1387080 w 1386720"/>
                <a:gd name="textAreaTop" fmla="*/ 0 h 1310040"/>
                <a:gd name="textAreaBottom" fmla="*/ 653040 h 1310040"/>
              </a:gdLst>
              <a:ahLst/>
              <a:rect l="textAreaLeft" t="textAreaTop" r="textAreaRight" b="textAreaBottom"/>
              <a:pathLst>
                <a:path w="1386123" h="1309818">
                  <a:moveTo>
                    <a:pt x="658080" y="835"/>
                  </a:moveTo>
                  <a:lnTo>
                    <a:pt x="658079" y="834"/>
                  </a:lnTo>
                  <a:cubicBezTo>
                    <a:pt x="669731" y="278"/>
                    <a:pt x="681395" y="0"/>
                    <a:pt x="693061" y="0"/>
                  </a:cubicBezTo>
                  <a:cubicBezTo>
                    <a:pt x="1074828" y="0"/>
                    <a:pt x="1384706" y="291739"/>
                    <a:pt x="1386118" y="652488"/>
                  </a:cubicBezTo>
                  <a:lnTo>
                    <a:pt x="1257966" y="652936"/>
                  </a:lnTo>
                  <a:lnTo>
                    <a:pt x="1257966" y="652935"/>
                  </a:lnTo>
                  <a:cubicBezTo>
                    <a:pt x="1256800" y="362788"/>
                    <a:pt x="1004225" y="128153"/>
                    <a:pt x="693061" y="128153"/>
                  </a:cubicBezTo>
                  <a:cubicBezTo>
                    <a:pt x="683677" y="128153"/>
                    <a:pt x="674295" y="128371"/>
                    <a:pt x="664923" y="128806"/>
                  </a:cubicBezTo>
                  <a:lnTo>
                    <a:pt x="658080" y="835"/>
                  </a:lnTo>
                  <a:close/>
                </a:path>
              </a:pathLst>
            </a:custGeom>
            <a:solidFill>
              <a:srgbClr val="e46c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矩形 10"/>
          <p:cNvSpPr/>
          <p:nvPr/>
        </p:nvSpPr>
        <p:spPr>
          <a:xfrm flipH="1" rot="13639800">
            <a:off x="2774160" y="2047320"/>
            <a:ext cx="186840" cy="11772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圆角右箭头 11"/>
          <p:cNvSpPr/>
          <p:nvPr/>
        </p:nvSpPr>
        <p:spPr>
          <a:xfrm flipH="1" flipV="1" rot="13500000">
            <a:off x="2234160" y="1435320"/>
            <a:ext cx="460080" cy="865080"/>
          </a:xfrm>
          <a:custGeom>
            <a:avLst/>
            <a:gdLst>
              <a:gd name="textAreaLeft" fmla="*/ 360 w 460080"/>
              <a:gd name="textAreaRight" fmla="*/ 460800 w 460080"/>
              <a:gd name="textAreaTop" fmla="*/ -360 h 865080"/>
              <a:gd name="textAreaBottom" fmla="*/ 865080 h 865080"/>
            </a:gdLst>
            <a:ahLst/>
            <a:rect l="textAreaLeft" t="textAreaTop" r="textAreaRight" b="textAreaBottom"/>
            <a:pathLst>
              <a:path w="864998" h="461497">
                <a:moveTo>
                  <a:pt x="0" y="461497"/>
                </a:moveTo>
                <a:lnTo>
                  <a:pt x="0" y="459831"/>
                </a:lnTo>
                <a:cubicBezTo>
                  <a:pt x="0" y="231580"/>
                  <a:pt x="185033" y="46547"/>
                  <a:pt x="413284" y="46547"/>
                </a:cubicBezTo>
                <a:cubicBezTo>
                  <a:pt x="413284" y="46547"/>
                  <a:pt x="413284" y="46547"/>
                  <a:pt x="413284" y="46547"/>
                </a:cubicBezTo>
                <a:lnTo>
                  <a:pt x="749624" y="46547"/>
                </a:lnTo>
                <a:lnTo>
                  <a:pt x="749624" y="0"/>
                </a:lnTo>
                <a:lnTo>
                  <a:pt x="864998" y="103611"/>
                </a:lnTo>
                <a:lnTo>
                  <a:pt x="749624" y="207221"/>
                </a:lnTo>
                <a:lnTo>
                  <a:pt x="749624" y="160675"/>
                </a:lnTo>
                <a:lnTo>
                  <a:pt x="413284" y="160675"/>
                </a:lnTo>
                <a:lnTo>
                  <a:pt x="413283" y="160675"/>
                </a:lnTo>
                <a:cubicBezTo>
                  <a:pt x="248064" y="160675"/>
                  <a:pt x="114128" y="294611"/>
                  <a:pt x="114128" y="459830"/>
                </a:cubicBezTo>
                <a:lnTo>
                  <a:pt x="114128" y="461497"/>
                </a:lnTo>
                <a:lnTo>
                  <a:pt x="0" y="461497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下箭头 12"/>
          <p:cNvSpPr/>
          <p:nvPr/>
        </p:nvSpPr>
        <p:spPr>
          <a:xfrm flipH="1" rot="13500000">
            <a:off x="1750320" y="1655280"/>
            <a:ext cx="206280" cy="600120"/>
          </a:xfrm>
          <a:prstGeom prst="downArrow">
            <a:avLst>
              <a:gd name="adj1" fmla="val 50000"/>
              <a:gd name="adj2" fmla="val 49982"/>
            </a:avLst>
          </a:prstGeom>
          <a:solidFill>
            <a:srgbClr val="93cdd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矩形 13"/>
          <p:cNvSpPr/>
          <p:nvPr/>
        </p:nvSpPr>
        <p:spPr>
          <a:xfrm flipH="1" rot="13639800">
            <a:off x="7053840" y="2043720"/>
            <a:ext cx="185760" cy="11736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矩形 14"/>
          <p:cNvSpPr/>
          <p:nvPr/>
        </p:nvSpPr>
        <p:spPr>
          <a:xfrm rot="18760200">
            <a:off x="7053840" y="3016800"/>
            <a:ext cx="185760" cy="11772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圆角右箭头 15"/>
          <p:cNvSpPr/>
          <p:nvPr/>
        </p:nvSpPr>
        <p:spPr>
          <a:xfrm flipH="1" flipV="1" rot="13500000">
            <a:off x="6505920" y="1435320"/>
            <a:ext cx="461880" cy="865440"/>
          </a:xfrm>
          <a:custGeom>
            <a:avLst/>
            <a:gdLst>
              <a:gd name="textAreaLeft" fmla="*/ -360 w 461880"/>
              <a:gd name="textAreaRight" fmla="*/ 461880 w 461880"/>
              <a:gd name="textAreaTop" fmla="*/ 360 h 865440"/>
              <a:gd name="textAreaBottom" fmla="*/ 866160 h 865440"/>
            </a:gdLst>
            <a:ahLst/>
            <a:rect l="textAreaLeft" t="textAreaTop" r="textAreaRight" b="textAreaBottom"/>
            <a:pathLst>
              <a:path w="864998" h="461497">
                <a:moveTo>
                  <a:pt x="0" y="461497"/>
                </a:moveTo>
                <a:lnTo>
                  <a:pt x="0" y="459831"/>
                </a:lnTo>
                <a:cubicBezTo>
                  <a:pt x="0" y="231580"/>
                  <a:pt x="185033" y="46547"/>
                  <a:pt x="413284" y="46547"/>
                </a:cubicBezTo>
                <a:cubicBezTo>
                  <a:pt x="413284" y="46547"/>
                  <a:pt x="413284" y="46547"/>
                  <a:pt x="413284" y="46547"/>
                </a:cubicBezTo>
                <a:lnTo>
                  <a:pt x="749624" y="46547"/>
                </a:lnTo>
                <a:lnTo>
                  <a:pt x="749624" y="0"/>
                </a:lnTo>
                <a:lnTo>
                  <a:pt x="864998" y="103611"/>
                </a:lnTo>
                <a:lnTo>
                  <a:pt x="749624" y="207221"/>
                </a:lnTo>
                <a:lnTo>
                  <a:pt x="749624" y="160675"/>
                </a:lnTo>
                <a:lnTo>
                  <a:pt x="413284" y="160675"/>
                </a:lnTo>
                <a:lnTo>
                  <a:pt x="413283" y="160675"/>
                </a:lnTo>
                <a:cubicBezTo>
                  <a:pt x="248064" y="160675"/>
                  <a:pt x="114128" y="294611"/>
                  <a:pt x="114128" y="459830"/>
                </a:cubicBezTo>
                <a:lnTo>
                  <a:pt x="114128" y="461497"/>
                </a:lnTo>
                <a:lnTo>
                  <a:pt x="0" y="461497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空心弧 16"/>
          <p:cNvSpPr/>
          <p:nvPr/>
        </p:nvSpPr>
        <p:spPr>
          <a:xfrm rot="14186400">
            <a:off x="6145200" y="2766600"/>
            <a:ext cx="750600" cy="769680"/>
          </a:xfrm>
          <a:custGeom>
            <a:avLst/>
            <a:gdLst>
              <a:gd name="textAreaLeft" fmla="*/ 341640 w 750600"/>
              <a:gd name="textAreaRight" fmla="*/ 750960 w 750600"/>
              <a:gd name="textAreaTop" fmla="*/ 0 h 769680"/>
              <a:gd name="textAreaBottom" fmla="*/ 569520 h 769680"/>
            </a:gdLst>
            <a:ahLst/>
            <a:rect l="textAreaLeft" t="textAreaTop" r="textAreaRight" b="textAreaBottom"/>
            <a:pathLst>
              <a:path w="750785" h="768823">
                <a:moveTo>
                  <a:pt x="341703" y="1551"/>
                </a:moveTo>
                <a:lnTo>
                  <a:pt x="341703" y="1551"/>
                </a:lnTo>
                <a:cubicBezTo>
                  <a:pt x="352904" y="517"/>
                  <a:pt x="364145" y="0"/>
                  <a:pt x="375392" y="0"/>
                </a:cubicBezTo>
                <a:cubicBezTo>
                  <a:pt x="582715" y="0"/>
                  <a:pt x="750785" y="172107"/>
                  <a:pt x="750785" y="384412"/>
                </a:cubicBezTo>
                <a:cubicBezTo>
                  <a:pt x="750785" y="448892"/>
                  <a:pt x="734945" y="512336"/>
                  <a:pt x="704725" y="568904"/>
                </a:cubicBezTo>
                <a:lnTo>
                  <a:pt x="617618" y="520106"/>
                </a:lnTo>
                <a:lnTo>
                  <a:pt x="617617" y="520105"/>
                </a:lnTo>
                <a:cubicBezTo>
                  <a:pt x="639499" y="478447"/>
                  <a:pt x="650960" y="431804"/>
                  <a:pt x="650960" y="384412"/>
                </a:cubicBezTo>
                <a:cubicBezTo>
                  <a:pt x="650960" y="227238"/>
                  <a:pt x="527584" y="99825"/>
                  <a:pt x="375392" y="99825"/>
                </a:cubicBezTo>
                <a:cubicBezTo>
                  <a:pt x="367065" y="99825"/>
                  <a:pt x="358743" y="100214"/>
                  <a:pt x="350451" y="100992"/>
                </a:cubicBezTo>
                <a:lnTo>
                  <a:pt x="341703" y="1551"/>
                </a:ln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环形箭头 17"/>
          <p:cNvSpPr/>
          <p:nvPr/>
        </p:nvSpPr>
        <p:spPr>
          <a:xfrm flipH="1" rot="3600000">
            <a:off x="6164280" y="2745360"/>
            <a:ext cx="890640" cy="806400"/>
          </a:xfrm>
          <a:custGeom>
            <a:avLst/>
            <a:gdLst>
              <a:gd name="textAreaLeft" fmla="*/ 165960 w 890640"/>
              <a:gd name="textAreaRight" fmla="*/ 724680 w 890640"/>
              <a:gd name="textAreaTop" fmla="*/ 153720 h 806400"/>
              <a:gd name="textAreaBottom" fmla="*/ 652680 h 806400"/>
            </a:gdLst>
            <a:ahLst/>
            <a:rect l="textAreaLeft" t="textAreaTop" r="textAreaRight" b="textAreaBottom"/>
            <a:pathLst>
              <a:path w="890857" h="806293">
                <a:moveTo>
                  <a:pt x="50393" y="403146"/>
                </a:moveTo>
                <a:lnTo>
                  <a:pt x="50393" y="403146"/>
                </a:lnTo>
                <a:cubicBezTo>
                  <a:pt x="50393" y="208325"/>
                  <a:pt x="227256" y="50393"/>
                  <a:pt x="445428" y="50393"/>
                </a:cubicBezTo>
                <a:cubicBezTo>
                  <a:pt x="615843" y="50393"/>
                  <a:pt x="767049" y="147980"/>
                  <a:pt x="820516" y="292472"/>
                </a:cubicBezTo>
                <a:lnTo>
                  <a:pt x="866939" y="292471"/>
                </a:lnTo>
                <a:lnTo>
                  <a:pt x="790070" y="403147"/>
                </a:lnTo>
                <a:lnTo>
                  <a:pt x="665366" y="292471"/>
                </a:lnTo>
                <a:lnTo>
                  <a:pt x="709771" y="292471"/>
                </a:lnTo>
                <a:lnTo>
                  <a:pt x="709770" y="292471"/>
                </a:lnTo>
                <a:cubicBezTo>
                  <a:pt x="660401" y="206007"/>
                  <a:pt x="557823" y="151179"/>
                  <a:pt x="445427" y="151179"/>
                </a:cubicBezTo>
                <a:cubicBezTo>
                  <a:pt x="282917" y="151179"/>
                  <a:pt x="151178" y="263988"/>
                  <a:pt x="151178" y="403145"/>
                </a:cubicBezTo>
                <a:lnTo>
                  <a:pt x="50393" y="403146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圆角右箭头 18"/>
          <p:cNvSpPr/>
          <p:nvPr/>
        </p:nvSpPr>
        <p:spPr>
          <a:xfrm flipV="1" rot="18900000">
            <a:off x="6305040" y="3077640"/>
            <a:ext cx="865440" cy="462240"/>
          </a:xfrm>
          <a:custGeom>
            <a:avLst/>
            <a:gdLst>
              <a:gd name="textAreaLeft" fmla="*/ 0 w 865440"/>
              <a:gd name="textAreaRight" fmla="*/ 865800 w 865440"/>
              <a:gd name="textAreaTop" fmla="*/ 360 h 462240"/>
              <a:gd name="textAreaBottom" fmla="*/ 462960 h 462240"/>
            </a:gdLst>
            <a:ahLst/>
            <a:rect l="textAreaLeft" t="textAreaTop" r="textAreaRight" b="textAreaBottom"/>
            <a:pathLst>
              <a:path w="864998" h="461497">
                <a:moveTo>
                  <a:pt x="0" y="461497"/>
                </a:moveTo>
                <a:lnTo>
                  <a:pt x="0" y="459831"/>
                </a:lnTo>
                <a:cubicBezTo>
                  <a:pt x="0" y="231580"/>
                  <a:pt x="185033" y="46547"/>
                  <a:pt x="413284" y="46547"/>
                </a:cubicBezTo>
                <a:cubicBezTo>
                  <a:pt x="413284" y="46547"/>
                  <a:pt x="413284" y="46547"/>
                  <a:pt x="413284" y="46547"/>
                </a:cubicBezTo>
                <a:lnTo>
                  <a:pt x="749624" y="46547"/>
                </a:lnTo>
                <a:lnTo>
                  <a:pt x="749624" y="0"/>
                </a:lnTo>
                <a:lnTo>
                  <a:pt x="864998" y="103611"/>
                </a:lnTo>
                <a:lnTo>
                  <a:pt x="749624" y="207221"/>
                </a:lnTo>
                <a:lnTo>
                  <a:pt x="749624" y="160675"/>
                </a:lnTo>
                <a:lnTo>
                  <a:pt x="413284" y="160675"/>
                </a:lnTo>
                <a:lnTo>
                  <a:pt x="413283" y="160675"/>
                </a:lnTo>
                <a:cubicBezTo>
                  <a:pt x="248064" y="160675"/>
                  <a:pt x="114128" y="294611"/>
                  <a:pt x="114128" y="459830"/>
                </a:cubicBezTo>
                <a:lnTo>
                  <a:pt x="114128" y="461497"/>
                </a:lnTo>
                <a:lnTo>
                  <a:pt x="0" y="461497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矩形 19"/>
          <p:cNvSpPr/>
          <p:nvPr/>
        </p:nvSpPr>
        <p:spPr>
          <a:xfrm>
            <a:off x="2575080" y="2529000"/>
            <a:ext cx="187200" cy="11736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矩形 20"/>
          <p:cNvSpPr/>
          <p:nvPr/>
        </p:nvSpPr>
        <p:spPr>
          <a:xfrm rot="18760200">
            <a:off x="2774880" y="3013200"/>
            <a:ext cx="187200" cy="11772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矩形 21"/>
          <p:cNvSpPr/>
          <p:nvPr/>
        </p:nvSpPr>
        <p:spPr>
          <a:xfrm flipH="1" rot="13639800">
            <a:off x="4925160" y="2043720"/>
            <a:ext cx="185760" cy="11736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矩形 22"/>
          <p:cNvSpPr/>
          <p:nvPr/>
        </p:nvSpPr>
        <p:spPr>
          <a:xfrm rot="18760200">
            <a:off x="4924800" y="3016800"/>
            <a:ext cx="185760" cy="11736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矩形 23"/>
          <p:cNvSpPr/>
          <p:nvPr/>
        </p:nvSpPr>
        <p:spPr>
          <a:xfrm flipH="1" rot="13639800">
            <a:off x="4831200" y="1677960"/>
            <a:ext cx="765360" cy="11736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矩形 24"/>
          <p:cNvSpPr/>
          <p:nvPr/>
        </p:nvSpPr>
        <p:spPr>
          <a:xfrm rot="18760200">
            <a:off x="4832280" y="3379320"/>
            <a:ext cx="765000" cy="11736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圆角右箭头 25"/>
          <p:cNvSpPr/>
          <p:nvPr/>
        </p:nvSpPr>
        <p:spPr>
          <a:xfrm flipH="1" flipV="1" rot="13500000">
            <a:off x="4370400" y="1434960"/>
            <a:ext cx="460080" cy="865080"/>
          </a:xfrm>
          <a:custGeom>
            <a:avLst/>
            <a:gdLst>
              <a:gd name="textAreaLeft" fmla="*/ 360 w 460080"/>
              <a:gd name="textAreaRight" fmla="*/ 460800 w 460080"/>
              <a:gd name="textAreaTop" fmla="*/ -360 h 865080"/>
              <a:gd name="textAreaBottom" fmla="*/ 865080 h 865080"/>
            </a:gdLst>
            <a:ahLst/>
            <a:rect l="textAreaLeft" t="textAreaTop" r="textAreaRight" b="textAreaBottom"/>
            <a:pathLst>
              <a:path w="864998" h="461497">
                <a:moveTo>
                  <a:pt x="0" y="461497"/>
                </a:moveTo>
                <a:lnTo>
                  <a:pt x="0" y="459831"/>
                </a:lnTo>
                <a:cubicBezTo>
                  <a:pt x="0" y="231580"/>
                  <a:pt x="185033" y="46547"/>
                  <a:pt x="413284" y="46547"/>
                </a:cubicBezTo>
                <a:cubicBezTo>
                  <a:pt x="413284" y="46547"/>
                  <a:pt x="413284" y="46547"/>
                  <a:pt x="413284" y="46547"/>
                </a:cubicBezTo>
                <a:lnTo>
                  <a:pt x="749624" y="46547"/>
                </a:lnTo>
                <a:lnTo>
                  <a:pt x="749624" y="0"/>
                </a:lnTo>
                <a:lnTo>
                  <a:pt x="864998" y="103611"/>
                </a:lnTo>
                <a:lnTo>
                  <a:pt x="749624" y="207221"/>
                </a:lnTo>
                <a:lnTo>
                  <a:pt x="749624" y="160675"/>
                </a:lnTo>
                <a:lnTo>
                  <a:pt x="413284" y="160675"/>
                </a:lnTo>
                <a:lnTo>
                  <a:pt x="413283" y="160675"/>
                </a:lnTo>
                <a:cubicBezTo>
                  <a:pt x="248064" y="160675"/>
                  <a:pt x="114128" y="294611"/>
                  <a:pt x="114128" y="459830"/>
                </a:cubicBezTo>
                <a:lnTo>
                  <a:pt x="114128" y="461497"/>
                </a:lnTo>
                <a:lnTo>
                  <a:pt x="0" y="461497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圆角右箭头 26"/>
          <p:cNvSpPr/>
          <p:nvPr/>
        </p:nvSpPr>
        <p:spPr>
          <a:xfrm flipH="1" flipV="1" rot="13500000">
            <a:off x="4370400" y="841320"/>
            <a:ext cx="460080" cy="865080"/>
          </a:xfrm>
          <a:custGeom>
            <a:avLst/>
            <a:gdLst>
              <a:gd name="textAreaLeft" fmla="*/ 360 w 460080"/>
              <a:gd name="textAreaRight" fmla="*/ 460800 w 460080"/>
              <a:gd name="textAreaTop" fmla="*/ -360 h 865080"/>
              <a:gd name="textAreaBottom" fmla="*/ 865080 h 865080"/>
            </a:gdLst>
            <a:ahLst/>
            <a:rect l="textAreaLeft" t="textAreaTop" r="textAreaRight" b="textAreaBottom"/>
            <a:pathLst>
              <a:path w="864998" h="461497">
                <a:moveTo>
                  <a:pt x="0" y="461497"/>
                </a:moveTo>
                <a:lnTo>
                  <a:pt x="0" y="459831"/>
                </a:lnTo>
                <a:cubicBezTo>
                  <a:pt x="0" y="231580"/>
                  <a:pt x="185033" y="46547"/>
                  <a:pt x="413284" y="46547"/>
                </a:cubicBezTo>
                <a:cubicBezTo>
                  <a:pt x="413284" y="46547"/>
                  <a:pt x="413284" y="46547"/>
                  <a:pt x="413284" y="46547"/>
                </a:cubicBezTo>
                <a:lnTo>
                  <a:pt x="749624" y="46547"/>
                </a:lnTo>
                <a:lnTo>
                  <a:pt x="749624" y="0"/>
                </a:lnTo>
                <a:lnTo>
                  <a:pt x="864998" y="103611"/>
                </a:lnTo>
                <a:lnTo>
                  <a:pt x="749624" y="207221"/>
                </a:lnTo>
                <a:lnTo>
                  <a:pt x="749624" y="160675"/>
                </a:lnTo>
                <a:lnTo>
                  <a:pt x="413284" y="160675"/>
                </a:lnTo>
                <a:lnTo>
                  <a:pt x="413283" y="160675"/>
                </a:lnTo>
                <a:cubicBezTo>
                  <a:pt x="248064" y="160675"/>
                  <a:pt x="114128" y="294611"/>
                  <a:pt x="114128" y="459830"/>
                </a:cubicBezTo>
                <a:lnTo>
                  <a:pt x="114128" y="461497"/>
                </a:lnTo>
                <a:lnTo>
                  <a:pt x="0" y="461497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圆角右箭头 27"/>
          <p:cNvSpPr/>
          <p:nvPr/>
        </p:nvSpPr>
        <p:spPr>
          <a:xfrm flipV="1" rot="18900000">
            <a:off x="4168800" y="3078720"/>
            <a:ext cx="865440" cy="460440"/>
          </a:xfrm>
          <a:custGeom>
            <a:avLst/>
            <a:gdLst>
              <a:gd name="textAreaLeft" fmla="*/ 0 w 865440"/>
              <a:gd name="textAreaRight" fmla="*/ 865800 w 865440"/>
              <a:gd name="textAreaTop" fmla="*/ -360 h 460440"/>
              <a:gd name="textAreaBottom" fmla="*/ 460440 h 460440"/>
            </a:gdLst>
            <a:ahLst/>
            <a:rect l="textAreaLeft" t="textAreaTop" r="textAreaRight" b="textAreaBottom"/>
            <a:pathLst>
              <a:path w="864998" h="461497">
                <a:moveTo>
                  <a:pt x="0" y="461497"/>
                </a:moveTo>
                <a:lnTo>
                  <a:pt x="0" y="459831"/>
                </a:lnTo>
                <a:cubicBezTo>
                  <a:pt x="0" y="231580"/>
                  <a:pt x="185033" y="46547"/>
                  <a:pt x="413284" y="46547"/>
                </a:cubicBezTo>
                <a:cubicBezTo>
                  <a:pt x="413284" y="46547"/>
                  <a:pt x="413284" y="46547"/>
                  <a:pt x="413284" y="46547"/>
                </a:cubicBezTo>
                <a:lnTo>
                  <a:pt x="749624" y="46547"/>
                </a:lnTo>
                <a:lnTo>
                  <a:pt x="749624" y="0"/>
                </a:lnTo>
                <a:lnTo>
                  <a:pt x="864998" y="103611"/>
                </a:lnTo>
                <a:lnTo>
                  <a:pt x="749624" y="207221"/>
                </a:lnTo>
                <a:lnTo>
                  <a:pt x="749624" y="160675"/>
                </a:lnTo>
                <a:lnTo>
                  <a:pt x="413284" y="160675"/>
                </a:lnTo>
                <a:lnTo>
                  <a:pt x="413283" y="160675"/>
                </a:lnTo>
                <a:cubicBezTo>
                  <a:pt x="248064" y="160675"/>
                  <a:pt x="114128" y="294611"/>
                  <a:pt x="114128" y="459830"/>
                </a:cubicBezTo>
                <a:lnTo>
                  <a:pt x="114128" y="461497"/>
                </a:lnTo>
                <a:lnTo>
                  <a:pt x="0" y="461497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圆角右箭头 28"/>
          <p:cNvSpPr/>
          <p:nvPr/>
        </p:nvSpPr>
        <p:spPr>
          <a:xfrm flipV="1" rot="18900000">
            <a:off x="4169160" y="3658320"/>
            <a:ext cx="865080" cy="460440"/>
          </a:xfrm>
          <a:custGeom>
            <a:avLst/>
            <a:gdLst>
              <a:gd name="textAreaLeft" fmla="*/ 0 w 865080"/>
              <a:gd name="textAreaRight" fmla="*/ 865440 w 865080"/>
              <a:gd name="textAreaTop" fmla="*/ -360 h 460440"/>
              <a:gd name="textAreaBottom" fmla="*/ 460440 h 460440"/>
            </a:gdLst>
            <a:ahLst/>
            <a:rect l="textAreaLeft" t="textAreaTop" r="textAreaRight" b="textAreaBottom"/>
            <a:pathLst>
              <a:path w="864998" h="461497">
                <a:moveTo>
                  <a:pt x="0" y="461497"/>
                </a:moveTo>
                <a:lnTo>
                  <a:pt x="0" y="459831"/>
                </a:lnTo>
                <a:cubicBezTo>
                  <a:pt x="0" y="231580"/>
                  <a:pt x="185033" y="46547"/>
                  <a:pt x="413284" y="46547"/>
                </a:cubicBezTo>
                <a:cubicBezTo>
                  <a:pt x="413284" y="46547"/>
                  <a:pt x="413284" y="46547"/>
                  <a:pt x="413284" y="46547"/>
                </a:cubicBezTo>
                <a:lnTo>
                  <a:pt x="749624" y="46547"/>
                </a:lnTo>
                <a:lnTo>
                  <a:pt x="749624" y="0"/>
                </a:lnTo>
                <a:lnTo>
                  <a:pt x="864998" y="103611"/>
                </a:lnTo>
                <a:lnTo>
                  <a:pt x="749624" y="207221"/>
                </a:lnTo>
                <a:lnTo>
                  <a:pt x="749624" y="160675"/>
                </a:lnTo>
                <a:lnTo>
                  <a:pt x="413284" y="160675"/>
                </a:lnTo>
                <a:lnTo>
                  <a:pt x="413283" y="160675"/>
                </a:lnTo>
                <a:cubicBezTo>
                  <a:pt x="248064" y="160675"/>
                  <a:pt x="114128" y="294611"/>
                  <a:pt x="114128" y="459830"/>
                </a:cubicBezTo>
                <a:lnTo>
                  <a:pt x="114128" y="461497"/>
                </a:lnTo>
                <a:lnTo>
                  <a:pt x="0" y="461497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下箭头 29"/>
          <p:cNvSpPr/>
          <p:nvPr/>
        </p:nvSpPr>
        <p:spPr>
          <a:xfrm rot="13508400">
            <a:off x="562680" y="3039120"/>
            <a:ext cx="206280" cy="208080"/>
          </a:xfrm>
          <a:prstGeom prst="downArrow">
            <a:avLst>
              <a:gd name="adj1" fmla="val 50000"/>
              <a:gd name="adj2" fmla="val 49964"/>
            </a:avLst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下箭头 30"/>
          <p:cNvSpPr/>
          <p:nvPr/>
        </p:nvSpPr>
        <p:spPr>
          <a:xfrm flipH="1" rot="18891600">
            <a:off x="563040" y="1931760"/>
            <a:ext cx="204840" cy="208080"/>
          </a:xfrm>
          <a:prstGeom prst="downArrow">
            <a:avLst>
              <a:gd name="adj1" fmla="val 50000"/>
              <a:gd name="adj2" fmla="val 50316"/>
            </a:avLst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下箭头 31"/>
          <p:cNvSpPr/>
          <p:nvPr/>
        </p:nvSpPr>
        <p:spPr>
          <a:xfrm rot="10800000">
            <a:off x="1118880" y="3271680"/>
            <a:ext cx="204840" cy="208080"/>
          </a:xfrm>
          <a:prstGeom prst="downArrow">
            <a:avLst>
              <a:gd name="adj1" fmla="val 50000"/>
              <a:gd name="adj2" fmla="val 50316"/>
            </a:avLst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下箭头 32"/>
          <p:cNvSpPr/>
          <p:nvPr/>
        </p:nvSpPr>
        <p:spPr>
          <a:xfrm flipH="1">
            <a:off x="1118520" y="1703520"/>
            <a:ext cx="204840" cy="207720"/>
          </a:xfrm>
          <a:prstGeom prst="downArrow">
            <a:avLst>
              <a:gd name="adj1" fmla="val 50000"/>
              <a:gd name="adj2" fmla="val 50228"/>
            </a:avLst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圆角右箭头 33"/>
          <p:cNvSpPr/>
          <p:nvPr/>
        </p:nvSpPr>
        <p:spPr>
          <a:xfrm flipV="1" rot="18900000">
            <a:off x="2032200" y="3078720"/>
            <a:ext cx="865440" cy="460440"/>
          </a:xfrm>
          <a:custGeom>
            <a:avLst/>
            <a:gdLst>
              <a:gd name="textAreaLeft" fmla="*/ 0 w 865440"/>
              <a:gd name="textAreaRight" fmla="*/ 865800 w 865440"/>
              <a:gd name="textAreaTop" fmla="*/ -360 h 460440"/>
              <a:gd name="textAreaBottom" fmla="*/ 460440 h 460440"/>
            </a:gdLst>
            <a:ahLst/>
            <a:rect l="textAreaLeft" t="textAreaTop" r="textAreaRight" b="textAreaBottom"/>
            <a:pathLst>
              <a:path w="864998" h="461497">
                <a:moveTo>
                  <a:pt x="0" y="461497"/>
                </a:moveTo>
                <a:lnTo>
                  <a:pt x="0" y="459831"/>
                </a:lnTo>
                <a:cubicBezTo>
                  <a:pt x="0" y="231580"/>
                  <a:pt x="185033" y="46547"/>
                  <a:pt x="413284" y="46547"/>
                </a:cubicBezTo>
                <a:cubicBezTo>
                  <a:pt x="413284" y="46547"/>
                  <a:pt x="413284" y="46547"/>
                  <a:pt x="413284" y="46547"/>
                </a:cubicBezTo>
                <a:lnTo>
                  <a:pt x="749624" y="46547"/>
                </a:lnTo>
                <a:lnTo>
                  <a:pt x="749624" y="0"/>
                </a:lnTo>
                <a:lnTo>
                  <a:pt x="864998" y="103611"/>
                </a:lnTo>
                <a:lnTo>
                  <a:pt x="749624" y="207221"/>
                </a:lnTo>
                <a:lnTo>
                  <a:pt x="749624" y="160675"/>
                </a:lnTo>
                <a:lnTo>
                  <a:pt x="413284" y="160675"/>
                </a:lnTo>
                <a:lnTo>
                  <a:pt x="413283" y="160675"/>
                </a:lnTo>
                <a:cubicBezTo>
                  <a:pt x="248064" y="160675"/>
                  <a:pt x="114128" y="294611"/>
                  <a:pt x="114128" y="459830"/>
                </a:cubicBezTo>
                <a:lnTo>
                  <a:pt x="114128" y="461497"/>
                </a:lnTo>
                <a:lnTo>
                  <a:pt x="0" y="461497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下箭头 34"/>
          <p:cNvSpPr/>
          <p:nvPr/>
        </p:nvSpPr>
        <p:spPr>
          <a:xfrm rot="16200000">
            <a:off x="2278080" y="2328480"/>
            <a:ext cx="206280" cy="517320"/>
          </a:xfrm>
          <a:prstGeom prst="downArrow">
            <a:avLst>
              <a:gd name="adj1" fmla="val 50000"/>
              <a:gd name="adj2" fmla="val 49797"/>
            </a:avLst>
          </a:prstGeom>
          <a:solidFill>
            <a:srgbClr val="bfbfb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下箭头 35"/>
          <p:cNvSpPr/>
          <p:nvPr/>
        </p:nvSpPr>
        <p:spPr>
          <a:xfrm rot="18900000">
            <a:off x="3132000" y="3492000"/>
            <a:ext cx="1255680" cy="206640"/>
          </a:xfrm>
          <a:prstGeom prst="downArrow">
            <a:avLst>
              <a:gd name="adj1" fmla="val 50000"/>
              <a:gd name="adj2" fmla="val 8204"/>
            </a:avLst>
          </a:prstGeom>
          <a:solidFill>
            <a:srgbClr val="93cdd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下箭头 36"/>
          <p:cNvSpPr/>
          <p:nvPr/>
        </p:nvSpPr>
        <p:spPr>
          <a:xfrm flipH="1" rot="13500000">
            <a:off x="3663720" y="955440"/>
            <a:ext cx="206280" cy="1245960"/>
          </a:xfrm>
          <a:prstGeom prst="downArrow">
            <a:avLst>
              <a:gd name="adj1" fmla="val 50000"/>
              <a:gd name="adj2" fmla="val 49915"/>
            </a:avLst>
          </a:prstGeom>
          <a:solidFill>
            <a:srgbClr val="93cdd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下箭头 37"/>
          <p:cNvSpPr/>
          <p:nvPr/>
        </p:nvSpPr>
        <p:spPr>
          <a:xfrm rot="18900000">
            <a:off x="3688920" y="3124080"/>
            <a:ext cx="617760" cy="206640"/>
          </a:xfrm>
          <a:prstGeom prst="downArrow">
            <a:avLst>
              <a:gd name="adj1" fmla="val 50000"/>
              <a:gd name="adj2" fmla="val 16690"/>
            </a:avLst>
          </a:prstGeom>
          <a:solidFill>
            <a:srgbClr val="93cdd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下箭头 38"/>
          <p:cNvSpPr/>
          <p:nvPr/>
        </p:nvSpPr>
        <p:spPr>
          <a:xfrm flipH="1" rot="13500000">
            <a:off x="3893400" y="1628280"/>
            <a:ext cx="206280" cy="631800"/>
          </a:xfrm>
          <a:prstGeom prst="downArrow">
            <a:avLst>
              <a:gd name="adj1" fmla="val 50000"/>
              <a:gd name="adj2" fmla="val 49941"/>
            </a:avLst>
          </a:prstGeom>
          <a:solidFill>
            <a:srgbClr val="93cdd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下箭头 39"/>
          <p:cNvSpPr/>
          <p:nvPr/>
        </p:nvSpPr>
        <p:spPr>
          <a:xfrm rot="18900000">
            <a:off x="5805360" y="3114360"/>
            <a:ext cx="631800" cy="206280"/>
          </a:xfrm>
          <a:prstGeom prst="downArrow">
            <a:avLst>
              <a:gd name="adj1" fmla="val 50000"/>
              <a:gd name="adj2" fmla="val 16292"/>
            </a:avLst>
          </a:prstGeom>
          <a:solidFill>
            <a:srgbClr val="93cdd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下箭头 40"/>
          <p:cNvSpPr/>
          <p:nvPr/>
        </p:nvSpPr>
        <p:spPr>
          <a:xfrm flipH="1" rot="13500000">
            <a:off x="6016320" y="1631880"/>
            <a:ext cx="206280" cy="642960"/>
          </a:xfrm>
          <a:prstGeom prst="downArrow">
            <a:avLst>
              <a:gd name="adj1" fmla="val 50000"/>
              <a:gd name="adj2" fmla="val 49943"/>
            </a:avLst>
          </a:prstGeom>
          <a:solidFill>
            <a:srgbClr val="93cdd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下箭头 41"/>
          <p:cNvSpPr/>
          <p:nvPr/>
        </p:nvSpPr>
        <p:spPr>
          <a:xfrm rot="10800000">
            <a:off x="7527600" y="1701720"/>
            <a:ext cx="204840" cy="292320"/>
          </a:xfrm>
          <a:prstGeom prst="downArrow">
            <a:avLst>
              <a:gd name="adj1" fmla="val 50000"/>
              <a:gd name="adj2" fmla="val 50363"/>
            </a:avLst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下箭头 42"/>
          <p:cNvSpPr/>
          <p:nvPr/>
        </p:nvSpPr>
        <p:spPr>
          <a:xfrm flipH="1">
            <a:off x="7527240" y="3184560"/>
            <a:ext cx="204840" cy="291960"/>
          </a:xfrm>
          <a:prstGeom prst="downArrow">
            <a:avLst>
              <a:gd name="adj1" fmla="val 50000"/>
              <a:gd name="adj2" fmla="val 50301"/>
            </a:avLst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下箭头 43"/>
          <p:cNvSpPr/>
          <p:nvPr/>
        </p:nvSpPr>
        <p:spPr>
          <a:xfrm flipH="1" rot="16200000">
            <a:off x="8258040" y="2442960"/>
            <a:ext cx="206280" cy="292320"/>
          </a:xfrm>
          <a:prstGeom prst="downArrow">
            <a:avLst>
              <a:gd name="adj1" fmla="val 50000"/>
              <a:gd name="adj2" fmla="val 50012"/>
            </a:avLst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下箭头 44"/>
          <p:cNvSpPr/>
          <p:nvPr/>
        </p:nvSpPr>
        <p:spPr>
          <a:xfrm flipH="1" rot="18974400">
            <a:off x="8044560" y="2968200"/>
            <a:ext cx="206640" cy="292320"/>
          </a:xfrm>
          <a:prstGeom prst="downArrow">
            <a:avLst>
              <a:gd name="adj1" fmla="val 50000"/>
              <a:gd name="adj2" fmla="val 49925"/>
            </a:avLst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下箭头 45"/>
          <p:cNvSpPr/>
          <p:nvPr/>
        </p:nvSpPr>
        <p:spPr>
          <a:xfrm rot="13425600">
            <a:off x="8045280" y="1920600"/>
            <a:ext cx="206640" cy="291960"/>
          </a:xfrm>
          <a:prstGeom prst="downArrow">
            <a:avLst>
              <a:gd name="adj1" fmla="val 50000"/>
              <a:gd name="adj2" fmla="val 49863"/>
            </a:avLst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椭圆 46"/>
          <p:cNvSpPr/>
          <p:nvPr/>
        </p:nvSpPr>
        <p:spPr>
          <a:xfrm rot="16200000">
            <a:off x="2758320" y="1983600"/>
            <a:ext cx="1208160" cy="1209600"/>
          </a:xfrm>
          <a:prstGeom prst="ellipse">
            <a:avLst/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椭圆 47"/>
          <p:cNvSpPr/>
          <p:nvPr/>
        </p:nvSpPr>
        <p:spPr>
          <a:xfrm rot="16200000">
            <a:off x="7026120" y="1984320"/>
            <a:ext cx="1208160" cy="1208160"/>
          </a:xfrm>
          <a:prstGeom prst="ellipse">
            <a:avLst/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椭圆 48"/>
          <p:cNvSpPr/>
          <p:nvPr/>
        </p:nvSpPr>
        <p:spPr>
          <a:xfrm rot="16200000">
            <a:off x="4879800" y="1984320"/>
            <a:ext cx="1208160" cy="1208160"/>
          </a:xfrm>
          <a:prstGeom prst="ellipse">
            <a:avLst/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TextBox 49"/>
          <p:cNvSpPr/>
          <p:nvPr/>
        </p:nvSpPr>
        <p:spPr>
          <a:xfrm>
            <a:off x="11520" y="1682640"/>
            <a:ext cx="1024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Breaking New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TextBox 50"/>
          <p:cNvSpPr/>
          <p:nvPr/>
        </p:nvSpPr>
        <p:spPr>
          <a:xfrm>
            <a:off x="86760" y="3244680"/>
            <a:ext cx="7614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Send Dat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TextBox 51"/>
          <p:cNvSpPr/>
          <p:nvPr/>
        </p:nvSpPr>
        <p:spPr>
          <a:xfrm>
            <a:off x="791280" y="1276200"/>
            <a:ext cx="8604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Theories T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Be Explore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TextBox 52"/>
          <p:cNvSpPr/>
          <p:nvPr/>
        </p:nvSpPr>
        <p:spPr>
          <a:xfrm>
            <a:off x="857520" y="3481560"/>
            <a:ext cx="7279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Recurr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Event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TextBox 53"/>
          <p:cNvSpPr/>
          <p:nvPr/>
        </p:nvSpPr>
        <p:spPr>
          <a:xfrm>
            <a:off x="1701360" y="3562200"/>
            <a:ext cx="12200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What To Compar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Or Show Chang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TextBox 54"/>
          <p:cNvSpPr/>
          <p:nvPr/>
        </p:nvSpPr>
        <p:spPr>
          <a:xfrm>
            <a:off x="1645560" y="1204920"/>
            <a:ext cx="13284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What Other Dat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Sets To Use With It?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TextBox 55"/>
          <p:cNvSpPr/>
          <p:nvPr/>
        </p:nvSpPr>
        <p:spPr>
          <a:xfrm>
            <a:off x="1766160" y="2262240"/>
            <a:ext cx="1055520" cy="5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What Does Th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Data Mea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TextBox 56"/>
          <p:cNvSpPr/>
          <p:nvPr/>
        </p:nvSpPr>
        <p:spPr>
          <a:xfrm>
            <a:off x="3073680" y="2373480"/>
            <a:ext cx="5770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Sprea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Sheet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TextBox 57"/>
          <p:cNvSpPr/>
          <p:nvPr/>
        </p:nvSpPr>
        <p:spPr>
          <a:xfrm>
            <a:off x="5037840" y="2287440"/>
            <a:ext cx="89100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Perfor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Calculatio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On The Dat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TextBox 58"/>
          <p:cNvSpPr/>
          <p:nvPr/>
        </p:nvSpPr>
        <p:spPr>
          <a:xfrm>
            <a:off x="7336440" y="2457360"/>
            <a:ext cx="5875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Outpu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TextBox 59"/>
          <p:cNvSpPr/>
          <p:nvPr/>
        </p:nvSpPr>
        <p:spPr>
          <a:xfrm>
            <a:off x="3942360" y="4141800"/>
            <a:ext cx="1008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Data In Wro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Forma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TextBox 60"/>
          <p:cNvSpPr/>
          <p:nvPr/>
        </p:nvSpPr>
        <p:spPr>
          <a:xfrm>
            <a:off x="3810600" y="592200"/>
            <a:ext cx="1198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Data Measured I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Different Unit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TextBox 61"/>
          <p:cNvSpPr/>
          <p:nvPr/>
        </p:nvSpPr>
        <p:spPr>
          <a:xfrm>
            <a:off x="4132080" y="2814480"/>
            <a:ext cx="6289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Merge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Cell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TextBox 62"/>
          <p:cNvSpPr/>
          <p:nvPr/>
        </p:nvSpPr>
        <p:spPr>
          <a:xfrm>
            <a:off x="3869640" y="1938240"/>
            <a:ext cx="1142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Unnecessar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Columns Of Dat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TextBox 63"/>
          <p:cNvSpPr/>
          <p:nvPr/>
        </p:nvSpPr>
        <p:spPr>
          <a:xfrm>
            <a:off x="6110280" y="1184400"/>
            <a:ext cx="9014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Sanity Check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The Result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TextBox 64"/>
          <p:cNvSpPr/>
          <p:nvPr/>
        </p:nvSpPr>
        <p:spPr>
          <a:xfrm>
            <a:off x="6144480" y="3560760"/>
            <a:ext cx="8344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Recalculat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If Neede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TextBox 65"/>
          <p:cNvSpPr/>
          <p:nvPr/>
        </p:nvSpPr>
        <p:spPr>
          <a:xfrm>
            <a:off x="7390440" y="1468440"/>
            <a:ext cx="4795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Stor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TextBox 66"/>
          <p:cNvSpPr/>
          <p:nvPr/>
        </p:nvSpPr>
        <p:spPr>
          <a:xfrm>
            <a:off x="7167960" y="3463920"/>
            <a:ext cx="9244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Our Graphic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Te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TextBox 67"/>
          <p:cNvSpPr/>
          <p:nvPr/>
        </p:nvSpPr>
        <p:spPr>
          <a:xfrm>
            <a:off x="8184240" y="3159000"/>
            <a:ext cx="63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Free Viz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Tool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TextBox 68"/>
          <p:cNvSpPr/>
          <p:nvPr/>
        </p:nvSpPr>
        <p:spPr>
          <a:xfrm>
            <a:off x="8071920" y="1724040"/>
            <a:ext cx="8438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Just Publish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TextBox 69"/>
          <p:cNvSpPr/>
          <p:nvPr/>
        </p:nvSpPr>
        <p:spPr>
          <a:xfrm>
            <a:off x="8461800" y="2327400"/>
            <a:ext cx="61812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Googl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Fus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Tabl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下箭头 70"/>
          <p:cNvSpPr/>
          <p:nvPr/>
        </p:nvSpPr>
        <p:spPr>
          <a:xfrm rot="16200000">
            <a:off x="1876320" y="2370960"/>
            <a:ext cx="206280" cy="432000"/>
          </a:xfrm>
          <a:prstGeom prst="downArrow">
            <a:avLst>
              <a:gd name="adj1" fmla="val 50000"/>
              <a:gd name="adj2" fmla="val 49922"/>
            </a:avLst>
          </a:prstGeom>
          <a:solidFill>
            <a:srgbClr val="93cdd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下箭头 71"/>
          <p:cNvSpPr/>
          <p:nvPr/>
        </p:nvSpPr>
        <p:spPr>
          <a:xfrm rot="18900000">
            <a:off x="1546200" y="3130200"/>
            <a:ext cx="631800" cy="204840"/>
          </a:xfrm>
          <a:prstGeom prst="downArrow">
            <a:avLst>
              <a:gd name="adj1" fmla="val 50000"/>
              <a:gd name="adj2" fmla="val 16292"/>
            </a:avLst>
          </a:prstGeom>
          <a:solidFill>
            <a:srgbClr val="93cdd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椭圆 72"/>
          <p:cNvSpPr/>
          <p:nvPr/>
        </p:nvSpPr>
        <p:spPr>
          <a:xfrm rot="16200000">
            <a:off x="614160" y="1984320"/>
            <a:ext cx="1208160" cy="1207800"/>
          </a:xfrm>
          <a:prstGeom prst="ellipse">
            <a:avLst/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TextBox 73"/>
          <p:cNvSpPr/>
          <p:nvPr/>
        </p:nvSpPr>
        <p:spPr>
          <a:xfrm>
            <a:off x="966600" y="2373480"/>
            <a:ext cx="5036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Shar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Dat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矩形 3"/>
          <p:cNvSpPr/>
          <p:nvPr/>
        </p:nvSpPr>
        <p:spPr>
          <a:xfrm>
            <a:off x="0" y="4227480"/>
            <a:ext cx="9144000" cy="9162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椭圆 4"/>
          <p:cNvSpPr/>
          <p:nvPr/>
        </p:nvSpPr>
        <p:spPr>
          <a:xfrm>
            <a:off x="8236080" y="2244600"/>
            <a:ext cx="657000" cy="655920"/>
          </a:xfrm>
          <a:prstGeom prst="ellipse">
            <a:avLst/>
          </a:prstGeom>
          <a:solidFill>
            <a:srgbClr val="ff2bc2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椭圆 5"/>
          <p:cNvSpPr/>
          <p:nvPr/>
        </p:nvSpPr>
        <p:spPr>
          <a:xfrm>
            <a:off x="7956720" y="2344680"/>
            <a:ext cx="455400" cy="455760"/>
          </a:xfrm>
          <a:prstGeom prst="ellipse">
            <a:avLst/>
          </a:prstGeom>
          <a:solidFill>
            <a:srgbClr val="ff2bc2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椭圆 6"/>
          <p:cNvSpPr/>
          <p:nvPr/>
        </p:nvSpPr>
        <p:spPr>
          <a:xfrm>
            <a:off x="6870600" y="2135160"/>
            <a:ext cx="876240" cy="874800"/>
          </a:xfrm>
          <a:prstGeom prst="ellipse">
            <a:avLst/>
          </a:prstGeom>
          <a:solidFill>
            <a:srgbClr val="558ed5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椭圆 7"/>
          <p:cNvSpPr/>
          <p:nvPr/>
        </p:nvSpPr>
        <p:spPr>
          <a:xfrm>
            <a:off x="5867280" y="2209680"/>
            <a:ext cx="727200" cy="725760"/>
          </a:xfrm>
          <a:prstGeom prst="ellipse">
            <a:avLst/>
          </a:prstGeom>
          <a:solidFill>
            <a:srgbClr val="558ed5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椭圆 8"/>
          <p:cNvSpPr/>
          <p:nvPr/>
        </p:nvSpPr>
        <p:spPr>
          <a:xfrm>
            <a:off x="6162840" y="2000160"/>
            <a:ext cx="1145880" cy="1144800"/>
          </a:xfrm>
          <a:prstGeom prst="ellipse">
            <a:avLst/>
          </a:prstGeom>
          <a:solidFill>
            <a:srgbClr val="558ed5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椭圆 9"/>
          <p:cNvSpPr/>
          <p:nvPr/>
        </p:nvSpPr>
        <p:spPr>
          <a:xfrm>
            <a:off x="247680" y="2344680"/>
            <a:ext cx="455760" cy="455760"/>
          </a:xfrm>
          <a:prstGeom prst="ellipse">
            <a:avLst/>
          </a:prstGeom>
          <a:solidFill>
            <a:srgbClr val="000000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椭圆 10"/>
          <p:cNvSpPr/>
          <p:nvPr/>
        </p:nvSpPr>
        <p:spPr>
          <a:xfrm>
            <a:off x="577800" y="2244600"/>
            <a:ext cx="657360" cy="655920"/>
          </a:xfrm>
          <a:prstGeom prst="ellipse">
            <a:avLst/>
          </a:prstGeom>
          <a:solidFill>
            <a:srgbClr val="f24f0e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椭圆 11"/>
          <p:cNvSpPr/>
          <p:nvPr/>
        </p:nvSpPr>
        <p:spPr>
          <a:xfrm>
            <a:off x="880920" y="2085840"/>
            <a:ext cx="973440" cy="973440"/>
          </a:xfrm>
          <a:prstGeom prst="ellipse">
            <a:avLst/>
          </a:prstGeom>
          <a:solidFill>
            <a:srgbClr val="f24f0e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椭圆 12"/>
          <p:cNvSpPr/>
          <p:nvPr/>
        </p:nvSpPr>
        <p:spPr>
          <a:xfrm>
            <a:off x="1395360" y="2244600"/>
            <a:ext cx="657360" cy="655920"/>
          </a:xfrm>
          <a:prstGeom prst="ellipse">
            <a:avLst/>
          </a:prstGeom>
          <a:solidFill>
            <a:srgbClr val="f24f0e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椭圆 13"/>
          <p:cNvSpPr/>
          <p:nvPr/>
        </p:nvSpPr>
        <p:spPr>
          <a:xfrm>
            <a:off x="1541520" y="2135160"/>
            <a:ext cx="876240" cy="874800"/>
          </a:xfrm>
          <a:prstGeom prst="ellipse">
            <a:avLst/>
          </a:prstGeom>
          <a:solidFill>
            <a:srgbClr val="f24f0e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椭圆 14"/>
          <p:cNvSpPr/>
          <p:nvPr/>
        </p:nvSpPr>
        <p:spPr>
          <a:xfrm>
            <a:off x="1908000" y="2008080"/>
            <a:ext cx="1128960" cy="1128960"/>
          </a:xfrm>
          <a:prstGeom prst="ellipse">
            <a:avLst/>
          </a:prstGeom>
          <a:solidFill>
            <a:srgbClr val="f24f0e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椭圆 15"/>
          <p:cNvSpPr/>
          <p:nvPr/>
        </p:nvSpPr>
        <p:spPr>
          <a:xfrm>
            <a:off x="2538360" y="2241720"/>
            <a:ext cx="662040" cy="661680"/>
          </a:xfrm>
          <a:prstGeom prst="ellipse">
            <a:avLst/>
          </a:prstGeom>
          <a:solidFill>
            <a:srgbClr val="ffc000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椭圆 16"/>
          <p:cNvSpPr/>
          <p:nvPr/>
        </p:nvSpPr>
        <p:spPr>
          <a:xfrm>
            <a:off x="2762280" y="2135160"/>
            <a:ext cx="876240" cy="874800"/>
          </a:xfrm>
          <a:prstGeom prst="ellipse">
            <a:avLst/>
          </a:prstGeom>
          <a:solidFill>
            <a:srgbClr val="ffc000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椭圆 17"/>
          <p:cNvSpPr/>
          <p:nvPr/>
        </p:nvSpPr>
        <p:spPr>
          <a:xfrm>
            <a:off x="3309840" y="1801800"/>
            <a:ext cx="1540080" cy="1541520"/>
          </a:xfrm>
          <a:prstGeom prst="ellipse">
            <a:avLst/>
          </a:prstGeom>
          <a:solidFill>
            <a:srgbClr val="59f50b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椭圆 18"/>
          <p:cNvSpPr/>
          <p:nvPr/>
        </p:nvSpPr>
        <p:spPr>
          <a:xfrm>
            <a:off x="4259160" y="1982880"/>
            <a:ext cx="1179720" cy="1179360"/>
          </a:xfrm>
          <a:prstGeom prst="ellipse">
            <a:avLst/>
          </a:prstGeom>
          <a:solidFill>
            <a:srgbClr val="59f50b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椭圆 19"/>
          <p:cNvSpPr/>
          <p:nvPr/>
        </p:nvSpPr>
        <p:spPr>
          <a:xfrm>
            <a:off x="5148360" y="1927080"/>
            <a:ext cx="1288800" cy="1290960"/>
          </a:xfrm>
          <a:prstGeom prst="ellipse">
            <a:avLst/>
          </a:prstGeom>
          <a:solidFill>
            <a:srgbClr val="558ed5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9" name="组合 22"/>
          <p:cNvGrpSpPr/>
          <p:nvPr/>
        </p:nvGrpSpPr>
        <p:grpSpPr>
          <a:xfrm>
            <a:off x="250920" y="2452680"/>
            <a:ext cx="8642160" cy="239760"/>
            <a:chOff x="250920" y="2452680"/>
            <a:chExt cx="8642160" cy="239760"/>
          </a:xfrm>
        </p:grpSpPr>
        <p:sp>
          <p:nvSpPr>
            <p:cNvPr id="1180" name="直接连接符 23"/>
            <p:cNvSpPr/>
            <p:nvPr/>
          </p:nvSpPr>
          <p:spPr>
            <a:xfrm>
              <a:off x="250920" y="2452680"/>
              <a:ext cx="86421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直接连接符 24"/>
            <p:cNvSpPr/>
            <p:nvPr/>
          </p:nvSpPr>
          <p:spPr>
            <a:xfrm>
              <a:off x="250920" y="2692440"/>
              <a:ext cx="86421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矩形 25"/>
            <p:cNvSpPr/>
            <p:nvPr/>
          </p:nvSpPr>
          <p:spPr>
            <a:xfrm>
              <a:off x="250920" y="2467800"/>
              <a:ext cx="8642160" cy="209160"/>
            </a:xfrm>
            <a:prstGeom prst="rect">
              <a:avLst/>
            </a:prstGeom>
            <a:solidFill>
              <a:srgbClr val="000000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3" name="组合 26"/>
          <p:cNvGrpSpPr/>
          <p:nvPr/>
        </p:nvGrpSpPr>
        <p:grpSpPr>
          <a:xfrm>
            <a:off x="423720" y="2306520"/>
            <a:ext cx="88920" cy="88920"/>
            <a:chOff x="423720" y="2306520"/>
            <a:chExt cx="88920" cy="88920"/>
          </a:xfrm>
        </p:grpSpPr>
        <p:sp>
          <p:nvSpPr>
            <p:cNvPr id="1184" name="椭圆 27"/>
            <p:cNvSpPr/>
            <p:nvPr/>
          </p:nvSpPr>
          <p:spPr>
            <a:xfrm>
              <a:off x="423720" y="2306520"/>
              <a:ext cx="88920" cy="8892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椭圆 28"/>
            <p:cNvSpPr/>
            <p:nvPr/>
          </p:nvSpPr>
          <p:spPr>
            <a:xfrm flipH="1" flipV="1">
              <a:off x="452160" y="2334960"/>
              <a:ext cx="30600" cy="30600"/>
            </a:xfrm>
            <a:prstGeom prst="ellipse">
              <a:avLst/>
            </a:prstGeom>
            <a:solidFill>
              <a:srgbClr val="0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6" name="组合 29"/>
          <p:cNvGrpSpPr/>
          <p:nvPr/>
        </p:nvGrpSpPr>
        <p:grpSpPr>
          <a:xfrm>
            <a:off x="423720" y="2755800"/>
            <a:ext cx="88920" cy="88920"/>
            <a:chOff x="423720" y="2755800"/>
            <a:chExt cx="88920" cy="88920"/>
          </a:xfrm>
        </p:grpSpPr>
        <p:sp>
          <p:nvSpPr>
            <p:cNvPr id="1187" name="椭圆 30"/>
            <p:cNvSpPr/>
            <p:nvPr/>
          </p:nvSpPr>
          <p:spPr>
            <a:xfrm>
              <a:off x="423720" y="2755800"/>
              <a:ext cx="88920" cy="8892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椭圆 31"/>
            <p:cNvSpPr/>
            <p:nvPr/>
          </p:nvSpPr>
          <p:spPr>
            <a:xfrm flipH="1" flipV="1">
              <a:off x="452160" y="2784240"/>
              <a:ext cx="30600" cy="30600"/>
            </a:xfrm>
            <a:prstGeom prst="ellipse">
              <a:avLst/>
            </a:prstGeom>
            <a:solidFill>
              <a:srgbClr val="0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9" name="组合 32"/>
          <p:cNvGrpSpPr/>
          <p:nvPr/>
        </p:nvGrpSpPr>
        <p:grpSpPr>
          <a:xfrm>
            <a:off x="703440" y="2243160"/>
            <a:ext cx="88560" cy="88920"/>
            <a:chOff x="703440" y="2243160"/>
            <a:chExt cx="88560" cy="88920"/>
          </a:xfrm>
        </p:grpSpPr>
        <p:sp>
          <p:nvSpPr>
            <p:cNvPr id="1190" name="椭圆 33"/>
            <p:cNvSpPr/>
            <p:nvPr/>
          </p:nvSpPr>
          <p:spPr>
            <a:xfrm>
              <a:off x="703440" y="2243160"/>
              <a:ext cx="88560" cy="8892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椭圆 34"/>
            <p:cNvSpPr/>
            <p:nvPr/>
          </p:nvSpPr>
          <p:spPr>
            <a:xfrm flipH="1" flipV="1">
              <a:off x="731520" y="2271600"/>
              <a:ext cx="30600" cy="30600"/>
            </a:xfrm>
            <a:prstGeom prst="ellipse">
              <a:avLst/>
            </a:prstGeom>
            <a:solidFill>
              <a:srgbClr val="0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2" name="组合 35"/>
          <p:cNvGrpSpPr/>
          <p:nvPr/>
        </p:nvGrpSpPr>
        <p:grpSpPr>
          <a:xfrm>
            <a:off x="882720" y="2855880"/>
            <a:ext cx="88920" cy="90360"/>
            <a:chOff x="882720" y="2855880"/>
            <a:chExt cx="88920" cy="90360"/>
          </a:xfrm>
        </p:grpSpPr>
        <p:sp>
          <p:nvSpPr>
            <p:cNvPr id="1193" name="椭圆 36"/>
            <p:cNvSpPr/>
            <p:nvPr/>
          </p:nvSpPr>
          <p:spPr>
            <a:xfrm>
              <a:off x="882720" y="2855880"/>
              <a:ext cx="88920" cy="9036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4" name="椭圆 37"/>
            <p:cNvSpPr/>
            <p:nvPr/>
          </p:nvSpPr>
          <p:spPr>
            <a:xfrm flipH="1" flipV="1">
              <a:off x="911160" y="2885400"/>
              <a:ext cx="30600" cy="30960"/>
            </a:xfrm>
            <a:prstGeom prst="ellipse">
              <a:avLst/>
            </a:prstGeom>
            <a:solidFill>
              <a:srgbClr val="0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5" name="组合 38"/>
          <p:cNvGrpSpPr/>
          <p:nvPr/>
        </p:nvGrpSpPr>
        <p:grpSpPr>
          <a:xfrm>
            <a:off x="1116000" y="2090880"/>
            <a:ext cx="90360" cy="88920"/>
            <a:chOff x="1116000" y="2090880"/>
            <a:chExt cx="90360" cy="88920"/>
          </a:xfrm>
        </p:grpSpPr>
        <p:sp>
          <p:nvSpPr>
            <p:cNvPr id="1196" name="椭圆 39"/>
            <p:cNvSpPr/>
            <p:nvPr/>
          </p:nvSpPr>
          <p:spPr>
            <a:xfrm>
              <a:off x="1116000" y="2090880"/>
              <a:ext cx="90360" cy="8892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7" name="椭圆 40"/>
            <p:cNvSpPr/>
            <p:nvPr/>
          </p:nvSpPr>
          <p:spPr>
            <a:xfrm flipH="1" flipV="1">
              <a:off x="1145520" y="2119320"/>
              <a:ext cx="30960" cy="30600"/>
            </a:xfrm>
            <a:prstGeom prst="ellipse">
              <a:avLst/>
            </a:prstGeom>
            <a:solidFill>
              <a:srgbClr val="0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8" name="组合 41"/>
          <p:cNvGrpSpPr/>
          <p:nvPr/>
        </p:nvGrpSpPr>
        <p:grpSpPr>
          <a:xfrm>
            <a:off x="1535040" y="2236680"/>
            <a:ext cx="88920" cy="88920"/>
            <a:chOff x="1535040" y="2236680"/>
            <a:chExt cx="88920" cy="88920"/>
          </a:xfrm>
        </p:grpSpPr>
        <p:sp>
          <p:nvSpPr>
            <p:cNvPr id="1199" name="椭圆 42"/>
            <p:cNvSpPr/>
            <p:nvPr/>
          </p:nvSpPr>
          <p:spPr>
            <a:xfrm>
              <a:off x="1535040" y="2236680"/>
              <a:ext cx="88920" cy="8892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0" name="椭圆 43"/>
            <p:cNvSpPr/>
            <p:nvPr/>
          </p:nvSpPr>
          <p:spPr>
            <a:xfrm flipH="1" flipV="1">
              <a:off x="1563480" y="2265120"/>
              <a:ext cx="30600" cy="30600"/>
            </a:xfrm>
            <a:prstGeom prst="ellipse">
              <a:avLst/>
            </a:prstGeom>
            <a:solidFill>
              <a:srgbClr val="0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1" name="组合 44"/>
          <p:cNvGrpSpPr/>
          <p:nvPr/>
        </p:nvGrpSpPr>
        <p:grpSpPr>
          <a:xfrm>
            <a:off x="1998720" y="2100240"/>
            <a:ext cx="88920" cy="88920"/>
            <a:chOff x="1998720" y="2100240"/>
            <a:chExt cx="88920" cy="88920"/>
          </a:xfrm>
        </p:grpSpPr>
        <p:sp>
          <p:nvSpPr>
            <p:cNvPr id="1202" name="椭圆 45"/>
            <p:cNvSpPr/>
            <p:nvPr/>
          </p:nvSpPr>
          <p:spPr>
            <a:xfrm>
              <a:off x="1998720" y="2100240"/>
              <a:ext cx="88920" cy="8892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3" name="椭圆 46"/>
            <p:cNvSpPr/>
            <p:nvPr/>
          </p:nvSpPr>
          <p:spPr>
            <a:xfrm flipH="1" flipV="1">
              <a:off x="2027160" y="2128680"/>
              <a:ext cx="30600" cy="30600"/>
            </a:xfrm>
            <a:prstGeom prst="ellipse">
              <a:avLst/>
            </a:prstGeom>
            <a:solidFill>
              <a:srgbClr val="0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4" name="组合 47"/>
          <p:cNvGrpSpPr/>
          <p:nvPr/>
        </p:nvGrpSpPr>
        <p:grpSpPr>
          <a:xfrm>
            <a:off x="2503440" y="1969920"/>
            <a:ext cx="88920" cy="90720"/>
            <a:chOff x="2503440" y="1969920"/>
            <a:chExt cx="88920" cy="90720"/>
          </a:xfrm>
        </p:grpSpPr>
        <p:sp>
          <p:nvSpPr>
            <p:cNvPr id="1205" name="椭圆 48"/>
            <p:cNvSpPr/>
            <p:nvPr/>
          </p:nvSpPr>
          <p:spPr>
            <a:xfrm>
              <a:off x="2503440" y="1969920"/>
              <a:ext cx="88920" cy="9072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6" name="椭圆 49"/>
            <p:cNvSpPr/>
            <p:nvPr/>
          </p:nvSpPr>
          <p:spPr>
            <a:xfrm flipH="1" flipV="1">
              <a:off x="2531880" y="1998720"/>
              <a:ext cx="30600" cy="31320"/>
            </a:xfrm>
            <a:prstGeom prst="ellipse">
              <a:avLst/>
            </a:prstGeom>
            <a:solidFill>
              <a:srgbClr val="0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7" name="组合 50"/>
          <p:cNvGrpSpPr/>
          <p:nvPr/>
        </p:nvGrpSpPr>
        <p:grpSpPr>
          <a:xfrm>
            <a:off x="1863720" y="2795760"/>
            <a:ext cx="88920" cy="88560"/>
            <a:chOff x="1863720" y="2795760"/>
            <a:chExt cx="88920" cy="88560"/>
          </a:xfrm>
        </p:grpSpPr>
        <p:sp>
          <p:nvSpPr>
            <p:cNvPr id="1208" name="椭圆 51"/>
            <p:cNvSpPr/>
            <p:nvPr/>
          </p:nvSpPr>
          <p:spPr>
            <a:xfrm>
              <a:off x="1863720" y="2795760"/>
              <a:ext cx="88920" cy="8856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9" name="椭圆 52"/>
            <p:cNvSpPr/>
            <p:nvPr/>
          </p:nvSpPr>
          <p:spPr>
            <a:xfrm flipH="1" flipV="1">
              <a:off x="1892160" y="2823840"/>
              <a:ext cx="30600" cy="30600"/>
            </a:xfrm>
            <a:prstGeom prst="ellipse">
              <a:avLst/>
            </a:prstGeom>
            <a:solidFill>
              <a:srgbClr val="0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0" name="组合 53"/>
          <p:cNvGrpSpPr/>
          <p:nvPr/>
        </p:nvGrpSpPr>
        <p:grpSpPr>
          <a:xfrm>
            <a:off x="2268360" y="2809800"/>
            <a:ext cx="88920" cy="90720"/>
            <a:chOff x="2268360" y="2809800"/>
            <a:chExt cx="88920" cy="90720"/>
          </a:xfrm>
        </p:grpSpPr>
        <p:sp>
          <p:nvSpPr>
            <p:cNvPr id="1211" name="椭圆 54"/>
            <p:cNvSpPr/>
            <p:nvPr/>
          </p:nvSpPr>
          <p:spPr>
            <a:xfrm>
              <a:off x="2268360" y="2809800"/>
              <a:ext cx="88920" cy="9072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2" name="椭圆 55"/>
            <p:cNvSpPr/>
            <p:nvPr/>
          </p:nvSpPr>
          <p:spPr>
            <a:xfrm flipH="1" flipV="1">
              <a:off x="2296800" y="2838600"/>
              <a:ext cx="30600" cy="31320"/>
            </a:xfrm>
            <a:prstGeom prst="ellipse">
              <a:avLst/>
            </a:prstGeom>
            <a:solidFill>
              <a:srgbClr val="0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3" name="组合 56"/>
          <p:cNvGrpSpPr/>
          <p:nvPr/>
        </p:nvGrpSpPr>
        <p:grpSpPr>
          <a:xfrm>
            <a:off x="2817720" y="2932200"/>
            <a:ext cx="90720" cy="88920"/>
            <a:chOff x="2817720" y="2932200"/>
            <a:chExt cx="90720" cy="88920"/>
          </a:xfrm>
        </p:grpSpPr>
        <p:sp>
          <p:nvSpPr>
            <p:cNvPr id="1214" name="椭圆 57"/>
            <p:cNvSpPr/>
            <p:nvPr/>
          </p:nvSpPr>
          <p:spPr>
            <a:xfrm>
              <a:off x="2817720" y="2932200"/>
              <a:ext cx="90720" cy="8892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椭圆 58"/>
            <p:cNvSpPr/>
            <p:nvPr/>
          </p:nvSpPr>
          <p:spPr>
            <a:xfrm flipH="1" flipV="1">
              <a:off x="2846520" y="2960640"/>
              <a:ext cx="31320" cy="30600"/>
            </a:xfrm>
            <a:prstGeom prst="ellipse">
              <a:avLst/>
            </a:prstGeom>
            <a:solidFill>
              <a:srgbClr val="0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6" name="组合 59"/>
          <p:cNvGrpSpPr/>
          <p:nvPr/>
        </p:nvGrpSpPr>
        <p:grpSpPr>
          <a:xfrm>
            <a:off x="2989440" y="2236680"/>
            <a:ext cx="88560" cy="88920"/>
            <a:chOff x="2989440" y="2236680"/>
            <a:chExt cx="88560" cy="88920"/>
          </a:xfrm>
        </p:grpSpPr>
        <p:sp>
          <p:nvSpPr>
            <p:cNvPr id="1217" name="椭圆 60"/>
            <p:cNvSpPr/>
            <p:nvPr/>
          </p:nvSpPr>
          <p:spPr>
            <a:xfrm>
              <a:off x="2989440" y="2236680"/>
              <a:ext cx="88560" cy="8892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8" name="椭圆 61"/>
            <p:cNvSpPr/>
            <p:nvPr/>
          </p:nvSpPr>
          <p:spPr>
            <a:xfrm flipH="1" flipV="1">
              <a:off x="3017520" y="2265120"/>
              <a:ext cx="30600" cy="30600"/>
            </a:xfrm>
            <a:prstGeom prst="ellipse">
              <a:avLst/>
            </a:prstGeom>
            <a:solidFill>
              <a:srgbClr val="0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9" name="组合 62"/>
          <p:cNvGrpSpPr/>
          <p:nvPr/>
        </p:nvGrpSpPr>
        <p:grpSpPr>
          <a:xfrm>
            <a:off x="3300480" y="2940120"/>
            <a:ext cx="88920" cy="90360"/>
            <a:chOff x="3300480" y="2940120"/>
            <a:chExt cx="88920" cy="90360"/>
          </a:xfrm>
        </p:grpSpPr>
        <p:sp>
          <p:nvSpPr>
            <p:cNvPr id="1220" name="椭圆 63"/>
            <p:cNvSpPr/>
            <p:nvPr/>
          </p:nvSpPr>
          <p:spPr>
            <a:xfrm>
              <a:off x="3300480" y="2940120"/>
              <a:ext cx="88920" cy="9036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椭圆 64"/>
            <p:cNvSpPr/>
            <p:nvPr/>
          </p:nvSpPr>
          <p:spPr>
            <a:xfrm flipH="1" flipV="1">
              <a:off x="3328920" y="2969640"/>
              <a:ext cx="30600" cy="30960"/>
            </a:xfrm>
            <a:prstGeom prst="ellipse">
              <a:avLst/>
            </a:prstGeom>
            <a:solidFill>
              <a:srgbClr val="0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2" name="组合 65"/>
          <p:cNvGrpSpPr/>
          <p:nvPr/>
        </p:nvGrpSpPr>
        <p:grpSpPr>
          <a:xfrm>
            <a:off x="3637080" y="1873080"/>
            <a:ext cx="88920" cy="90720"/>
            <a:chOff x="3637080" y="1873080"/>
            <a:chExt cx="88920" cy="90720"/>
          </a:xfrm>
        </p:grpSpPr>
        <p:sp>
          <p:nvSpPr>
            <p:cNvPr id="1223" name="椭圆 66"/>
            <p:cNvSpPr/>
            <p:nvPr/>
          </p:nvSpPr>
          <p:spPr>
            <a:xfrm>
              <a:off x="3637080" y="1873080"/>
              <a:ext cx="88920" cy="9072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4" name="椭圆 67"/>
            <p:cNvSpPr/>
            <p:nvPr/>
          </p:nvSpPr>
          <p:spPr>
            <a:xfrm flipH="1" flipV="1">
              <a:off x="3665520" y="1901880"/>
              <a:ext cx="30600" cy="31320"/>
            </a:xfrm>
            <a:prstGeom prst="ellipse">
              <a:avLst/>
            </a:prstGeom>
            <a:solidFill>
              <a:srgbClr val="0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5" name="组合 68"/>
          <p:cNvGrpSpPr/>
          <p:nvPr/>
        </p:nvGrpSpPr>
        <p:grpSpPr>
          <a:xfrm>
            <a:off x="4452840" y="3170160"/>
            <a:ext cx="90720" cy="88920"/>
            <a:chOff x="4452840" y="3170160"/>
            <a:chExt cx="90720" cy="88920"/>
          </a:xfrm>
        </p:grpSpPr>
        <p:sp>
          <p:nvSpPr>
            <p:cNvPr id="1226" name="椭圆 69"/>
            <p:cNvSpPr/>
            <p:nvPr/>
          </p:nvSpPr>
          <p:spPr>
            <a:xfrm>
              <a:off x="4452840" y="3170160"/>
              <a:ext cx="90720" cy="8892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7" name="椭圆 70"/>
            <p:cNvSpPr/>
            <p:nvPr/>
          </p:nvSpPr>
          <p:spPr>
            <a:xfrm flipH="1" flipV="1">
              <a:off x="4481640" y="3198600"/>
              <a:ext cx="31320" cy="30600"/>
            </a:xfrm>
            <a:prstGeom prst="ellipse">
              <a:avLst/>
            </a:prstGeom>
            <a:solidFill>
              <a:srgbClr val="0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8" name="组合 71"/>
          <p:cNvGrpSpPr/>
          <p:nvPr/>
        </p:nvGrpSpPr>
        <p:grpSpPr>
          <a:xfrm>
            <a:off x="4805280" y="1938240"/>
            <a:ext cx="88920" cy="88920"/>
            <a:chOff x="4805280" y="1938240"/>
            <a:chExt cx="88920" cy="88920"/>
          </a:xfrm>
        </p:grpSpPr>
        <p:sp>
          <p:nvSpPr>
            <p:cNvPr id="1229" name="椭圆 72"/>
            <p:cNvSpPr/>
            <p:nvPr/>
          </p:nvSpPr>
          <p:spPr>
            <a:xfrm>
              <a:off x="4805280" y="1938240"/>
              <a:ext cx="88920" cy="8892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0" name="椭圆 73"/>
            <p:cNvSpPr/>
            <p:nvPr/>
          </p:nvSpPr>
          <p:spPr>
            <a:xfrm flipH="1" flipV="1">
              <a:off x="4833720" y="1966680"/>
              <a:ext cx="30600" cy="30600"/>
            </a:xfrm>
            <a:prstGeom prst="ellipse">
              <a:avLst/>
            </a:prstGeom>
            <a:solidFill>
              <a:srgbClr val="0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1" name="组合 74"/>
          <p:cNvGrpSpPr/>
          <p:nvPr/>
        </p:nvGrpSpPr>
        <p:grpSpPr>
          <a:xfrm>
            <a:off x="5146560" y="3008160"/>
            <a:ext cx="88920" cy="88920"/>
            <a:chOff x="5146560" y="3008160"/>
            <a:chExt cx="88920" cy="88920"/>
          </a:xfrm>
        </p:grpSpPr>
        <p:sp>
          <p:nvSpPr>
            <p:cNvPr id="1232" name="椭圆 75"/>
            <p:cNvSpPr/>
            <p:nvPr/>
          </p:nvSpPr>
          <p:spPr>
            <a:xfrm>
              <a:off x="5146560" y="3008160"/>
              <a:ext cx="88920" cy="8892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3" name="椭圆 76"/>
            <p:cNvSpPr/>
            <p:nvPr/>
          </p:nvSpPr>
          <p:spPr>
            <a:xfrm flipH="1" flipV="1">
              <a:off x="5175000" y="3036600"/>
              <a:ext cx="30600" cy="30600"/>
            </a:xfrm>
            <a:prstGeom prst="ellipse">
              <a:avLst/>
            </a:prstGeom>
            <a:solidFill>
              <a:srgbClr val="0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4" name="组合 77"/>
          <p:cNvGrpSpPr/>
          <p:nvPr/>
        </p:nvGrpSpPr>
        <p:grpSpPr>
          <a:xfrm>
            <a:off x="5508720" y="1933560"/>
            <a:ext cx="88920" cy="88920"/>
            <a:chOff x="5508720" y="1933560"/>
            <a:chExt cx="88920" cy="88920"/>
          </a:xfrm>
        </p:grpSpPr>
        <p:sp>
          <p:nvSpPr>
            <p:cNvPr id="1235" name="椭圆 78"/>
            <p:cNvSpPr/>
            <p:nvPr/>
          </p:nvSpPr>
          <p:spPr>
            <a:xfrm>
              <a:off x="5508720" y="1933560"/>
              <a:ext cx="88920" cy="8892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6" name="椭圆 79"/>
            <p:cNvSpPr/>
            <p:nvPr/>
          </p:nvSpPr>
          <p:spPr>
            <a:xfrm flipH="1" flipV="1">
              <a:off x="5537160" y="1962000"/>
              <a:ext cx="30600" cy="30600"/>
            </a:xfrm>
            <a:prstGeom prst="ellipse">
              <a:avLst/>
            </a:prstGeom>
            <a:solidFill>
              <a:srgbClr val="0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7" name="组合 80"/>
          <p:cNvGrpSpPr/>
          <p:nvPr/>
        </p:nvGrpSpPr>
        <p:grpSpPr>
          <a:xfrm>
            <a:off x="6012000" y="2209680"/>
            <a:ext cx="88920" cy="88920"/>
            <a:chOff x="6012000" y="2209680"/>
            <a:chExt cx="88920" cy="88920"/>
          </a:xfrm>
        </p:grpSpPr>
        <p:sp>
          <p:nvSpPr>
            <p:cNvPr id="1238" name="椭圆 81"/>
            <p:cNvSpPr/>
            <p:nvPr/>
          </p:nvSpPr>
          <p:spPr>
            <a:xfrm>
              <a:off x="6012000" y="2209680"/>
              <a:ext cx="88920" cy="8892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9" name="椭圆 82"/>
            <p:cNvSpPr/>
            <p:nvPr/>
          </p:nvSpPr>
          <p:spPr>
            <a:xfrm flipH="1" flipV="1">
              <a:off x="6040440" y="2238120"/>
              <a:ext cx="30600" cy="30600"/>
            </a:xfrm>
            <a:prstGeom prst="ellipse">
              <a:avLst/>
            </a:prstGeom>
            <a:solidFill>
              <a:srgbClr val="0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0" name="组合 83"/>
          <p:cNvGrpSpPr/>
          <p:nvPr/>
        </p:nvGrpSpPr>
        <p:grpSpPr>
          <a:xfrm>
            <a:off x="6432480" y="2027160"/>
            <a:ext cx="90720" cy="90720"/>
            <a:chOff x="6432480" y="2027160"/>
            <a:chExt cx="90720" cy="90720"/>
          </a:xfrm>
        </p:grpSpPr>
        <p:sp>
          <p:nvSpPr>
            <p:cNvPr id="1241" name="椭圆 84"/>
            <p:cNvSpPr/>
            <p:nvPr/>
          </p:nvSpPr>
          <p:spPr>
            <a:xfrm>
              <a:off x="6432480" y="2027160"/>
              <a:ext cx="90720" cy="9072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2" name="椭圆 85"/>
            <p:cNvSpPr/>
            <p:nvPr/>
          </p:nvSpPr>
          <p:spPr>
            <a:xfrm flipH="1" flipV="1">
              <a:off x="6461280" y="2055960"/>
              <a:ext cx="31320" cy="31320"/>
            </a:xfrm>
            <a:prstGeom prst="ellipse">
              <a:avLst/>
            </a:prstGeom>
            <a:solidFill>
              <a:srgbClr val="0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3" name="组合 86"/>
          <p:cNvGrpSpPr/>
          <p:nvPr/>
        </p:nvGrpSpPr>
        <p:grpSpPr>
          <a:xfrm>
            <a:off x="7264440" y="2090880"/>
            <a:ext cx="88920" cy="88920"/>
            <a:chOff x="7264440" y="2090880"/>
            <a:chExt cx="88920" cy="88920"/>
          </a:xfrm>
        </p:grpSpPr>
        <p:sp>
          <p:nvSpPr>
            <p:cNvPr id="1244" name="椭圆 87"/>
            <p:cNvSpPr/>
            <p:nvPr/>
          </p:nvSpPr>
          <p:spPr>
            <a:xfrm>
              <a:off x="7264440" y="2090880"/>
              <a:ext cx="88920" cy="8892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5" name="椭圆 88"/>
            <p:cNvSpPr/>
            <p:nvPr/>
          </p:nvSpPr>
          <p:spPr>
            <a:xfrm flipH="1" flipV="1">
              <a:off x="7292880" y="2119320"/>
              <a:ext cx="30600" cy="30600"/>
            </a:xfrm>
            <a:prstGeom prst="ellipse">
              <a:avLst/>
            </a:prstGeom>
            <a:solidFill>
              <a:srgbClr val="0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6" name="组合 89"/>
          <p:cNvGrpSpPr/>
          <p:nvPr/>
        </p:nvGrpSpPr>
        <p:grpSpPr>
          <a:xfrm>
            <a:off x="7615080" y="2781360"/>
            <a:ext cx="88920" cy="88920"/>
            <a:chOff x="7615080" y="2781360"/>
            <a:chExt cx="88920" cy="88920"/>
          </a:xfrm>
        </p:grpSpPr>
        <p:sp>
          <p:nvSpPr>
            <p:cNvPr id="1247" name="椭圆 90"/>
            <p:cNvSpPr/>
            <p:nvPr/>
          </p:nvSpPr>
          <p:spPr>
            <a:xfrm>
              <a:off x="7615080" y="2781360"/>
              <a:ext cx="88920" cy="8892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8" name="椭圆 91"/>
            <p:cNvSpPr/>
            <p:nvPr/>
          </p:nvSpPr>
          <p:spPr>
            <a:xfrm flipH="1" flipV="1">
              <a:off x="7643520" y="2809800"/>
              <a:ext cx="30600" cy="30600"/>
            </a:xfrm>
            <a:prstGeom prst="ellipse">
              <a:avLst/>
            </a:prstGeom>
            <a:solidFill>
              <a:srgbClr val="0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9" name="组合 92"/>
          <p:cNvGrpSpPr/>
          <p:nvPr/>
        </p:nvGrpSpPr>
        <p:grpSpPr>
          <a:xfrm>
            <a:off x="8028000" y="2325600"/>
            <a:ext cx="88920" cy="88920"/>
            <a:chOff x="8028000" y="2325600"/>
            <a:chExt cx="88920" cy="88920"/>
          </a:xfrm>
        </p:grpSpPr>
        <p:sp>
          <p:nvSpPr>
            <p:cNvPr id="1250" name="椭圆 93"/>
            <p:cNvSpPr/>
            <p:nvPr/>
          </p:nvSpPr>
          <p:spPr>
            <a:xfrm>
              <a:off x="8028000" y="2325600"/>
              <a:ext cx="88920" cy="8892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1" name="椭圆 94"/>
            <p:cNvSpPr/>
            <p:nvPr/>
          </p:nvSpPr>
          <p:spPr>
            <a:xfrm flipH="1" flipV="1">
              <a:off x="8056440" y="2354040"/>
              <a:ext cx="30600" cy="30600"/>
            </a:xfrm>
            <a:prstGeom prst="ellipse">
              <a:avLst/>
            </a:prstGeom>
            <a:solidFill>
              <a:srgbClr val="0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2" name="组合 95"/>
          <p:cNvGrpSpPr/>
          <p:nvPr/>
        </p:nvGrpSpPr>
        <p:grpSpPr>
          <a:xfrm>
            <a:off x="8367840" y="2243160"/>
            <a:ext cx="88920" cy="88920"/>
            <a:chOff x="8367840" y="2243160"/>
            <a:chExt cx="88920" cy="88920"/>
          </a:xfrm>
        </p:grpSpPr>
        <p:sp>
          <p:nvSpPr>
            <p:cNvPr id="1253" name="椭圆 96"/>
            <p:cNvSpPr/>
            <p:nvPr/>
          </p:nvSpPr>
          <p:spPr>
            <a:xfrm>
              <a:off x="8367840" y="2243160"/>
              <a:ext cx="88920" cy="8892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4" name="椭圆 97"/>
            <p:cNvSpPr/>
            <p:nvPr/>
          </p:nvSpPr>
          <p:spPr>
            <a:xfrm flipH="1" flipV="1">
              <a:off x="8396280" y="2271600"/>
              <a:ext cx="30600" cy="30600"/>
            </a:xfrm>
            <a:prstGeom prst="ellipse">
              <a:avLst/>
            </a:prstGeom>
            <a:solidFill>
              <a:srgbClr val="0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5" name="组合 98"/>
          <p:cNvGrpSpPr/>
          <p:nvPr/>
        </p:nvGrpSpPr>
        <p:grpSpPr>
          <a:xfrm>
            <a:off x="8675640" y="2239920"/>
            <a:ext cx="90360" cy="88920"/>
            <a:chOff x="8675640" y="2239920"/>
            <a:chExt cx="90360" cy="88920"/>
          </a:xfrm>
        </p:grpSpPr>
        <p:sp>
          <p:nvSpPr>
            <p:cNvPr id="1256" name="椭圆 99"/>
            <p:cNvSpPr/>
            <p:nvPr/>
          </p:nvSpPr>
          <p:spPr>
            <a:xfrm>
              <a:off x="8675640" y="2239920"/>
              <a:ext cx="90360" cy="8892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7" name="椭圆 100"/>
            <p:cNvSpPr/>
            <p:nvPr/>
          </p:nvSpPr>
          <p:spPr>
            <a:xfrm flipH="1" flipV="1">
              <a:off x="8705160" y="2268360"/>
              <a:ext cx="30960" cy="30600"/>
            </a:xfrm>
            <a:prstGeom prst="ellipse">
              <a:avLst/>
            </a:prstGeom>
            <a:solidFill>
              <a:srgbClr val="0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8" name="直接连接符 101"/>
          <p:cNvSpPr/>
          <p:nvPr/>
        </p:nvSpPr>
        <p:spPr>
          <a:xfrm>
            <a:off x="469800" y="1658880"/>
            <a:ext cx="0" cy="649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TextBox 102"/>
          <p:cNvSpPr/>
          <p:nvPr/>
        </p:nvSpPr>
        <p:spPr>
          <a:xfrm>
            <a:off x="329040" y="1450800"/>
            <a:ext cx="779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Initial Mee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TextBox 103"/>
          <p:cNvSpPr/>
          <p:nvPr/>
        </p:nvSpPr>
        <p:spPr>
          <a:xfrm>
            <a:off x="606960" y="161604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Need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Assessme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直接连接符 104"/>
          <p:cNvSpPr/>
          <p:nvPr/>
        </p:nvSpPr>
        <p:spPr>
          <a:xfrm flipH="1">
            <a:off x="747720" y="1955880"/>
            <a:ext cx="19368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直接连接符 105"/>
          <p:cNvSpPr/>
          <p:nvPr/>
        </p:nvSpPr>
        <p:spPr>
          <a:xfrm flipH="1">
            <a:off x="1160280" y="1341360"/>
            <a:ext cx="230040" cy="749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TextBox 106"/>
          <p:cNvSpPr/>
          <p:nvPr/>
        </p:nvSpPr>
        <p:spPr>
          <a:xfrm>
            <a:off x="1059480" y="1095480"/>
            <a:ext cx="66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Resear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直接连接符 107"/>
          <p:cNvSpPr/>
          <p:nvPr/>
        </p:nvSpPr>
        <p:spPr>
          <a:xfrm flipH="1">
            <a:off x="1579320" y="1563840"/>
            <a:ext cx="207720" cy="672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TextBox 108"/>
          <p:cNvSpPr/>
          <p:nvPr/>
        </p:nvSpPr>
        <p:spPr>
          <a:xfrm>
            <a:off x="1456920" y="1347840"/>
            <a:ext cx="660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Site Outl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直接连接符 109"/>
          <p:cNvSpPr/>
          <p:nvPr/>
        </p:nvSpPr>
        <p:spPr>
          <a:xfrm>
            <a:off x="2043000" y="1879560"/>
            <a:ext cx="0" cy="220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TextBox 110"/>
          <p:cNvSpPr/>
          <p:nvPr/>
        </p:nvSpPr>
        <p:spPr>
          <a:xfrm>
            <a:off x="1769040" y="1663560"/>
            <a:ext cx="546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Site Ma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直接连接符 111"/>
          <p:cNvSpPr/>
          <p:nvPr/>
        </p:nvSpPr>
        <p:spPr>
          <a:xfrm flipH="1">
            <a:off x="2548080" y="1450800"/>
            <a:ext cx="48960" cy="519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TextBox 112"/>
          <p:cNvSpPr/>
          <p:nvPr/>
        </p:nvSpPr>
        <p:spPr>
          <a:xfrm>
            <a:off x="2196720" y="1204920"/>
            <a:ext cx="801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Wirefram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直接连接符 113"/>
          <p:cNvSpPr/>
          <p:nvPr/>
        </p:nvSpPr>
        <p:spPr>
          <a:xfrm flipH="1">
            <a:off x="3033720" y="1935000"/>
            <a:ext cx="92160" cy="301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TextBox 114"/>
          <p:cNvSpPr/>
          <p:nvPr/>
        </p:nvSpPr>
        <p:spPr>
          <a:xfrm>
            <a:off x="2706840" y="1720800"/>
            <a:ext cx="839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Content Outl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直接连接符 115"/>
          <p:cNvSpPr/>
          <p:nvPr/>
        </p:nvSpPr>
        <p:spPr>
          <a:xfrm flipH="1">
            <a:off x="3681360" y="1355760"/>
            <a:ext cx="44640" cy="517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TextBox 116"/>
          <p:cNvSpPr/>
          <p:nvPr/>
        </p:nvSpPr>
        <p:spPr>
          <a:xfrm>
            <a:off x="3287880" y="955800"/>
            <a:ext cx="874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Landing P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Artwor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直接连接符 117"/>
          <p:cNvSpPr/>
          <p:nvPr/>
        </p:nvSpPr>
        <p:spPr>
          <a:xfrm flipH="1">
            <a:off x="4849560" y="1635120"/>
            <a:ext cx="36360" cy="303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TextBox 118"/>
          <p:cNvSpPr/>
          <p:nvPr/>
        </p:nvSpPr>
        <p:spPr>
          <a:xfrm>
            <a:off x="4483440" y="1266840"/>
            <a:ext cx="80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alibri"/>
              </a:rPr>
              <a:t>Inner Page(s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alibri"/>
              </a:rPr>
              <a:t>Artwor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直接连接符 119"/>
          <p:cNvSpPr/>
          <p:nvPr/>
        </p:nvSpPr>
        <p:spPr>
          <a:xfrm flipH="1">
            <a:off x="5552640" y="1419120"/>
            <a:ext cx="104760" cy="514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TextBox 120"/>
          <p:cNvSpPr/>
          <p:nvPr/>
        </p:nvSpPr>
        <p:spPr>
          <a:xfrm>
            <a:off x="5367600" y="1157400"/>
            <a:ext cx="5814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Cod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直接连接符 121"/>
          <p:cNvSpPr/>
          <p:nvPr/>
        </p:nvSpPr>
        <p:spPr>
          <a:xfrm>
            <a:off x="5972040" y="1676520"/>
            <a:ext cx="8424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TextBox 122"/>
          <p:cNvSpPr/>
          <p:nvPr/>
        </p:nvSpPr>
        <p:spPr>
          <a:xfrm>
            <a:off x="5611320" y="1430280"/>
            <a:ext cx="72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Valid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直接连接符 123"/>
          <p:cNvSpPr/>
          <p:nvPr/>
        </p:nvSpPr>
        <p:spPr>
          <a:xfrm flipH="1">
            <a:off x="6477120" y="1500120"/>
            <a:ext cx="117360" cy="52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TextBox 124"/>
          <p:cNvSpPr/>
          <p:nvPr/>
        </p:nvSpPr>
        <p:spPr>
          <a:xfrm>
            <a:off x="6102360" y="1284120"/>
            <a:ext cx="983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Content Popul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直接连接符 125"/>
          <p:cNvSpPr/>
          <p:nvPr/>
        </p:nvSpPr>
        <p:spPr>
          <a:xfrm flipH="1">
            <a:off x="7308720" y="965160"/>
            <a:ext cx="30240" cy="112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TextBox 126"/>
          <p:cNvSpPr/>
          <p:nvPr/>
        </p:nvSpPr>
        <p:spPr>
          <a:xfrm>
            <a:off x="6779160" y="565200"/>
            <a:ext cx="1118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Cross Plat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&amp;Browser Tes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TextBox 127"/>
          <p:cNvSpPr/>
          <p:nvPr/>
        </p:nvSpPr>
        <p:spPr>
          <a:xfrm>
            <a:off x="7372800" y="1392120"/>
            <a:ext cx="662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Refineme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直接连接符 128"/>
          <p:cNvSpPr/>
          <p:nvPr/>
        </p:nvSpPr>
        <p:spPr>
          <a:xfrm>
            <a:off x="7704000" y="1608120"/>
            <a:ext cx="336600" cy="73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TextBox 129"/>
          <p:cNvSpPr/>
          <p:nvPr/>
        </p:nvSpPr>
        <p:spPr>
          <a:xfrm>
            <a:off x="7918920" y="1579680"/>
            <a:ext cx="590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Launch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直接连接符 130"/>
          <p:cNvSpPr/>
          <p:nvPr/>
        </p:nvSpPr>
        <p:spPr>
          <a:xfrm>
            <a:off x="8213760" y="1841400"/>
            <a:ext cx="198360" cy="40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直接连接符 131"/>
          <p:cNvSpPr/>
          <p:nvPr/>
        </p:nvSpPr>
        <p:spPr>
          <a:xfrm>
            <a:off x="8550360" y="1547640"/>
            <a:ext cx="171360" cy="69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TextBox 132"/>
          <p:cNvSpPr/>
          <p:nvPr/>
        </p:nvSpPr>
        <p:spPr>
          <a:xfrm>
            <a:off x="8093520" y="1147680"/>
            <a:ext cx="915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Search Engi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Submiss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直接连接符 133"/>
          <p:cNvSpPr/>
          <p:nvPr/>
        </p:nvSpPr>
        <p:spPr>
          <a:xfrm>
            <a:off x="468360" y="28479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TextBox 134"/>
          <p:cNvSpPr/>
          <p:nvPr/>
        </p:nvSpPr>
        <p:spPr>
          <a:xfrm>
            <a:off x="327600" y="3435480"/>
            <a:ext cx="779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Initial Mee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直接连接符 135"/>
          <p:cNvSpPr/>
          <p:nvPr/>
        </p:nvSpPr>
        <p:spPr>
          <a:xfrm>
            <a:off x="927000" y="2946240"/>
            <a:ext cx="47880" cy="20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TextBox 136"/>
          <p:cNvSpPr/>
          <p:nvPr/>
        </p:nvSpPr>
        <p:spPr>
          <a:xfrm>
            <a:off x="487080" y="3147840"/>
            <a:ext cx="974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Needs Assessme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Feed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直接连接符 137"/>
          <p:cNvSpPr/>
          <p:nvPr/>
        </p:nvSpPr>
        <p:spPr>
          <a:xfrm flipH="1">
            <a:off x="1499760" y="2884320"/>
            <a:ext cx="407880" cy="766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TextBox 138"/>
          <p:cNvSpPr/>
          <p:nvPr/>
        </p:nvSpPr>
        <p:spPr>
          <a:xfrm>
            <a:off x="1009800" y="3651120"/>
            <a:ext cx="981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Site Outline Review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直接连接符 139"/>
          <p:cNvSpPr/>
          <p:nvPr/>
        </p:nvSpPr>
        <p:spPr>
          <a:xfrm flipH="1">
            <a:off x="2015640" y="2900520"/>
            <a:ext cx="297000" cy="47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TextBox 140"/>
          <p:cNvSpPr/>
          <p:nvPr/>
        </p:nvSpPr>
        <p:spPr>
          <a:xfrm>
            <a:off x="1581840" y="3378240"/>
            <a:ext cx="866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Site Map Review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直接连接符 141"/>
          <p:cNvSpPr/>
          <p:nvPr/>
        </p:nvSpPr>
        <p:spPr>
          <a:xfrm>
            <a:off x="2862360" y="3021120"/>
            <a:ext cx="109440" cy="58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TextBox 142"/>
          <p:cNvSpPr/>
          <p:nvPr/>
        </p:nvSpPr>
        <p:spPr>
          <a:xfrm>
            <a:off x="2571120" y="3603600"/>
            <a:ext cx="801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Wirefram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Revie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直接连接符 143"/>
          <p:cNvSpPr/>
          <p:nvPr/>
        </p:nvSpPr>
        <p:spPr>
          <a:xfrm>
            <a:off x="3344760" y="3030480"/>
            <a:ext cx="335160" cy="347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TextBox 144"/>
          <p:cNvSpPr/>
          <p:nvPr/>
        </p:nvSpPr>
        <p:spPr>
          <a:xfrm>
            <a:off x="3335040" y="3378240"/>
            <a:ext cx="689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Site Conte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Submiss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直接连接符 145"/>
          <p:cNvSpPr/>
          <p:nvPr/>
        </p:nvSpPr>
        <p:spPr>
          <a:xfrm>
            <a:off x="4498920" y="3259080"/>
            <a:ext cx="100080" cy="36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TextBox 146"/>
          <p:cNvSpPr/>
          <p:nvPr/>
        </p:nvSpPr>
        <p:spPr>
          <a:xfrm>
            <a:off x="4084920" y="3625920"/>
            <a:ext cx="10296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Landing P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Artwork Revie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直接连接符 147"/>
          <p:cNvSpPr/>
          <p:nvPr/>
        </p:nvSpPr>
        <p:spPr>
          <a:xfrm>
            <a:off x="5191200" y="3097080"/>
            <a:ext cx="234720" cy="419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TextBox 148"/>
          <p:cNvSpPr/>
          <p:nvPr/>
        </p:nvSpPr>
        <p:spPr>
          <a:xfrm>
            <a:off x="4994280" y="3516480"/>
            <a:ext cx="86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Inner Page(s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Artwork Review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直接连接符 149"/>
          <p:cNvSpPr/>
          <p:nvPr/>
        </p:nvSpPr>
        <p:spPr>
          <a:xfrm>
            <a:off x="7659720" y="2870280"/>
            <a:ext cx="158760" cy="39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TextBox 150"/>
          <p:cNvSpPr/>
          <p:nvPr/>
        </p:nvSpPr>
        <p:spPr>
          <a:xfrm>
            <a:off x="7396560" y="3267000"/>
            <a:ext cx="843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Final Revie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直接连接符 151"/>
          <p:cNvSpPr/>
          <p:nvPr/>
        </p:nvSpPr>
        <p:spPr>
          <a:xfrm flipH="1">
            <a:off x="474840" y="4467240"/>
            <a:ext cx="129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直接连接符 152"/>
          <p:cNvSpPr/>
          <p:nvPr/>
        </p:nvSpPr>
        <p:spPr>
          <a:xfrm flipH="1">
            <a:off x="2220480" y="446724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直接连接符 153"/>
          <p:cNvSpPr/>
          <p:nvPr/>
        </p:nvSpPr>
        <p:spPr>
          <a:xfrm flipH="1">
            <a:off x="3995280" y="446724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直接连接符 154"/>
          <p:cNvSpPr/>
          <p:nvPr/>
        </p:nvSpPr>
        <p:spPr>
          <a:xfrm flipH="1">
            <a:off x="5691240" y="446724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TextBox 155"/>
          <p:cNvSpPr/>
          <p:nvPr/>
        </p:nvSpPr>
        <p:spPr>
          <a:xfrm>
            <a:off x="396720" y="4227480"/>
            <a:ext cx="976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LEST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3" name="组合 156"/>
          <p:cNvGrpSpPr/>
          <p:nvPr/>
        </p:nvGrpSpPr>
        <p:grpSpPr>
          <a:xfrm>
            <a:off x="528480" y="4551480"/>
            <a:ext cx="88920" cy="90360"/>
            <a:chOff x="528480" y="4551480"/>
            <a:chExt cx="88920" cy="90360"/>
          </a:xfrm>
        </p:grpSpPr>
        <p:sp>
          <p:nvSpPr>
            <p:cNvPr id="1314" name="椭圆 157"/>
            <p:cNvSpPr/>
            <p:nvPr/>
          </p:nvSpPr>
          <p:spPr>
            <a:xfrm>
              <a:off x="528480" y="4551480"/>
              <a:ext cx="88920" cy="9036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5" name="椭圆 158"/>
            <p:cNvSpPr/>
            <p:nvPr/>
          </p:nvSpPr>
          <p:spPr>
            <a:xfrm flipH="1" flipV="1">
              <a:off x="556920" y="4581000"/>
              <a:ext cx="30600" cy="30960"/>
            </a:xfrm>
            <a:prstGeom prst="ellipse">
              <a:avLst/>
            </a:prstGeom>
            <a:solidFill>
              <a:srgbClr val="0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6" name="直接连接符 159"/>
          <p:cNvSpPr/>
          <p:nvPr/>
        </p:nvSpPr>
        <p:spPr>
          <a:xfrm flipH="1" flipV="1">
            <a:off x="604800" y="4627440"/>
            <a:ext cx="341280" cy="231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TextBox 160"/>
          <p:cNvSpPr/>
          <p:nvPr/>
        </p:nvSpPr>
        <p:spPr>
          <a:xfrm>
            <a:off x="562680" y="4819680"/>
            <a:ext cx="974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Milestone Occurrenc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椭圆 161"/>
          <p:cNvSpPr/>
          <p:nvPr/>
        </p:nvSpPr>
        <p:spPr>
          <a:xfrm>
            <a:off x="2556000" y="4686480"/>
            <a:ext cx="274680" cy="274320"/>
          </a:xfrm>
          <a:prstGeom prst="ellipse">
            <a:avLst/>
          </a:prstGeom>
          <a:solidFill>
            <a:srgbClr val="59f50b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椭圆 162"/>
          <p:cNvSpPr/>
          <p:nvPr/>
        </p:nvSpPr>
        <p:spPr>
          <a:xfrm>
            <a:off x="2736720" y="4567320"/>
            <a:ext cx="511200" cy="511200"/>
          </a:xfrm>
          <a:prstGeom prst="ellipse">
            <a:avLst/>
          </a:prstGeom>
          <a:solidFill>
            <a:srgbClr val="59f50b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TextBox 163"/>
          <p:cNvSpPr/>
          <p:nvPr/>
        </p:nvSpPr>
        <p:spPr>
          <a:xfrm>
            <a:off x="2122920" y="4227480"/>
            <a:ext cx="110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VOLV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TextBox 164"/>
          <p:cNvSpPr/>
          <p:nvPr/>
        </p:nvSpPr>
        <p:spPr>
          <a:xfrm>
            <a:off x="2195640" y="4527720"/>
            <a:ext cx="3315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Les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直接连接符 165"/>
          <p:cNvSpPr/>
          <p:nvPr/>
        </p:nvSpPr>
        <p:spPr>
          <a:xfrm flipH="1" flipV="1">
            <a:off x="2503080" y="4727520"/>
            <a:ext cx="189000" cy="11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直接连接符 166"/>
          <p:cNvSpPr/>
          <p:nvPr/>
        </p:nvSpPr>
        <p:spPr>
          <a:xfrm flipH="1" flipV="1">
            <a:off x="3176280" y="4784400"/>
            <a:ext cx="199800" cy="23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TextBox 167"/>
          <p:cNvSpPr/>
          <p:nvPr/>
        </p:nvSpPr>
        <p:spPr>
          <a:xfrm>
            <a:off x="3279960" y="4964040"/>
            <a:ext cx="3787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Mor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TextBox 168"/>
          <p:cNvSpPr/>
          <p:nvPr/>
        </p:nvSpPr>
        <p:spPr>
          <a:xfrm>
            <a:off x="3908880" y="4527720"/>
            <a:ext cx="4748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Averag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TextBox 169"/>
          <p:cNvSpPr/>
          <p:nvPr/>
        </p:nvSpPr>
        <p:spPr>
          <a:xfrm>
            <a:off x="3897360" y="422748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POR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TextBox 170"/>
          <p:cNvSpPr/>
          <p:nvPr/>
        </p:nvSpPr>
        <p:spPr>
          <a:xfrm>
            <a:off x="4069440" y="4659480"/>
            <a:ext cx="587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Grea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TextBox 171"/>
          <p:cNvSpPr/>
          <p:nvPr/>
        </p:nvSpPr>
        <p:spPr>
          <a:xfrm>
            <a:off x="5597280" y="4227480"/>
            <a:ext cx="587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椭圆 172"/>
          <p:cNvSpPr/>
          <p:nvPr/>
        </p:nvSpPr>
        <p:spPr>
          <a:xfrm>
            <a:off x="5705640" y="4564080"/>
            <a:ext cx="455400" cy="455760"/>
          </a:xfrm>
          <a:prstGeom prst="ellipse">
            <a:avLst/>
          </a:prstGeom>
          <a:solidFill>
            <a:srgbClr val="000000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椭圆 173"/>
          <p:cNvSpPr/>
          <p:nvPr/>
        </p:nvSpPr>
        <p:spPr>
          <a:xfrm>
            <a:off x="6019920" y="4567320"/>
            <a:ext cx="453960" cy="453960"/>
          </a:xfrm>
          <a:prstGeom prst="ellipse">
            <a:avLst/>
          </a:prstGeom>
          <a:solidFill>
            <a:srgbClr val="f24f0e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椭圆 174"/>
          <p:cNvSpPr/>
          <p:nvPr/>
        </p:nvSpPr>
        <p:spPr>
          <a:xfrm>
            <a:off x="6338880" y="4567320"/>
            <a:ext cx="452520" cy="453960"/>
          </a:xfrm>
          <a:prstGeom prst="ellipse">
            <a:avLst/>
          </a:prstGeom>
          <a:solidFill>
            <a:srgbClr val="ffc000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椭圆 175"/>
          <p:cNvSpPr/>
          <p:nvPr/>
        </p:nvSpPr>
        <p:spPr>
          <a:xfrm>
            <a:off x="6643800" y="4567320"/>
            <a:ext cx="453960" cy="453960"/>
          </a:xfrm>
          <a:prstGeom prst="ellipse">
            <a:avLst/>
          </a:prstGeom>
          <a:solidFill>
            <a:srgbClr val="59f50b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椭圆 176"/>
          <p:cNvSpPr/>
          <p:nvPr/>
        </p:nvSpPr>
        <p:spPr>
          <a:xfrm>
            <a:off x="6935760" y="4567320"/>
            <a:ext cx="453960" cy="453960"/>
          </a:xfrm>
          <a:prstGeom prst="ellipse">
            <a:avLst/>
          </a:prstGeom>
          <a:solidFill>
            <a:srgbClr val="00b0f0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椭圆 177"/>
          <p:cNvSpPr/>
          <p:nvPr/>
        </p:nvSpPr>
        <p:spPr>
          <a:xfrm>
            <a:off x="7242120" y="4567320"/>
            <a:ext cx="452520" cy="453960"/>
          </a:xfrm>
          <a:prstGeom prst="ellipse">
            <a:avLst/>
          </a:prstGeom>
          <a:solidFill>
            <a:srgbClr val="ff2bc2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TextBox 178"/>
          <p:cNvSpPr/>
          <p:nvPr/>
        </p:nvSpPr>
        <p:spPr>
          <a:xfrm>
            <a:off x="5738400" y="4667400"/>
            <a:ext cx="38952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" spc="-1" strike="noStrike">
                <a:solidFill>
                  <a:srgbClr val="ffffff"/>
                </a:solidFill>
                <a:latin typeface="Calibri"/>
              </a:rPr>
              <a:t>Initial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" spc="-1" strike="noStrike">
                <a:solidFill>
                  <a:srgbClr val="ffffff"/>
                </a:solidFill>
                <a:latin typeface="Calibri"/>
              </a:rPr>
              <a:t>Contact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TextBox 179"/>
          <p:cNvSpPr/>
          <p:nvPr/>
        </p:nvSpPr>
        <p:spPr>
          <a:xfrm>
            <a:off x="6040080" y="4707000"/>
            <a:ext cx="412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" spc="-1" strike="noStrike">
                <a:solidFill>
                  <a:srgbClr val="ffffff"/>
                </a:solidFill>
                <a:latin typeface="Calibri"/>
              </a:rPr>
              <a:t>Planning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TextBox 180"/>
          <p:cNvSpPr/>
          <p:nvPr/>
        </p:nvSpPr>
        <p:spPr>
          <a:xfrm>
            <a:off x="6366600" y="4707000"/>
            <a:ext cx="39708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" spc="-1" strike="noStrike">
                <a:solidFill>
                  <a:srgbClr val="ffffff"/>
                </a:solidFill>
                <a:latin typeface="Calibri"/>
              </a:rPr>
              <a:t>Content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TextBox 181"/>
          <p:cNvSpPr/>
          <p:nvPr/>
        </p:nvSpPr>
        <p:spPr>
          <a:xfrm>
            <a:off x="6691320" y="4707000"/>
            <a:ext cx="3589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" spc="-1" strike="noStrike">
                <a:solidFill>
                  <a:srgbClr val="ffffff"/>
                </a:solidFill>
                <a:latin typeface="Calibri"/>
              </a:rPr>
              <a:t>Design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TextBox 182"/>
          <p:cNvSpPr/>
          <p:nvPr/>
        </p:nvSpPr>
        <p:spPr>
          <a:xfrm>
            <a:off x="6891840" y="4707000"/>
            <a:ext cx="5418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" spc="-1" strike="noStrike">
                <a:solidFill>
                  <a:srgbClr val="ffffff"/>
                </a:solidFill>
                <a:latin typeface="Calibri"/>
              </a:rPr>
              <a:t>Development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TextBox 183"/>
          <p:cNvSpPr/>
          <p:nvPr/>
        </p:nvSpPr>
        <p:spPr>
          <a:xfrm>
            <a:off x="7282080" y="4707000"/>
            <a:ext cx="3726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" spc="-1" strike="noStrike">
                <a:solidFill>
                  <a:srgbClr val="ffffff"/>
                </a:solidFill>
                <a:latin typeface="Calibri"/>
              </a:rPr>
              <a:t>Launch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TextBox 184"/>
          <p:cNvSpPr/>
          <p:nvPr/>
        </p:nvSpPr>
        <p:spPr>
          <a:xfrm>
            <a:off x="750600" y="2481120"/>
            <a:ext cx="41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Calibri"/>
              </a:rPr>
              <a:t>WEEK 1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TextBox 185"/>
          <p:cNvSpPr/>
          <p:nvPr/>
        </p:nvSpPr>
        <p:spPr>
          <a:xfrm>
            <a:off x="1845720" y="2481120"/>
            <a:ext cx="41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Calibri"/>
              </a:rPr>
              <a:t>WEEK 2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TextBox 186"/>
          <p:cNvSpPr/>
          <p:nvPr/>
        </p:nvSpPr>
        <p:spPr>
          <a:xfrm>
            <a:off x="2917440" y="2481120"/>
            <a:ext cx="41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Calibri"/>
              </a:rPr>
              <a:t>WEEK 3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TextBox 187"/>
          <p:cNvSpPr/>
          <p:nvPr/>
        </p:nvSpPr>
        <p:spPr>
          <a:xfrm>
            <a:off x="3935880" y="2481120"/>
            <a:ext cx="41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Calibri"/>
              </a:rPr>
              <a:t>WEEK 4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TextBox 188"/>
          <p:cNvSpPr/>
          <p:nvPr/>
        </p:nvSpPr>
        <p:spPr>
          <a:xfrm>
            <a:off x="4768560" y="2481120"/>
            <a:ext cx="41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Calibri"/>
              </a:rPr>
              <a:t>WEEK 5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TextBox 189"/>
          <p:cNvSpPr/>
          <p:nvPr/>
        </p:nvSpPr>
        <p:spPr>
          <a:xfrm>
            <a:off x="5741640" y="2481120"/>
            <a:ext cx="41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Calibri"/>
              </a:rPr>
              <a:t>WEEK 6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TextBox 190"/>
          <p:cNvSpPr/>
          <p:nvPr/>
        </p:nvSpPr>
        <p:spPr>
          <a:xfrm>
            <a:off x="6884640" y="2481120"/>
            <a:ext cx="41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Calibri"/>
              </a:rPr>
              <a:t>WEEK 7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TextBox 191"/>
          <p:cNvSpPr/>
          <p:nvPr/>
        </p:nvSpPr>
        <p:spPr>
          <a:xfrm>
            <a:off x="7728840" y="2481120"/>
            <a:ext cx="1095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Calibri"/>
              </a:rPr>
              <a:t>WEEK 8</a:t>
            </a:r>
            <a:r>
              <a:rPr b="1" lang="en-US" sz="6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9" name="空心弧 11"/>
          <p:cNvSpPr/>
          <p:nvPr/>
        </p:nvSpPr>
        <p:spPr>
          <a:xfrm rot="5460000">
            <a:off x="2285280" y="578880"/>
            <a:ext cx="2690640" cy="2692080"/>
          </a:xfrm>
          <a:custGeom>
            <a:avLst/>
            <a:gdLst>
              <a:gd name="textAreaLeft" fmla="*/ 0 w 2690640"/>
              <a:gd name="textAreaRight" fmla="*/ 2690640 w 2690640"/>
              <a:gd name="textAreaTop" fmla="*/ 0 h 2692080"/>
              <a:gd name="textAreaBottom" fmla="*/ 1367640 h 2692080"/>
            </a:gdLst>
            <a:ahLst/>
            <a:rect l="textAreaLeft" t="textAreaTop" r="textAreaRight" b="textAreaBottom"/>
            <a:pathLst>
              <a:path w="2691881" h="2691881">
                <a:moveTo>
                  <a:pt x="171" y="1367421"/>
                </a:moveTo>
                <a:lnTo>
                  <a:pt x="171" y="1367420"/>
                </a:lnTo>
                <a:cubicBezTo>
                  <a:pt x="57" y="1360261"/>
                  <a:pt x="0" y="1353100"/>
                  <a:pt x="0" y="1345940"/>
                </a:cubicBezTo>
                <a:cubicBezTo>
                  <a:pt x="0" y="602597"/>
                  <a:pt x="602598" y="-1"/>
                  <a:pt x="1345941" y="-1"/>
                </a:cubicBezTo>
                <a:cubicBezTo>
                  <a:pt x="2079523" y="-1"/>
                  <a:pt x="2678001" y="587444"/>
                  <a:pt x="2691649" y="1320899"/>
                </a:cubicBezTo>
                <a:lnTo>
                  <a:pt x="1896066" y="1335704"/>
                </a:lnTo>
                <a:lnTo>
                  <a:pt x="1896065" y="1335704"/>
                </a:lnTo>
                <a:cubicBezTo>
                  <a:pt x="1890486" y="1035867"/>
                  <a:pt x="1645828" y="795719"/>
                  <a:pt x="1345940" y="795719"/>
                </a:cubicBezTo>
                <a:cubicBezTo>
                  <a:pt x="1042061" y="795719"/>
                  <a:pt x="795719" y="1042061"/>
                  <a:pt x="795719" y="1345940"/>
                </a:cubicBezTo>
                <a:cubicBezTo>
                  <a:pt x="795719" y="1348867"/>
                  <a:pt x="795742" y="1351794"/>
                  <a:pt x="795789" y="1354721"/>
                </a:cubicBezTo>
                <a:lnTo>
                  <a:pt x="171" y="1367421"/>
                </a:lnTo>
                <a:close/>
              </a:path>
            </a:pathLst>
          </a:custGeom>
          <a:solidFill>
            <a:srgbClr val="e46c0a"/>
          </a:solidFill>
          <a:ln w="0">
            <a:noFill/>
          </a:ln>
          <a:effectLst>
            <a:outerShdw dist="38160" dir="108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矩形 12"/>
          <p:cNvSpPr/>
          <p:nvPr/>
        </p:nvSpPr>
        <p:spPr>
          <a:xfrm>
            <a:off x="2274840" y="2478240"/>
            <a:ext cx="1366920" cy="792000"/>
          </a:xfrm>
          <a:prstGeom prst="rect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矩形 13"/>
          <p:cNvSpPr/>
          <p:nvPr/>
        </p:nvSpPr>
        <p:spPr>
          <a:xfrm>
            <a:off x="2274840" y="577800"/>
            <a:ext cx="1366920" cy="798480"/>
          </a:xfrm>
          <a:prstGeom prst="rect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空心弧 8"/>
          <p:cNvSpPr/>
          <p:nvPr/>
        </p:nvSpPr>
        <p:spPr>
          <a:xfrm rot="5460000">
            <a:off x="924120" y="578520"/>
            <a:ext cx="2690640" cy="2692440"/>
          </a:xfrm>
          <a:custGeom>
            <a:avLst/>
            <a:gdLst>
              <a:gd name="textAreaLeft" fmla="*/ 0 w 2690640"/>
              <a:gd name="textAreaRight" fmla="*/ 2690640 w 2690640"/>
              <a:gd name="textAreaTop" fmla="*/ 0 h 2692440"/>
              <a:gd name="textAreaBottom" fmla="*/ 1367640 h 2692440"/>
            </a:gdLst>
            <a:ahLst/>
            <a:rect l="textAreaLeft" t="textAreaTop" r="textAreaRight" b="textAreaBottom"/>
            <a:pathLst>
              <a:path w="2691881" h="2691881">
                <a:moveTo>
                  <a:pt x="171" y="1367421"/>
                </a:moveTo>
                <a:lnTo>
                  <a:pt x="171" y="1367420"/>
                </a:lnTo>
                <a:cubicBezTo>
                  <a:pt x="57" y="1360261"/>
                  <a:pt x="0" y="1353100"/>
                  <a:pt x="0" y="1345940"/>
                </a:cubicBezTo>
                <a:cubicBezTo>
                  <a:pt x="0" y="602597"/>
                  <a:pt x="602598" y="-1"/>
                  <a:pt x="1345941" y="-1"/>
                </a:cubicBezTo>
                <a:cubicBezTo>
                  <a:pt x="2079523" y="-1"/>
                  <a:pt x="2678001" y="587444"/>
                  <a:pt x="2691649" y="1320899"/>
                </a:cubicBezTo>
                <a:lnTo>
                  <a:pt x="1896066" y="1335704"/>
                </a:lnTo>
                <a:lnTo>
                  <a:pt x="1896065" y="1335704"/>
                </a:lnTo>
                <a:cubicBezTo>
                  <a:pt x="1890486" y="1035867"/>
                  <a:pt x="1645828" y="795719"/>
                  <a:pt x="1345940" y="795719"/>
                </a:cubicBezTo>
                <a:cubicBezTo>
                  <a:pt x="1042061" y="795719"/>
                  <a:pt x="795719" y="1042061"/>
                  <a:pt x="795719" y="1345940"/>
                </a:cubicBezTo>
                <a:cubicBezTo>
                  <a:pt x="795719" y="1348867"/>
                  <a:pt x="795742" y="1351794"/>
                  <a:pt x="795789" y="1354721"/>
                </a:cubicBezTo>
                <a:lnTo>
                  <a:pt x="171" y="1367421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  <a:effectLst>
            <a:outerShdw dist="38160" dir="108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矩形 9"/>
          <p:cNvSpPr/>
          <p:nvPr/>
        </p:nvSpPr>
        <p:spPr>
          <a:xfrm>
            <a:off x="912960" y="2478240"/>
            <a:ext cx="1368360" cy="792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矩形 10"/>
          <p:cNvSpPr/>
          <p:nvPr/>
        </p:nvSpPr>
        <p:spPr>
          <a:xfrm>
            <a:off x="912960" y="577800"/>
            <a:ext cx="1368360" cy="7984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空心弧 6"/>
          <p:cNvSpPr/>
          <p:nvPr/>
        </p:nvSpPr>
        <p:spPr>
          <a:xfrm rot="5460000">
            <a:off x="-435240" y="580320"/>
            <a:ext cx="2690640" cy="2689200"/>
          </a:xfrm>
          <a:custGeom>
            <a:avLst/>
            <a:gdLst>
              <a:gd name="textAreaLeft" fmla="*/ 0 w 2690640"/>
              <a:gd name="textAreaRight" fmla="*/ 2690640 w 2690640"/>
              <a:gd name="textAreaTop" fmla="*/ 0 h 2689200"/>
              <a:gd name="textAreaBottom" fmla="*/ 1366200 h 2689200"/>
            </a:gdLst>
            <a:ahLst/>
            <a:rect l="textAreaLeft" t="textAreaTop" r="textAreaRight" b="textAreaBottom"/>
            <a:pathLst>
              <a:path w="2691881" h="2691881">
                <a:moveTo>
                  <a:pt x="171" y="1367421"/>
                </a:moveTo>
                <a:lnTo>
                  <a:pt x="171" y="1367420"/>
                </a:lnTo>
                <a:cubicBezTo>
                  <a:pt x="57" y="1360261"/>
                  <a:pt x="0" y="1353100"/>
                  <a:pt x="0" y="1345940"/>
                </a:cubicBezTo>
                <a:cubicBezTo>
                  <a:pt x="0" y="602597"/>
                  <a:pt x="602598" y="-1"/>
                  <a:pt x="1345941" y="-1"/>
                </a:cubicBezTo>
                <a:cubicBezTo>
                  <a:pt x="2079523" y="-1"/>
                  <a:pt x="2678001" y="587444"/>
                  <a:pt x="2691649" y="1320899"/>
                </a:cubicBezTo>
                <a:lnTo>
                  <a:pt x="1896066" y="1335704"/>
                </a:lnTo>
                <a:lnTo>
                  <a:pt x="1896065" y="1335704"/>
                </a:lnTo>
                <a:cubicBezTo>
                  <a:pt x="1890486" y="1035867"/>
                  <a:pt x="1645828" y="795719"/>
                  <a:pt x="1345940" y="795719"/>
                </a:cubicBezTo>
                <a:cubicBezTo>
                  <a:pt x="1042061" y="795719"/>
                  <a:pt x="795719" y="1042061"/>
                  <a:pt x="795719" y="1345940"/>
                </a:cubicBezTo>
                <a:cubicBezTo>
                  <a:pt x="795719" y="1348867"/>
                  <a:pt x="795742" y="1351794"/>
                  <a:pt x="795789" y="1354721"/>
                </a:cubicBezTo>
                <a:lnTo>
                  <a:pt x="171" y="1367421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  <a:effectLst>
            <a:outerShdw dist="38160" dir="108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6" name="组合 3"/>
          <p:cNvGrpSpPr/>
          <p:nvPr/>
        </p:nvGrpSpPr>
        <p:grpSpPr>
          <a:xfrm>
            <a:off x="900000" y="187200"/>
            <a:ext cx="162000" cy="3672000"/>
            <a:chOff x="900000" y="187200"/>
            <a:chExt cx="162000" cy="3672000"/>
          </a:xfrm>
        </p:grpSpPr>
        <p:pic>
          <p:nvPicPr>
            <p:cNvPr id="1357" name="Picture 3" descr=""/>
            <p:cNvPicPr/>
            <p:nvPr/>
          </p:nvPicPr>
          <p:blipFill>
            <a:blip r:embed="rId2"/>
            <a:srcRect l="2767" t="0" r="7208" b="57688"/>
            <a:stretch/>
          </p:blipFill>
          <p:spPr>
            <a:xfrm flipH="1" rot="5400000">
              <a:off x="-846360" y="1950840"/>
              <a:ext cx="3672000" cy="1447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58" name="矩形 5"/>
            <p:cNvGrpSpPr/>
            <p:nvPr/>
          </p:nvGrpSpPr>
          <p:grpSpPr>
            <a:xfrm>
              <a:off x="900000" y="488160"/>
              <a:ext cx="29880" cy="3011040"/>
              <a:chOff x="900000" y="488160"/>
              <a:chExt cx="29880" cy="3011040"/>
            </a:xfrm>
          </p:grpSpPr>
          <p:pic>
            <p:nvPicPr>
              <p:cNvPr id="1359" name="矩形 5" descr=""/>
              <p:cNvPicPr/>
              <p:nvPr/>
            </p:nvPicPr>
            <p:blipFill>
              <a:blip r:embed="rId3"/>
              <a:stretch/>
            </p:blipFill>
            <p:spPr>
              <a:xfrm>
                <a:off x="900000" y="488160"/>
                <a:ext cx="29880" cy="3011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60" name="Text Box 13"/>
              <p:cNvSpPr/>
              <p:nvPr/>
            </p:nvSpPr>
            <p:spPr>
              <a:xfrm rot="5400000">
                <a:off x="-588600" y="1983600"/>
                <a:ext cx="3002760" cy="1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61" name="TextBox 14"/>
          <p:cNvSpPr/>
          <p:nvPr/>
        </p:nvSpPr>
        <p:spPr>
          <a:xfrm>
            <a:off x="1418040" y="1380960"/>
            <a:ext cx="878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0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TextBox 15"/>
          <p:cNvSpPr/>
          <p:nvPr/>
        </p:nvSpPr>
        <p:spPr>
          <a:xfrm>
            <a:off x="2773800" y="1380960"/>
            <a:ext cx="878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0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TextBox 16"/>
          <p:cNvSpPr/>
          <p:nvPr/>
        </p:nvSpPr>
        <p:spPr>
          <a:xfrm>
            <a:off x="4144680" y="1380960"/>
            <a:ext cx="878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0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TextBox 17"/>
          <p:cNvSpPr/>
          <p:nvPr/>
        </p:nvSpPr>
        <p:spPr>
          <a:xfrm>
            <a:off x="1483200" y="202572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Op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TextBox 18"/>
          <p:cNvSpPr/>
          <p:nvPr/>
        </p:nvSpPr>
        <p:spPr>
          <a:xfrm>
            <a:off x="2838960" y="202572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Op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TextBox 19"/>
          <p:cNvSpPr/>
          <p:nvPr/>
        </p:nvSpPr>
        <p:spPr>
          <a:xfrm>
            <a:off x="4209120" y="202572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Op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TextBox 20"/>
          <p:cNvSpPr/>
          <p:nvPr/>
        </p:nvSpPr>
        <p:spPr>
          <a:xfrm>
            <a:off x="1312560" y="3494160"/>
            <a:ext cx="226404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here to add you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or Copy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nd paste i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TextBox 21"/>
          <p:cNvSpPr/>
          <p:nvPr/>
        </p:nvSpPr>
        <p:spPr>
          <a:xfrm>
            <a:off x="4006440" y="3494160"/>
            <a:ext cx="226404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000"/>
                </a:solidFill>
                <a:latin typeface="Calibri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here to add you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or Copy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nd paste i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TextBox 22"/>
          <p:cNvSpPr/>
          <p:nvPr/>
        </p:nvSpPr>
        <p:spPr>
          <a:xfrm>
            <a:off x="6598800" y="3494160"/>
            <a:ext cx="226404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46c0a"/>
                </a:solidFill>
                <a:latin typeface="Calibri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here to add you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or Copy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nd paste i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0" name="组合 8" descr=""/>
          <p:cNvPicPr/>
          <p:nvPr/>
        </p:nvPicPr>
        <p:blipFill>
          <a:blip r:embed="rId1"/>
          <a:stretch/>
        </p:blipFill>
        <p:spPr>
          <a:xfrm>
            <a:off x="901800" y="2633760"/>
            <a:ext cx="2828880" cy="2840040"/>
          </a:xfrm>
          <a:prstGeom prst="rect">
            <a:avLst/>
          </a:prstGeom>
          <a:ln w="0">
            <a:noFill/>
          </a:ln>
        </p:spPr>
      </p:pic>
      <p:pic>
        <p:nvPicPr>
          <p:cNvPr id="1371" name="组合 9" descr=""/>
          <p:cNvPicPr/>
          <p:nvPr/>
        </p:nvPicPr>
        <p:blipFill>
          <a:blip r:embed="rId2"/>
          <a:stretch/>
        </p:blipFill>
        <p:spPr>
          <a:xfrm>
            <a:off x="2341440" y="-236520"/>
            <a:ext cx="2827440" cy="2840040"/>
          </a:xfrm>
          <a:prstGeom prst="rect">
            <a:avLst/>
          </a:prstGeom>
          <a:ln w="0">
            <a:noFill/>
          </a:ln>
        </p:spPr>
      </p:pic>
      <p:pic>
        <p:nvPicPr>
          <p:cNvPr id="1372" name="组合 15" descr=""/>
          <p:cNvPicPr/>
          <p:nvPr/>
        </p:nvPicPr>
        <p:blipFill>
          <a:blip r:embed="rId3"/>
          <a:stretch/>
        </p:blipFill>
        <p:spPr>
          <a:xfrm>
            <a:off x="3786120" y="2633760"/>
            <a:ext cx="2827440" cy="2840040"/>
          </a:xfrm>
          <a:prstGeom prst="rect">
            <a:avLst/>
          </a:prstGeom>
          <a:ln w="0">
            <a:noFill/>
          </a:ln>
        </p:spPr>
      </p:pic>
      <p:pic>
        <p:nvPicPr>
          <p:cNvPr id="1373" name="组合 19" descr=""/>
          <p:cNvPicPr/>
          <p:nvPr/>
        </p:nvPicPr>
        <p:blipFill>
          <a:blip r:embed="rId4"/>
          <a:stretch/>
        </p:blipFill>
        <p:spPr>
          <a:xfrm>
            <a:off x="5230800" y="-236520"/>
            <a:ext cx="2827440" cy="2840040"/>
          </a:xfrm>
          <a:prstGeom prst="rect">
            <a:avLst/>
          </a:prstGeom>
          <a:ln w="0">
            <a:noFill/>
          </a:ln>
        </p:spPr>
      </p:pic>
      <p:sp>
        <p:nvSpPr>
          <p:cNvPr id="1374" name="矩形 23"/>
          <p:cNvSpPr/>
          <p:nvPr/>
        </p:nvSpPr>
        <p:spPr>
          <a:xfrm>
            <a:off x="0" y="2376360"/>
            <a:ext cx="9144000" cy="482760"/>
          </a:xfrm>
          <a:prstGeom prst="rect">
            <a:avLst/>
          </a:prstGeom>
          <a:solidFill>
            <a:srgbClr val="d9d9d9"/>
          </a:solidFill>
          <a:ln w="0">
            <a:noFill/>
          </a:ln>
          <a:effectLst>
            <a:outerShdw dist="153753" dir="2700000" blurRad="0" rotWithShape="0">
              <a:srgbClr val="000000">
                <a:alpha val="6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TextBox 24"/>
          <p:cNvSpPr/>
          <p:nvPr/>
        </p:nvSpPr>
        <p:spPr>
          <a:xfrm>
            <a:off x="1963080" y="2284560"/>
            <a:ext cx="70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0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TextBox 25"/>
          <p:cNvSpPr/>
          <p:nvPr/>
        </p:nvSpPr>
        <p:spPr>
          <a:xfrm>
            <a:off x="1962000" y="28638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Calibri"/>
              </a:rPr>
              <a:t>Op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TextBox 26"/>
          <p:cNvSpPr/>
          <p:nvPr/>
        </p:nvSpPr>
        <p:spPr>
          <a:xfrm>
            <a:off x="3404520" y="2284560"/>
            <a:ext cx="70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0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TextBox 27"/>
          <p:cNvSpPr/>
          <p:nvPr/>
        </p:nvSpPr>
        <p:spPr>
          <a:xfrm>
            <a:off x="3383640" y="204948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Calibri"/>
              </a:rPr>
              <a:t>Op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TextBox 28"/>
          <p:cNvSpPr/>
          <p:nvPr/>
        </p:nvSpPr>
        <p:spPr>
          <a:xfrm>
            <a:off x="6292080" y="2284560"/>
            <a:ext cx="70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0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TextBox 29"/>
          <p:cNvSpPr/>
          <p:nvPr/>
        </p:nvSpPr>
        <p:spPr>
          <a:xfrm>
            <a:off x="6270480" y="204948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Calibri"/>
              </a:rPr>
              <a:t>Op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TextBox 30"/>
          <p:cNvSpPr/>
          <p:nvPr/>
        </p:nvSpPr>
        <p:spPr>
          <a:xfrm>
            <a:off x="4821120" y="2284560"/>
            <a:ext cx="70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0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TextBox 31"/>
          <p:cNvSpPr/>
          <p:nvPr/>
        </p:nvSpPr>
        <p:spPr>
          <a:xfrm>
            <a:off x="4820400" y="28638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Calibri"/>
              </a:rPr>
              <a:t>Op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Freeform 164"/>
          <p:cNvSpPr/>
          <p:nvPr/>
        </p:nvSpPr>
        <p:spPr>
          <a:xfrm>
            <a:off x="2058840" y="3544920"/>
            <a:ext cx="513000" cy="711000"/>
          </a:xfrm>
          <a:custGeom>
            <a:avLst/>
            <a:gdLst>
              <a:gd name="textAreaLeft" fmla="*/ 0 w 513000"/>
              <a:gd name="textAreaRight" fmla="*/ 513360 w 513000"/>
              <a:gd name="textAreaTop" fmla="*/ 0 h 711000"/>
              <a:gd name="textAreaBottom" fmla="*/ 711360 h 711000"/>
            </a:gdLst>
            <a:ahLst/>
            <a:rect l="textAreaLeft" t="textAreaTop" r="textAreaRight" b="textAreaBottom"/>
            <a:pathLst>
              <a:path w="288" h="399">
                <a:moveTo>
                  <a:pt x="223" y="371"/>
                </a:moveTo>
                <a:cubicBezTo>
                  <a:pt x="221" y="373"/>
                  <a:pt x="221" y="373"/>
                  <a:pt x="221" y="373"/>
                </a:cubicBezTo>
                <a:cubicBezTo>
                  <a:pt x="220" y="374"/>
                  <a:pt x="218" y="375"/>
                  <a:pt x="217" y="376"/>
                </a:cubicBezTo>
                <a:cubicBezTo>
                  <a:pt x="215" y="374"/>
                  <a:pt x="205" y="366"/>
                  <a:pt x="194" y="350"/>
                </a:cubicBezTo>
                <a:cubicBezTo>
                  <a:pt x="181" y="332"/>
                  <a:pt x="177" y="299"/>
                  <a:pt x="180" y="268"/>
                </a:cubicBezTo>
                <a:cubicBezTo>
                  <a:pt x="186" y="212"/>
                  <a:pt x="180" y="148"/>
                  <a:pt x="137" y="150"/>
                </a:cubicBezTo>
                <a:cubicBezTo>
                  <a:pt x="90" y="152"/>
                  <a:pt x="69" y="245"/>
                  <a:pt x="106" y="319"/>
                </a:cubicBezTo>
                <a:cubicBezTo>
                  <a:pt x="125" y="357"/>
                  <a:pt x="150" y="384"/>
                  <a:pt x="165" y="398"/>
                </a:cubicBezTo>
                <a:cubicBezTo>
                  <a:pt x="161" y="398"/>
                  <a:pt x="157" y="399"/>
                  <a:pt x="153" y="399"/>
                </a:cubicBezTo>
                <a:cubicBezTo>
                  <a:pt x="137" y="384"/>
                  <a:pt x="115" y="364"/>
                  <a:pt x="94" y="325"/>
                </a:cubicBezTo>
                <a:cubicBezTo>
                  <a:pt x="46" y="236"/>
                  <a:pt x="82" y="134"/>
                  <a:pt x="137" y="134"/>
                </a:cubicBezTo>
                <a:cubicBezTo>
                  <a:pt x="195" y="134"/>
                  <a:pt x="201" y="201"/>
                  <a:pt x="192" y="269"/>
                </a:cubicBezTo>
                <a:cubicBezTo>
                  <a:pt x="188" y="301"/>
                  <a:pt x="191" y="329"/>
                  <a:pt x="202" y="346"/>
                </a:cubicBezTo>
                <a:cubicBezTo>
                  <a:pt x="213" y="363"/>
                  <a:pt x="224" y="370"/>
                  <a:pt x="223" y="371"/>
                </a:cubicBezTo>
                <a:close/>
                <a:moveTo>
                  <a:pt x="166" y="306"/>
                </a:moveTo>
                <a:cubicBezTo>
                  <a:pt x="163" y="275"/>
                  <a:pt x="185" y="172"/>
                  <a:pt x="135" y="170"/>
                </a:cubicBezTo>
                <a:cubicBezTo>
                  <a:pt x="104" y="169"/>
                  <a:pt x="77" y="248"/>
                  <a:pt x="125" y="329"/>
                </a:cubicBezTo>
                <a:cubicBezTo>
                  <a:pt x="143" y="361"/>
                  <a:pt x="166" y="383"/>
                  <a:pt x="179" y="395"/>
                </a:cubicBezTo>
                <a:cubicBezTo>
                  <a:pt x="182" y="394"/>
                  <a:pt x="185" y="393"/>
                  <a:pt x="188" y="392"/>
                </a:cubicBezTo>
                <a:cubicBezTo>
                  <a:pt x="177" y="381"/>
                  <a:pt x="153" y="358"/>
                  <a:pt x="135" y="324"/>
                </a:cubicBezTo>
                <a:cubicBezTo>
                  <a:pt x="101" y="266"/>
                  <a:pt x="110" y="186"/>
                  <a:pt x="135" y="186"/>
                </a:cubicBezTo>
                <a:cubicBezTo>
                  <a:pt x="168" y="186"/>
                  <a:pt x="149" y="268"/>
                  <a:pt x="154" y="308"/>
                </a:cubicBezTo>
                <a:cubicBezTo>
                  <a:pt x="160" y="352"/>
                  <a:pt x="187" y="377"/>
                  <a:pt x="200" y="386"/>
                </a:cubicBezTo>
                <a:cubicBezTo>
                  <a:pt x="203" y="385"/>
                  <a:pt x="205" y="384"/>
                  <a:pt x="208" y="382"/>
                </a:cubicBezTo>
                <a:cubicBezTo>
                  <a:pt x="199" y="375"/>
                  <a:pt x="170" y="350"/>
                  <a:pt x="166" y="306"/>
                </a:cubicBezTo>
                <a:close/>
                <a:moveTo>
                  <a:pt x="85" y="380"/>
                </a:moveTo>
                <a:cubicBezTo>
                  <a:pt x="65" y="357"/>
                  <a:pt x="36" y="313"/>
                  <a:pt x="31" y="261"/>
                </a:cubicBezTo>
                <a:cubicBezTo>
                  <a:pt x="25" y="164"/>
                  <a:pt x="66" y="82"/>
                  <a:pt x="143" y="82"/>
                </a:cubicBezTo>
                <a:cubicBezTo>
                  <a:pt x="213" y="82"/>
                  <a:pt x="241" y="157"/>
                  <a:pt x="235" y="231"/>
                </a:cubicBezTo>
                <a:cubicBezTo>
                  <a:pt x="234" y="251"/>
                  <a:pt x="228" y="269"/>
                  <a:pt x="228" y="288"/>
                </a:cubicBezTo>
                <a:cubicBezTo>
                  <a:pt x="227" y="320"/>
                  <a:pt x="236" y="334"/>
                  <a:pt x="248" y="347"/>
                </a:cubicBezTo>
                <a:cubicBezTo>
                  <a:pt x="250" y="345"/>
                  <a:pt x="251" y="343"/>
                  <a:pt x="253" y="340"/>
                </a:cubicBezTo>
                <a:cubicBezTo>
                  <a:pt x="246" y="330"/>
                  <a:pt x="237" y="313"/>
                  <a:pt x="238" y="289"/>
                </a:cubicBezTo>
                <a:cubicBezTo>
                  <a:pt x="239" y="273"/>
                  <a:pt x="243" y="254"/>
                  <a:pt x="247" y="233"/>
                </a:cubicBezTo>
                <a:cubicBezTo>
                  <a:pt x="257" y="169"/>
                  <a:pt x="233" y="66"/>
                  <a:pt x="143" y="65"/>
                </a:cubicBezTo>
                <a:cubicBezTo>
                  <a:pt x="77" y="64"/>
                  <a:pt x="7" y="129"/>
                  <a:pt x="20" y="263"/>
                </a:cubicBezTo>
                <a:cubicBezTo>
                  <a:pt x="24" y="299"/>
                  <a:pt x="39" y="330"/>
                  <a:pt x="54" y="354"/>
                </a:cubicBezTo>
                <a:cubicBezTo>
                  <a:pt x="64" y="365"/>
                  <a:pt x="74" y="373"/>
                  <a:pt x="85" y="380"/>
                </a:cubicBezTo>
                <a:close/>
                <a:moveTo>
                  <a:pt x="219" y="331"/>
                </a:moveTo>
                <a:cubicBezTo>
                  <a:pt x="211" y="309"/>
                  <a:pt x="212" y="277"/>
                  <a:pt x="219" y="242"/>
                </a:cubicBezTo>
                <a:cubicBezTo>
                  <a:pt x="228" y="183"/>
                  <a:pt x="216" y="99"/>
                  <a:pt x="137" y="99"/>
                </a:cubicBezTo>
                <a:cubicBezTo>
                  <a:pt x="73" y="99"/>
                  <a:pt x="16" y="198"/>
                  <a:pt x="56" y="305"/>
                </a:cubicBezTo>
                <a:cubicBezTo>
                  <a:pt x="72" y="346"/>
                  <a:pt x="96" y="376"/>
                  <a:pt x="113" y="393"/>
                </a:cubicBezTo>
                <a:cubicBezTo>
                  <a:pt x="118" y="395"/>
                  <a:pt x="123" y="396"/>
                  <a:pt x="129" y="397"/>
                </a:cubicBezTo>
                <a:cubicBezTo>
                  <a:pt x="113" y="382"/>
                  <a:pt x="84" y="348"/>
                  <a:pt x="67" y="300"/>
                </a:cubicBezTo>
                <a:cubicBezTo>
                  <a:pt x="37" y="213"/>
                  <a:pt x="79" y="116"/>
                  <a:pt x="137" y="115"/>
                </a:cubicBezTo>
                <a:cubicBezTo>
                  <a:pt x="189" y="114"/>
                  <a:pt x="216" y="168"/>
                  <a:pt x="208" y="239"/>
                </a:cubicBezTo>
                <a:cubicBezTo>
                  <a:pt x="201" y="274"/>
                  <a:pt x="200" y="310"/>
                  <a:pt x="210" y="334"/>
                </a:cubicBezTo>
                <a:cubicBezTo>
                  <a:pt x="217" y="351"/>
                  <a:pt x="228" y="359"/>
                  <a:pt x="233" y="363"/>
                </a:cubicBezTo>
                <a:cubicBezTo>
                  <a:pt x="235" y="361"/>
                  <a:pt x="237" y="359"/>
                  <a:pt x="239" y="357"/>
                </a:cubicBezTo>
                <a:cubicBezTo>
                  <a:pt x="235" y="354"/>
                  <a:pt x="225" y="347"/>
                  <a:pt x="219" y="331"/>
                </a:cubicBezTo>
                <a:close/>
                <a:moveTo>
                  <a:pt x="0" y="202"/>
                </a:moveTo>
                <a:cubicBezTo>
                  <a:pt x="0" y="217"/>
                  <a:pt x="1" y="231"/>
                  <a:pt x="4" y="245"/>
                </a:cubicBezTo>
                <a:cubicBezTo>
                  <a:pt x="6" y="146"/>
                  <a:pt x="40" y="49"/>
                  <a:pt x="144" y="51"/>
                </a:cubicBezTo>
                <a:cubicBezTo>
                  <a:pt x="230" y="51"/>
                  <a:pt x="271" y="143"/>
                  <a:pt x="262" y="219"/>
                </a:cubicBezTo>
                <a:cubicBezTo>
                  <a:pt x="259" y="248"/>
                  <a:pt x="252" y="276"/>
                  <a:pt x="252" y="298"/>
                </a:cubicBezTo>
                <a:cubicBezTo>
                  <a:pt x="252" y="315"/>
                  <a:pt x="258" y="326"/>
                  <a:pt x="260" y="330"/>
                </a:cubicBezTo>
                <a:cubicBezTo>
                  <a:pt x="262" y="327"/>
                  <a:pt x="264" y="323"/>
                  <a:pt x="266" y="320"/>
                </a:cubicBezTo>
                <a:cubicBezTo>
                  <a:pt x="263" y="314"/>
                  <a:pt x="261" y="308"/>
                  <a:pt x="262" y="298"/>
                </a:cubicBezTo>
                <a:cubicBezTo>
                  <a:pt x="262" y="279"/>
                  <a:pt x="272" y="252"/>
                  <a:pt x="277" y="221"/>
                </a:cubicBezTo>
                <a:cubicBezTo>
                  <a:pt x="288" y="144"/>
                  <a:pt x="247" y="31"/>
                  <a:pt x="144" y="31"/>
                </a:cubicBezTo>
                <a:cubicBezTo>
                  <a:pt x="62" y="32"/>
                  <a:pt x="18" y="92"/>
                  <a:pt x="3" y="162"/>
                </a:cubicBezTo>
                <a:cubicBezTo>
                  <a:pt x="1" y="175"/>
                  <a:pt x="0" y="188"/>
                  <a:pt x="0" y="201"/>
                </a:cubicBezTo>
                <a:cubicBezTo>
                  <a:pt x="0" y="201"/>
                  <a:pt x="0" y="202"/>
                  <a:pt x="0" y="202"/>
                </a:cubicBezTo>
                <a:close/>
                <a:moveTo>
                  <a:pt x="262" y="75"/>
                </a:moveTo>
                <a:cubicBezTo>
                  <a:pt x="244" y="44"/>
                  <a:pt x="206" y="0"/>
                  <a:pt x="145" y="0"/>
                </a:cubicBezTo>
                <a:cubicBezTo>
                  <a:pt x="108" y="0"/>
                  <a:pt x="80" y="18"/>
                  <a:pt x="58" y="40"/>
                </a:cubicBezTo>
                <a:cubicBezTo>
                  <a:pt x="60" y="39"/>
                  <a:pt x="91" y="18"/>
                  <a:pt x="144" y="18"/>
                </a:cubicBezTo>
                <a:cubicBezTo>
                  <a:pt x="220" y="18"/>
                  <a:pt x="262" y="75"/>
                  <a:pt x="262" y="75"/>
                </a:cubicBezTo>
                <a:close/>
                <a:moveTo>
                  <a:pt x="142" y="308"/>
                </a:moveTo>
                <a:cubicBezTo>
                  <a:pt x="140" y="294"/>
                  <a:pt x="141" y="277"/>
                  <a:pt x="142" y="260"/>
                </a:cubicBezTo>
                <a:cubicBezTo>
                  <a:pt x="143" y="238"/>
                  <a:pt x="144" y="209"/>
                  <a:pt x="137" y="201"/>
                </a:cubicBezTo>
                <a:cubicBezTo>
                  <a:pt x="137" y="201"/>
                  <a:pt x="137" y="201"/>
                  <a:pt x="135" y="201"/>
                </a:cubicBezTo>
                <a:cubicBezTo>
                  <a:pt x="135" y="201"/>
                  <a:pt x="132" y="202"/>
                  <a:pt x="130" y="208"/>
                </a:cubicBezTo>
                <a:cubicBezTo>
                  <a:pt x="122" y="227"/>
                  <a:pt x="122" y="271"/>
                  <a:pt x="141" y="308"/>
                </a:cubicBezTo>
                <a:cubicBezTo>
                  <a:pt x="141" y="309"/>
                  <a:pt x="142" y="309"/>
                  <a:pt x="142" y="308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4" name="组合 36" descr=""/>
          <p:cNvPicPr/>
          <p:nvPr/>
        </p:nvPicPr>
        <p:blipFill>
          <a:blip r:embed="rId5"/>
          <a:stretch/>
        </p:blipFill>
        <p:spPr>
          <a:xfrm>
            <a:off x="3481560" y="1054080"/>
            <a:ext cx="554040" cy="450720"/>
          </a:xfrm>
          <a:prstGeom prst="rect">
            <a:avLst/>
          </a:prstGeom>
          <a:ln w="0">
            <a:noFill/>
          </a:ln>
        </p:spPr>
      </p:pic>
      <p:pic>
        <p:nvPicPr>
          <p:cNvPr id="1385" name="Picture 3" descr="C:\Users\HOWARDY.REDMOND\AppData\Local\Microsoft\Windows\Temporary Internet Files\Content.IE5\5W4A3OMT\MC900351855[1].wmf"/>
          <p:cNvPicPr/>
          <p:nvPr/>
        </p:nvPicPr>
        <p:blipFill>
          <a:blip r:embed="rId6"/>
          <a:stretch/>
        </p:blipFill>
        <p:spPr>
          <a:xfrm>
            <a:off x="4973760" y="3565440"/>
            <a:ext cx="469800" cy="568440"/>
          </a:xfrm>
          <a:prstGeom prst="rect">
            <a:avLst/>
          </a:prstGeom>
          <a:ln w="0">
            <a:noFill/>
          </a:ln>
        </p:spPr>
      </p:pic>
      <p:pic>
        <p:nvPicPr>
          <p:cNvPr id="1386" name="Picture 5" descr="\\MAGNUM\Projects\Microsoft\Cloud Power FY12\Design\ICONS_PNG\Increase.png"/>
          <p:cNvPicPr/>
          <p:nvPr/>
        </p:nvPicPr>
        <p:blipFill>
          <a:blip r:embed="rId7">
            <a:biLevel thresh="50000"/>
          </a:blip>
          <a:stretch/>
        </p:blipFill>
        <p:spPr>
          <a:xfrm>
            <a:off x="6162840" y="884160"/>
            <a:ext cx="901440" cy="901800"/>
          </a:xfrm>
          <a:prstGeom prst="rect">
            <a:avLst/>
          </a:prstGeom>
          <a:ln w="0">
            <a:noFill/>
          </a:ln>
        </p:spPr>
      </p:pic>
      <p:sp>
        <p:nvSpPr>
          <p:cNvPr id="1387" name="TextBox 39"/>
          <p:cNvSpPr/>
          <p:nvPr/>
        </p:nvSpPr>
        <p:spPr>
          <a:xfrm>
            <a:off x="6499080" y="3017880"/>
            <a:ext cx="23371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46c0a"/>
                </a:solidFill>
                <a:latin typeface="Calibri"/>
              </a:rPr>
              <a:t>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here to ad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your text or Cop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Your text and pas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矩形 41"/>
          <p:cNvSpPr/>
          <p:nvPr/>
        </p:nvSpPr>
        <p:spPr>
          <a:xfrm>
            <a:off x="2023920" y="444348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矩形 42"/>
          <p:cNvSpPr/>
          <p:nvPr/>
        </p:nvSpPr>
        <p:spPr>
          <a:xfrm>
            <a:off x="3478320" y="41112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矩形 43"/>
          <p:cNvSpPr/>
          <p:nvPr/>
        </p:nvSpPr>
        <p:spPr>
          <a:xfrm>
            <a:off x="4911840" y="444348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矩形 44"/>
          <p:cNvSpPr/>
          <p:nvPr/>
        </p:nvSpPr>
        <p:spPr>
          <a:xfrm>
            <a:off x="6353280" y="41112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直角三角形 50"/>
          <p:cNvSpPr/>
          <p:nvPr/>
        </p:nvSpPr>
        <p:spPr>
          <a:xfrm flipH="1" rot="12600000">
            <a:off x="2280960" y="4167000"/>
            <a:ext cx="163440" cy="71280"/>
          </a:xfrm>
          <a:prstGeom prst="rtTriangle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椭圆 13"/>
          <p:cNvSpPr/>
          <p:nvPr/>
        </p:nvSpPr>
        <p:spPr>
          <a:xfrm>
            <a:off x="-2841480" y="-338040"/>
            <a:ext cx="5684760" cy="5684760"/>
          </a:xfrm>
          <a:prstGeom prst="ellipse">
            <a:avLst/>
          </a:prstGeom>
          <a:solidFill>
            <a:srgbClr val="215968"/>
          </a:solidFill>
          <a:ln w="0">
            <a:noFill/>
          </a:ln>
          <a:effectLst>
            <a:outerShdw dist="15375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矩形 51"/>
          <p:cNvSpPr/>
          <p:nvPr/>
        </p:nvSpPr>
        <p:spPr>
          <a:xfrm rot="1800000">
            <a:off x="1851120" y="3511440"/>
            <a:ext cx="784080" cy="5400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5" name="矩形 52"/>
          <p:cNvGrpSpPr/>
          <p:nvPr/>
        </p:nvGrpSpPr>
        <p:grpSpPr>
          <a:xfrm>
            <a:off x="2000160" y="3511440"/>
            <a:ext cx="663480" cy="652320"/>
            <a:chOff x="2000160" y="3511440"/>
            <a:chExt cx="663480" cy="652320"/>
          </a:xfrm>
        </p:grpSpPr>
        <p:pic>
          <p:nvPicPr>
            <p:cNvPr id="1396" name="矩形 52" descr=""/>
            <p:cNvPicPr/>
            <p:nvPr/>
          </p:nvPicPr>
          <p:blipFill>
            <a:blip r:embed="rId1"/>
            <a:stretch/>
          </p:blipFill>
          <p:spPr>
            <a:xfrm>
              <a:off x="2000160" y="3511440"/>
              <a:ext cx="663480" cy="65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7" name="Text Box 7"/>
            <p:cNvSpPr/>
            <p:nvPr/>
          </p:nvSpPr>
          <p:spPr>
            <a:xfrm rot="1800000">
              <a:off x="2090520" y="3609720"/>
              <a:ext cx="48420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8" name="TextBox 53"/>
          <p:cNvSpPr/>
          <p:nvPr/>
        </p:nvSpPr>
        <p:spPr>
          <a:xfrm rot="1800000">
            <a:off x="2053440" y="34653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5968"/>
                </a:solidFill>
                <a:latin typeface="Haettenschweiler"/>
              </a:rPr>
              <a:t>0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9" name="组合 54"/>
          <p:cNvGrpSpPr/>
          <p:nvPr/>
        </p:nvGrpSpPr>
        <p:grpSpPr>
          <a:xfrm>
            <a:off x="2038680" y="3818880"/>
            <a:ext cx="416880" cy="338760"/>
            <a:chOff x="2038680" y="3818880"/>
            <a:chExt cx="416880" cy="338760"/>
          </a:xfrm>
        </p:grpSpPr>
        <p:sp>
          <p:nvSpPr>
            <p:cNvPr id="1400" name="TextBox 55"/>
            <p:cNvSpPr/>
            <p:nvPr/>
          </p:nvSpPr>
          <p:spPr>
            <a:xfrm rot="1800000">
              <a:off x="2055240" y="3903120"/>
              <a:ext cx="38340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215968"/>
                  </a:solidFill>
                  <a:latin typeface="Calibri"/>
                </a:rPr>
                <a:t>Options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1" name="直接连接符 56"/>
            <p:cNvSpPr/>
            <p:nvPr/>
          </p:nvSpPr>
          <p:spPr>
            <a:xfrm>
              <a:off x="2094480" y="3843000"/>
              <a:ext cx="350640" cy="202680"/>
            </a:xfrm>
            <a:prstGeom prst="line">
              <a:avLst/>
            </a:prstGeom>
            <a:ln w="9360">
              <a:solidFill>
                <a:srgbClr val="21596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2" name="椭圆 12"/>
          <p:cNvSpPr/>
          <p:nvPr/>
        </p:nvSpPr>
        <p:spPr>
          <a:xfrm>
            <a:off x="-2266920" y="236520"/>
            <a:ext cx="4535280" cy="4535640"/>
          </a:xfrm>
          <a:prstGeom prst="ellipse">
            <a:avLst/>
          </a:prstGeom>
          <a:solidFill>
            <a:srgbClr val="ffc000"/>
          </a:solidFill>
          <a:ln w="0">
            <a:noFill/>
          </a:ln>
          <a:effectLst>
            <a:outerShdw dist="15375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3" name="组合 39"/>
          <p:cNvGrpSpPr/>
          <p:nvPr/>
        </p:nvGrpSpPr>
        <p:grpSpPr>
          <a:xfrm>
            <a:off x="1248120" y="910440"/>
            <a:ext cx="986400" cy="966240"/>
            <a:chOff x="1248120" y="910440"/>
            <a:chExt cx="986400" cy="966240"/>
          </a:xfrm>
        </p:grpSpPr>
        <p:sp>
          <p:nvSpPr>
            <p:cNvPr id="1404" name="直角三角形 31"/>
            <p:cNvSpPr/>
            <p:nvPr/>
          </p:nvSpPr>
          <p:spPr>
            <a:xfrm flipH="1" rot="9000000">
              <a:off x="2063880" y="1518840"/>
              <a:ext cx="163440" cy="70920"/>
            </a:xfrm>
            <a:prstGeom prst="rtTriangle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5" name="矩形 32"/>
            <p:cNvSpPr/>
            <p:nvPr/>
          </p:nvSpPr>
          <p:spPr>
            <a:xfrm rot="19800000">
              <a:off x="1328760" y="1182240"/>
              <a:ext cx="785520" cy="53388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06" name="矩形 33"/>
            <p:cNvGrpSpPr/>
            <p:nvPr/>
          </p:nvGrpSpPr>
          <p:grpSpPr>
            <a:xfrm>
              <a:off x="1481400" y="1078560"/>
              <a:ext cx="664920" cy="645480"/>
              <a:chOff x="1481400" y="1078560"/>
              <a:chExt cx="664920" cy="645480"/>
            </a:xfrm>
          </p:grpSpPr>
          <p:pic>
            <p:nvPicPr>
              <p:cNvPr id="1407" name="矩形 33" descr=""/>
              <p:cNvPicPr/>
              <p:nvPr/>
            </p:nvPicPr>
            <p:blipFill>
              <a:blip r:embed="rId2"/>
              <a:stretch/>
            </p:blipFill>
            <p:spPr>
              <a:xfrm>
                <a:off x="1481400" y="1078560"/>
                <a:ext cx="664920" cy="645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08" name="Text Box 18"/>
              <p:cNvSpPr/>
              <p:nvPr/>
            </p:nvSpPr>
            <p:spPr>
              <a:xfrm rot="19800000">
                <a:off x="1571400" y="1174320"/>
                <a:ext cx="484920" cy="45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09" name="TextBox 34"/>
            <p:cNvSpPr/>
            <p:nvPr/>
          </p:nvSpPr>
          <p:spPr>
            <a:xfrm rot="19800000">
              <a:off x="1443960" y="1032840"/>
              <a:ext cx="646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c000"/>
                  </a:solidFill>
                  <a:latin typeface="Haettenschweiler"/>
                </a:rPr>
                <a:t>0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10" name="组合 35"/>
            <p:cNvGrpSpPr/>
            <p:nvPr/>
          </p:nvGrpSpPr>
          <p:grpSpPr>
            <a:xfrm>
              <a:off x="1693440" y="1379520"/>
              <a:ext cx="416880" cy="338760"/>
              <a:chOff x="1693440" y="1379520"/>
              <a:chExt cx="416880" cy="338760"/>
            </a:xfrm>
          </p:grpSpPr>
          <p:sp>
            <p:nvSpPr>
              <p:cNvPr id="1411" name="TextBox 36"/>
              <p:cNvSpPr/>
              <p:nvPr/>
            </p:nvSpPr>
            <p:spPr>
              <a:xfrm rot="19800000">
                <a:off x="1710000" y="1463760"/>
                <a:ext cx="383400" cy="16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ffc000"/>
                    </a:solidFill>
                    <a:latin typeface="Calibri"/>
                  </a:rPr>
                  <a:t>Options</a:t>
                </a: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2" name="直接连接符 37"/>
              <p:cNvSpPr/>
              <p:nvPr/>
            </p:nvSpPr>
            <p:spPr>
              <a:xfrm flipV="1">
                <a:off x="1699920" y="1406160"/>
                <a:ext cx="350280" cy="202320"/>
              </a:xfrm>
              <a:prstGeom prst="line">
                <a:avLst/>
              </a:prstGeom>
              <a:ln w="9360">
                <a:solidFill>
                  <a:srgbClr val="ffc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13" name="椭圆 11"/>
          <p:cNvSpPr/>
          <p:nvPr/>
        </p:nvSpPr>
        <p:spPr>
          <a:xfrm>
            <a:off x="-1690560" y="811080"/>
            <a:ext cx="3382920" cy="3384720"/>
          </a:xfrm>
          <a:prstGeom prst="ellipse">
            <a:avLst/>
          </a:prstGeom>
          <a:solidFill>
            <a:srgbClr val="e46c0a"/>
          </a:solidFill>
          <a:ln w="0">
            <a:noFill/>
          </a:ln>
          <a:effectLst>
            <a:outerShdw dist="15375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4" name="组合 48"/>
          <p:cNvGrpSpPr/>
          <p:nvPr/>
        </p:nvGrpSpPr>
        <p:grpSpPr>
          <a:xfrm>
            <a:off x="753840" y="2771280"/>
            <a:ext cx="1017000" cy="930240"/>
            <a:chOff x="753840" y="2771280"/>
            <a:chExt cx="1017000" cy="930240"/>
          </a:xfrm>
        </p:grpSpPr>
        <p:sp>
          <p:nvSpPr>
            <p:cNvPr id="1415" name="直角三角形 41"/>
            <p:cNvSpPr/>
            <p:nvPr/>
          </p:nvSpPr>
          <p:spPr>
            <a:xfrm flipH="1" rot="12600000">
              <a:off x="1252080" y="3594960"/>
              <a:ext cx="157320" cy="72000"/>
            </a:xfrm>
            <a:prstGeom prst="rtTriangle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6" name="矩形 42"/>
            <p:cNvSpPr/>
            <p:nvPr/>
          </p:nvSpPr>
          <p:spPr>
            <a:xfrm rot="1800000">
              <a:off x="837720" y="2941200"/>
              <a:ext cx="756720" cy="53892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17" name="矩形 43"/>
            <p:cNvGrpSpPr/>
            <p:nvPr/>
          </p:nvGrpSpPr>
          <p:grpSpPr>
            <a:xfrm>
              <a:off x="982080" y="2944440"/>
              <a:ext cx="640440" cy="645480"/>
              <a:chOff x="982080" y="2944440"/>
              <a:chExt cx="640440" cy="645480"/>
            </a:xfrm>
          </p:grpSpPr>
          <p:pic>
            <p:nvPicPr>
              <p:cNvPr id="1418" name="矩形 43" descr=""/>
              <p:cNvPicPr/>
              <p:nvPr/>
            </p:nvPicPr>
            <p:blipFill>
              <a:blip r:embed="rId3"/>
              <a:stretch/>
            </p:blipFill>
            <p:spPr>
              <a:xfrm>
                <a:off x="982080" y="2944440"/>
                <a:ext cx="640440" cy="645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19" name="Text Box 29"/>
              <p:cNvSpPr/>
              <p:nvPr/>
            </p:nvSpPr>
            <p:spPr>
              <a:xfrm rot="1800000">
                <a:off x="1068480" y="3038040"/>
                <a:ext cx="466920" cy="45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20" name="TextBox 44"/>
            <p:cNvSpPr/>
            <p:nvPr/>
          </p:nvSpPr>
          <p:spPr>
            <a:xfrm rot="1800000">
              <a:off x="1021680" y="2894040"/>
              <a:ext cx="646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e46c0a"/>
                  </a:solidFill>
                  <a:latin typeface="Haettenschweiler"/>
                </a:rPr>
                <a:t>0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21" name="组合 45"/>
            <p:cNvGrpSpPr/>
            <p:nvPr/>
          </p:nvGrpSpPr>
          <p:grpSpPr>
            <a:xfrm>
              <a:off x="1011240" y="3247200"/>
              <a:ext cx="416880" cy="338760"/>
              <a:chOff x="1011240" y="3247200"/>
              <a:chExt cx="416880" cy="338760"/>
            </a:xfrm>
          </p:grpSpPr>
          <p:sp>
            <p:nvSpPr>
              <p:cNvPr id="1422" name="TextBox 46"/>
              <p:cNvSpPr/>
              <p:nvPr/>
            </p:nvSpPr>
            <p:spPr>
              <a:xfrm rot="1800000">
                <a:off x="1027800" y="3331440"/>
                <a:ext cx="383400" cy="16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e46c0a"/>
                    </a:solidFill>
                    <a:latin typeface="Calibri"/>
                  </a:rPr>
                  <a:t>Options</a:t>
                </a: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3" name="直接连接符 47"/>
              <p:cNvSpPr/>
              <p:nvPr/>
            </p:nvSpPr>
            <p:spPr>
              <a:xfrm>
                <a:off x="1072800" y="3275280"/>
                <a:ext cx="337680" cy="195120"/>
              </a:xfrm>
              <a:prstGeom prst="line">
                <a:avLst/>
              </a:prstGeom>
              <a:ln w="9360">
                <a:solidFill>
                  <a:srgbClr val="e46c0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24" name="直角三角形 30"/>
          <p:cNvSpPr/>
          <p:nvPr/>
        </p:nvSpPr>
        <p:spPr>
          <a:xfrm flipH="1" rot="9000000">
            <a:off x="1041120" y="2109960"/>
            <a:ext cx="163440" cy="72720"/>
          </a:xfrm>
          <a:prstGeom prst="rtTriangle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椭圆 9"/>
          <p:cNvSpPr/>
          <p:nvPr/>
        </p:nvSpPr>
        <p:spPr>
          <a:xfrm>
            <a:off x="-1114560" y="1387440"/>
            <a:ext cx="2230560" cy="2232000"/>
          </a:xfrm>
          <a:prstGeom prst="ellipse">
            <a:avLst/>
          </a:prstGeom>
          <a:solidFill>
            <a:srgbClr val="404040"/>
          </a:solidFill>
          <a:ln w="0">
            <a:noFill/>
          </a:ln>
          <a:effectLst>
            <a:outerShdw dist="15375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矩形 14"/>
          <p:cNvSpPr/>
          <p:nvPr/>
        </p:nvSpPr>
        <p:spPr>
          <a:xfrm rot="19800000">
            <a:off x="306360" y="1769760"/>
            <a:ext cx="785880" cy="5396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7" name="组合 5" descr=""/>
          <p:cNvPicPr/>
          <p:nvPr/>
        </p:nvPicPr>
        <p:blipFill>
          <a:blip r:embed="rId4"/>
          <a:stretch/>
        </p:blipFill>
        <p:spPr>
          <a:xfrm>
            <a:off x="-644400" y="1828800"/>
            <a:ext cx="1290600" cy="1285920"/>
          </a:xfrm>
          <a:prstGeom prst="rect">
            <a:avLst/>
          </a:prstGeom>
          <a:ln w="0">
            <a:noFill/>
          </a:ln>
        </p:spPr>
      </p:pic>
      <p:grpSp>
        <p:nvGrpSpPr>
          <p:cNvPr id="1428" name="矩形 15"/>
          <p:cNvGrpSpPr/>
          <p:nvPr/>
        </p:nvGrpSpPr>
        <p:grpSpPr>
          <a:xfrm>
            <a:off x="463680" y="1663560"/>
            <a:ext cx="658800" cy="652320"/>
            <a:chOff x="463680" y="1663560"/>
            <a:chExt cx="658800" cy="652320"/>
          </a:xfrm>
        </p:grpSpPr>
        <p:pic>
          <p:nvPicPr>
            <p:cNvPr id="1429" name="矩形 15" descr=""/>
            <p:cNvPicPr/>
            <p:nvPr/>
          </p:nvPicPr>
          <p:blipFill>
            <a:blip r:embed="rId5"/>
            <a:stretch/>
          </p:blipFill>
          <p:spPr>
            <a:xfrm>
              <a:off x="463680" y="1663560"/>
              <a:ext cx="658800" cy="65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0" name="Text Box 40"/>
            <p:cNvSpPr/>
            <p:nvPr/>
          </p:nvSpPr>
          <p:spPr>
            <a:xfrm rot="19800000">
              <a:off x="549360" y="1761480"/>
              <a:ext cx="484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1" name="TextBox 16"/>
          <p:cNvSpPr/>
          <p:nvPr/>
        </p:nvSpPr>
        <p:spPr>
          <a:xfrm rot="19800000">
            <a:off x="420480" y="161892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Haettenschweiler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2" name="组合 29"/>
          <p:cNvGrpSpPr/>
          <p:nvPr/>
        </p:nvGrpSpPr>
        <p:grpSpPr>
          <a:xfrm>
            <a:off x="671040" y="1970280"/>
            <a:ext cx="416880" cy="338760"/>
            <a:chOff x="671040" y="1970280"/>
            <a:chExt cx="416880" cy="338760"/>
          </a:xfrm>
        </p:grpSpPr>
        <p:sp>
          <p:nvSpPr>
            <p:cNvPr id="1433" name="TextBox 26"/>
            <p:cNvSpPr/>
            <p:nvPr/>
          </p:nvSpPr>
          <p:spPr>
            <a:xfrm rot="19800000">
              <a:off x="687600" y="2054520"/>
              <a:ext cx="38340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404040"/>
                  </a:solidFill>
                  <a:latin typeface="Calibri"/>
                </a:rPr>
                <a:t>Options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4" name="直接连接符 28"/>
            <p:cNvSpPr/>
            <p:nvPr/>
          </p:nvSpPr>
          <p:spPr>
            <a:xfrm flipV="1">
              <a:off x="677520" y="1997280"/>
              <a:ext cx="350640" cy="20232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5" name="椭圆 57"/>
          <p:cNvSpPr/>
          <p:nvPr/>
        </p:nvSpPr>
        <p:spPr>
          <a:xfrm>
            <a:off x="3193920" y="412920"/>
            <a:ext cx="216000" cy="215640"/>
          </a:xfrm>
          <a:prstGeom prst="ellipse">
            <a:avLst/>
          </a:prstGeom>
          <a:noFill/>
          <a:ln w="5724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TextBox 59"/>
          <p:cNvSpPr/>
          <p:nvPr/>
        </p:nvSpPr>
        <p:spPr>
          <a:xfrm>
            <a:off x="3492360" y="333360"/>
            <a:ext cx="23371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here to ad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your text or Cop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Your text and pas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椭圆 60"/>
          <p:cNvSpPr/>
          <p:nvPr/>
        </p:nvSpPr>
        <p:spPr>
          <a:xfrm>
            <a:off x="5931000" y="412920"/>
            <a:ext cx="215640" cy="215640"/>
          </a:xfrm>
          <a:prstGeom prst="ellipse">
            <a:avLst/>
          </a:prstGeom>
          <a:noFill/>
          <a:ln w="5724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TextBox 61"/>
          <p:cNvSpPr/>
          <p:nvPr/>
        </p:nvSpPr>
        <p:spPr>
          <a:xfrm>
            <a:off x="6227640" y="333360"/>
            <a:ext cx="23367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46c0a"/>
                </a:solidFill>
                <a:latin typeface="Calibri"/>
              </a:rPr>
              <a:t>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here to ad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your text or Cop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Your text and pas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椭圆 62"/>
          <p:cNvSpPr/>
          <p:nvPr/>
        </p:nvSpPr>
        <p:spPr>
          <a:xfrm>
            <a:off x="3193920" y="2779560"/>
            <a:ext cx="216000" cy="217800"/>
          </a:xfrm>
          <a:prstGeom prst="ellipse">
            <a:avLst/>
          </a:prstGeom>
          <a:noFill/>
          <a:ln w="5724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TextBox 63"/>
          <p:cNvSpPr/>
          <p:nvPr/>
        </p:nvSpPr>
        <p:spPr>
          <a:xfrm>
            <a:off x="3492360" y="2700360"/>
            <a:ext cx="23371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000"/>
                </a:solidFill>
                <a:latin typeface="Calibri"/>
              </a:rPr>
              <a:t>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here to ad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your text or Cop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Your text and pas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椭圆 64"/>
          <p:cNvSpPr/>
          <p:nvPr/>
        </p:nvSpPr>
        <p:spPr>
          <a:xfrm>
            <a:off x="5931000" y="2779560"/>
            <a:ext cx="215640" cy="217800"/>
          </a:xfrm>
          <a:prstGeom prst="ellipse">
            <a:avLst/>
          </a:prstGeom>
          <a:noFill/>
          <a:ln w="5724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TextBox 65"/>
          <p:cNvSpPr/>
          <p:nvPr/>
        </p:nvSpPr>
        <p:spPr>
          <a:xfrm>
            <a:off x="6227640" y="2700360"/>
            <a:ext cx="23367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15968"/>
                </a:solidFill>
                <a:latin typeface="Calibri"/>
              </a:rPr>
              <a:t>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here to ad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your text or Cop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Your text and pas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3" name="组合 11"/>
          <p:cNvGrpSpPr/>
          <p:nvPr/>
        </p:nvGrpSpPr>
        <p:grpSpPr>
          <a:xfrm>
            <a:off x="809280" y="801360"/>
            <a:ext cx="3598200" cy="3591720"/>
            <a:chOff x="809280" y="801360"/>
            <a:chExt cx="3598200" cy="3591720"/>
          </a:xfrm>
        </p:grpSpPr>
        <p:sp>
          <p:nvSpPr>
            <p:cNvPr id="1444" name="空心弧 7"/>
            <p:cNvSpPr/>
            <p:nvPr/>
          </p:nvSpPr>
          <p:spPr>
            <a:xfrm rot="60000">
              <a:off x="847800" y="834480"/>
              <a:ext cx="3528720" cy="3527640"/>
            </a:xfrm>
            <a:custGeom>
              <a:avLst/>
              <a:gdLst>
                <a:gd name="textAreaLeft" fmla="*/ 491760 w 3528720"/>
                <a:gd name="textAreaRight" fmla="*/ 1751760 w 3528720"/>
                <a:gd name="textAreaTop" fmla="*/ 0 h 3527640"/>
                <a:gd name="textAreaBottom" fmla="*/ 1192320 h 3527640"/>
              </a:gdLst>
              <a:ahLst/>
              <a:rect l="textAreaLeft" t="textAreaTop" r="textAreaRight" b="textAreaBottom"/>
              <a:pathLst>
                <a:path w="3528392" h="3528392">
                  <a:moveTo>
                    <a:pt x="491965" y="541978"/>
                  </a:moveTo>
                  <a:lnTo>
                    <a:pt x="491965" y="541978"/>
                  </a:lnTo>
                  <a:cubicBezTo>
                    <a:pt x="818215" y="202378"/>
                    <a:pt x="1266697" y="7309"/>
                    <a:pt x="1737565" y="200"/>
                  </a:cubicBezTo>
                  <a:lnTo>
                    <a:pt x="1751743" y="939281"/>
                  </a:lnTo>
                  <a:lnTo>
                    <a:pt x="1751742" y="939280"/>
                  </a:lnTo>
                  <a:cubicBezTo>
                    <a:pt x="1531546" y="942605"/>
                    <a:pt x="1321817" y="1033827"/>
                    <a:pt x="1169249" y="1192637"/>
                  </a:cubicBezTo>
                  <a:lnTo>
                    <a:pt x="491965" y="541978"/>
                  </a:lnTo>
                  <a:close/>
                </a:path>
              </a:pathLst>
            </a:custGeom>
            <a:gradFill rotWithShape="0">
              <a:gsLst>
                <a:gs pos="0">
                  <a:srgbClr val="9b1621"/>
                </a:gs>
                <a:gs pos="100000">
                  <a:srgbClr val="ff2d3f"/>
                </a:gs>
              </a:gsLst>
              <a:lin ang="534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5" name="空心弧 9"/>
            <p:cNvSpPr/>
            <p:nvPr/>
          </p:nvSpPr>
          <p:spPr>
            <a:xfrm flipH="1" rot="21540000">
              <a:off x="839520" y="831600"/>
              <a:ext cx="3528720" cy="3528000"/>
            </a:xfrm>
            <a:custGeom>
              <a:avLst/>
              <a:gdLst>
                <a:gd name="textAreaLeft" fmla="*/ 496800 w 3528720"/>
                <a:gd name="textAreaRight" fmla="*/ 1752120 w 3528720"/>
                <a:gd name="textAreaTop" fmla="*/ 0 h 3528000"/>
                <a:gd name="textAreaBottom" fmla="*/ 1190160 h 3528000"/>
              </a:gdLst>
              <a:ahLst/>
              <a:rect l="textAreaLeft" t="textAreaTop" r="textAreaRight" b="textAreaBottom"/>
              <a:pathLst>
                <a:path w="3528392" h="3528392">
                  <a:moveTo>
                    <a:pt x="496665" y="537105"/>
                  </a:moveTo>
                  <a:lnTo>
                    <a:pt x="496664" y="537104"/>
                  </a:lnTo>
                  <a:cubicBezTo>
                    <a:pt x="822583" y="200445"/>
                    <a:pt x="1269044" y="7273"/>
                    <a:pt x="1737566" y="200"/>
                  </a:cubicBezTo>
                  <a:lnTo>
                    <a:pt x="1751743" y="939281"/>
                  </a:lnTo>
                  <a:lnTo>
                    <a:pt x="1751742" y="939280"/>
                  </a:lnTo>
                  <a:cubicBezTo>
                    <a:pt x="1532643" y="942588"/>
                    <a:pt x="1323859" y="1032923"/>
                    <a:pt x="1171447" y="1190359"/>
                  </a:cubicBezTo>
                  <a:lnTo>
                    <a:pt x="496665" y="537105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6" name="组合 15"/>
          <p:cNvGrpSpPr/>
          <p:nvPr/>
        </p:nvGrpSpPr>
        <p:grpSpPr>
          <a:xfrm>
            <a:off x="775800" y="780840"/>
            <a:ext cx="3648600" cy="3649680"/>
            <a:chOff x="775800" y="780840"/>
            <a:chExt cx="3648600" cy="3649680"/>
          </a:xfrm>
        </p:grpSpPr>
        <p:sp>
          <p:nvSpPr>
            <p:cNvPr id="1447" name="空心弧 13"/>
            <p:cNvSpPr/>
            <p:nvPr/>
          </p:nvSpPr>
          <p:spPr>
            <a:xfrm rot="16320000">
              <a:off x="835560" y="841680"/>
              <a:ext cx="3528720" cy="3527640"/>
            </a:xfrm>
            <a:custGeom>
              <a:avLst/>
              <a:gdLst>
                <a:gd name="textAreaLeft" fmla="*/ 476640 w 3528720"/>
                <a:gd name="textAreaRight" fmla="*/ 1751760 w 3528720"/>
                <a:gd name="textAreaTop" fmla="*/ 0 h 3527640"/>
                <a:gd name="textAreaBottom" fmla="*/ 1199880 h 3527640"/>
              </a:gdLst>
              <a:ahLst/>
              <a:rect l="textAreaLeft" t="textAreaTop" r="textAreaRight" b="textAreaBottom"/>
              <a:pathLst>
                <a:path w="3528392" h="3528392">
                  <a:moveTo>
                    <a:pt x="476612" y="558163"/>
                  </a:moveTo>
                  <a:lnTo>
                    <a:pt x="476612" y="558163"/>
                  </a:lnTo>
                  <a:cubicBezTo>
                    <a:pt x="803832" y="208816"/>
                    <a:pt x="1258960" y="7425"/>
                    <a:pt x="1737566" y="200"/>
                  </a:cubicBezTo>
                  <a:lnTo>
                    <a:pt x="1751743" y="939281"/>
                  </a:lnTo>
                  <a:lnTo>
                    <a:pt x="1751742" y="939280"/>
                  </a:lnTo>
                  <a:cubicBezTo>
                    <a:pt x="1527927" y="942659"/>
                    <a:pt x="1315091" y="1036837"/>
                    <a:pt x="1162069" y="1200206"/>
                  </a:cubicBezTo>
                  <a:lnTo>
                    <a:pt x="476612" y="558163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9d9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8" name="空心弧 14"/>
            <p:cNvSpPr/>
            <p:nvPr/>
          </p:nvSpPr>
          <p:spPr>
            <a:xfrm flipH="1" rot="16200000">
              <a:off x="831600" y="849960"/>
              <a:ext cx="3528720" cy="3527640"/>
            </a:xfrm>
            <a:custGeom>
              <a:avLst/>
              <a:gdLst>
                <a:gd name="textAreaLeft" fmla="*/ 496800 w 3528720"/>
                <a:gd name="textAreaRight" fmla="*/ 1752120 w 3528720"/>
                <a:gd name="textAreaTop" fmla="*/ 0 h 3527640"/>
                <a:gd name="textAreaBottom" fmla="*/ 1190160 h 3527640"/>
              </a:gdLst>
              <a:ahLst/>
              <a:rect l="textAreaLeft" t="textAreaTop" r="textAreaRight" b="textAreaBottom"/>
              <a:pathLst>
                <a:path w="3528392" h="3528392">
                  <a:moveTo>
                    <a:pt x="496665" y="537105"/>
                  </a:moveTo>
                  <a:lnTo>
                    <a:pt x="496664" y="537104"/>
                  </a:lnTo>
                  <a:cubicBezTo>
                    <a:pt x="822583" y="200445"/>
                    <a:pt x="1269044" y="7273"/>
                    <a:pt x="1737566" y="200"/>
                  </a:cubicBezTo>
                  <a:lnTo>
                    <a:pt x="1751743" y="939281"/>
                  </a:lnTo>
                  <a:lnTo>
                    <a:pt x="1751742" y="939280"/>
                  </a:lnTo>
                  <a:cubicBezTo>
                    <a:pt x="1532643" y="942588"/>
                    <a:pt x="1323859" y="1032923"/>
                    <a:pt x="1171447" y="1190359"/>
                  </a:cubicBezTo>
                  <a:lnTo>
                    <a:pt x="496665" y="537105"/>
                  </a:ln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9" name="空心弧 17"/>
          <p:cNvSpPr/>
          <p:nvPr/>
        </p:nvSpPr>
        <p:spPr>
          <a:xfrm rot="10920000">
            <a:off x="836640" y="835200"/>
            <a:ext cx="3527280" cy="3528720"/>
          </a:xfrm>
          <a:custGeom>
            <a:avLst/>
            <a:gdLst>
              <a:gd name="textAreaLeft" fmla="*/ 476280 w 3527280"/>
              <a:gd name="textAreaRight" fmla="*/ 1751040 w 3527280"/>
              <a:gd name="textAreaTop" fmla="*/ 0 h 3528720"/>
              <a:gd name="textAreaBottom" fmla="*/ 1200240 h 3528720"/>
            </a:gdLst>
            <a:ahLst/>
            <a:rect l="textAreaLeft" t="textAreaTop" r="textAreaRight" b="textAreaBottom"/>
            <a:pathLst>
              <a:path w="3528392" h="3528392">
                <a:moveTo>
                  <a:pt x="476612" y="558163"/>
                </a:moveTo>
                <a:lnTo>
                  <a:pt x="476612" y="558163"/>
                </a:lnTo>
                <a:cubicBezTo>
                  <a:pt x="803832" y="208816"/>
                  <a:pt x="1258960" y="7425"/>
                  <a:pt x="1737566" y="200"/>
                </a:cubicBezTo>
                <a:lnTo>
                  <a:pt x="1751743" y="939281"/>
                </a:lnTo>
                <a:lnTo>
                  <a:pt x="1751742" y="939280"/>
                </a:lnTo>
                <a:cubicBezTo>
                  <a:pt x="1527927" y="942659"/>
                  <a:pt x="1315091" y="1036837"/>
                  <a:pt x="1162069" y="1200206"/>
                </a:cubicBezTo>
                <a:lnTo>
                  <a:pt x="476612" y="558163"/>
                </a:lnTo>
                <a:close/>
              </a:path>
            </a:pathLst>
          </a:custGeom>
          <a:gradFill rotWithShape="0">
            <a:gsLst>
              <a:gs pos="0">
                <a:srgbClr val="b4b2b9"/>
              </a:gs>
              <a:gs pos="100000">
                <a:srgbClr val="7c778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空心弧 18"/>
          <p:cNvSpPr/>
          <p:nvPr/>
        </p:nvSpPr>
        <p:spPr>
          <a:xfrm flipH="1" rot="10800000">
            <a:off x="843480" y="837720"/>
            <a:ext cx="3529080" cy="3527640"/>
          </a:xfrm>
          <a:custGeom>
            <a:avLst/>
            <a:gdLst>
              <a:gd name="textAreaLeft" fmla="*/ 496800 w 3529080"/>
              <a:gd name="textAreaRight" fmla="*/ 1752120 w 3529080"/>
              <a:gd name="textAreaTop" fmla="*/ 0 h 3527640"/>
              <a:gd name="textAreaBottom" fmla="*/ 1190160 h 3527640"/>
            </a:gdLst>
            <a:ahLst/>
            <a:rect l="textAreaLeft" t="textAreaTop" r="textAreaRight" b="textAreaBottom"/>
            <a:pathLst>
              <a:path w="3528392" h="3528392">
                <a:moveTo>
                  <a:pt x="496665" y="537105"/>
                </a:moveTo>
                <a:lnTo>
                  <a:pt x="496664" y="537104"/>
                </a:lnTo>
                <a:cubicBezTo>
                  <a:pt x="822583" y="200445"/>
                  <a:pt x="1269044" y="7273"/>
                  <a:pt x="1737566" y="200"/>
                </a:cubicBezTo>
                <a:lnTo>
                  <a:pt x="1751743" y="939281"/>
                </a:lnTo>
                <a:lnTo>
                  <a:pt x="1751742" y="939280"/>
                </a:lnTo>
                <a:cubicBezTo>
                  <a:pt x="1532643" y="942588"/>
                  <a:pt x="1323859" y="1032923"/>
                  <a:pt x="1171447" y="1190359"/>
                </a:cubicBezTo>
                <a:lnTo>
                  <a:pt x="496665" y="537105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空心弧 21"/>
          <p:cNvSpPr/>
          <p:nvPr/>
        </p:nvSpPr>
        <p:spPr>
          <a:xfrm rot="60000">
            <a:off x="2665080" y="2663640"/>
            <a:ext cx="3527280" cy="3527280"/>
          </a:xfrm>
          <a:custGeom>
            <a:avLst/>
            <a:gdLst>
              <a:gd name="textAreaLeft" fmla="*/ 491760 w 3527280"/>
              <a:gd name="textAreaRight" fmla="*/ 1751040 w 3527280"/>
              <a:gd name="textAreaTop" fmla="*/ 0 h 3527280"/>
              <a:gd name="textAreaBottom" fmla="*/ 1192320 h 3527280"/>
            </a:gdLst>
            <a:ahLst/>
            <a:rect l="textAreaLeft" t="textAreaTop" r="textAreaRight" b="textAreaBottom"/>
            <a:pathLst>
              <a:path w="3528392" h="3528392">
                <a:moveTo>
                  <a:pt x="491965" y="541978"/>
                </a:moveTo>
                <a:lnTo>
                  <a:pt x="491965" y="541978"/>
                </a:lnTo>
                <a:cubicBezTo>
                  <a:pt x="818215" y="202378"/>
                  <a:pt x="1266697" y="7309"/>
                  <a:pt x="1737565" y="200"/>
                </a:cubicBezTo>
                <a:lnTo>
                  <a:pt x="1751743" y="939281"/>
                </a:lnTo>
                <a:lnTo>
                  <a:pt x="1751742" y="939280"/>
                </a:lnTo>
                <a:cubicBezTo>
                  <a:pt x="1531546" y="942605"/>
                  <a:pt x="1321817" y="1033827"/>
                  <a:pt x="1169249" y="1192637"/>
                </a:cubicBezTo>
                <a:lnTo>
                  <a:pt x="491965" y="541978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空心弧 22"/>
          <p:cNvSpPr/>
          <p:nvPr/>
        </p:nvSpPr>
        <p:spPr>
          <a:xfrm flipH="1" rot="21540000">
            <a:off x="2654640" y="2660400"/>
            <a:ext cx="3529080" cy="3529440"/>
          </a:xfrm>
          <a:custGeom>
            <a:avLst/>
            <a:gdLst>
              <a:gd name="textAreaLeft" fmla="*/ 496800 w 3529080"/>
              <a:gd name="textAreaRight" fmla="*/ 1752120 w 3529080"/>
              <a:gd name="textAreaTop" fmla="*/ 0 h 3529440"/>
              <a:gd name="textAreaBottom" fmla="*/ 1190520 h 3529440"/>
            </a:gdLst>
            <a:ahLst/>
            <a:rect l="textAreaLeft" t="textAreaTop" r="textAreaRight" b="textAreaBottom"/>
            <a:pathLst>
              <a:path w="3528392" h="3528392">
                <a:moveTo>
                  <a:pt x="496665" y="537105"/>
                </a:moveTo>
                <a:lnTo>
                  <a:pt x="496664" y="537104"/>
                </a:lnTo>
                <a:cubicBezTo>
                  <a:pt x="822583" y="200445"/>
                  <a:pt x="1269044" y="7273"/>
                  <a:pt x="1737566" y="200"/>
                </a:cubicBezTo>
                <a:lnTo>
                  <a:pt x="1751743" y="939281"/>
                </a:lnTo>
                <a:lnTo>
                  <a:pt x="1751742" y="939280"/>
                </a:lnTo>
                <a:cubicBezTo>
                  <a:pt x="1532643" y="942588"/>
                  <a:pt x="1323859" y="1032923"/>
                  <a:pt x="1171447" y="1190359"/>
                </a:cubicBezTo>
                <a:lnTo>
                  <a:pt x="496665" y="537105"/>
                </a:lnTo>
                <a:close/>
              </a:path>
            </a:pathLst>
          </a:custGeom>
          <a:gradFill rotWithShape="0">
            <a:gsLst>
              <a:gs pos="0">
                <a:srgbClr val="8b7403"/>
              </a:gs>
              <a:gs pos="100000">
                <a:srgbClr val="a7985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空心弧 26"/>
          <p:cNvSpPr/>
          <p:nvPr/>
        </p:nvSpPr>
        <p:spPr>
          <a:xfrm rot="10920000">
            <a:off x="2663640" y="-990720"/>
            <a:ext cx="3528720" cy="3525840"/>
          </a:xfrm>
          <a:custGeom>
            <a:avLst/>
            <a:gdLst>
              <a:gd name="textAreaLeft" fmla="*/ 476640 w 3528720"/>
              <a:gd name="textAreaRight" fmla="*/ 1751760 w 3528720"/>
              <a:gd name="textAreaTop" fmla="*/ 0 h 3525840"/>
              <a:gd name="textAreaBottom" fmla="*/ 1199160 h 3525840"/>
            </a:gdLst>
            <a:ahLst/>
            <a:rect l="textAreaLeft" t="textAreaTop" r="textAreaRight" b="textAreaBottom"/>
            <a:pathLst>
              <a:path w="3528392" h="3528392">
                <a:moveTo>
                  <a:pt x="476612" y="558163"/>
                </a:moveTo>
                <a:lnTo>
                  <a:pt x="476612" y="558163"/>
                </a:lnTo>
                <a:cubicBezTo>
                  <a:pt x="803832" y="208816"/>
                  <a:pt x="1258960" y="7425"/>
                  <a:pt x="1737566" y="200"/>
                </a:cubicBezTo>
                <a:lnTo>
                  <a:pt x="1751743" y="939281"/>
                </a:lnTo>
                <a:lnTo>
                  <a:pt x="1751742" y="939280"/>
                </a:lnTo>
                <a:cubicBezTo>
                  <a:pt x="1527927" y="942659"/>
                  <a:pt x="1315091" y="1036837"/>
                  <a:pt x="1162069" y="1200206"/>
                </a:cubicBezTo>
                <a:lnTo>
                  <a:pt x="476612" y="558163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空心弧 27"/>
          <p:cNvSpPr/>
          <p:nvPr/>
        </p:nvSpPr>
        <p:spPr>
          <a:xfrm flipH="1" rot="10800000">
            <a:off x="2671920" y="-988920"/>
            <a:ext cx="3528720" cy="3527280"/>
          </a:xfrm>
          <a:custGeom>
            <a:avLst/>
            <a:gdLst>
              <a:gd name="textAreaLeft" fmla="*/ 496800 w 3528720"/>
              <a:gd name="textAreaRight" fmla="*/ 1752120 w 3528720"/>
              <a:gd name="textAreaTop" fmla="*/ 0 h 3527280"/>
              <a:gd name="textAreaBottom" fmla="*/ 1189800 h 3527280"/>
            </a:gdLst>
            <a:ahLst/>
            <a:rect l="textAreaLeft" t="textAreaTop" r="textAreaRight" b="textAreaBottom"/>
            <a:pathLst>
              <a:path w="3528392" h="3528392">
                <a:moveTo>
                  <a:pt x="496665" y="537105"/>
                </a:moveTo>
                <a:lnTo>
                  <a:pt x="496664" y="537104"/>
                </a:lnTo>
                <a:cubicBezTo>
                  <a:pt x="822583" y="200445"/>
                  <a:pt x="1269044" y="7273"/>
                  <a:pt x="1737566" y="200"/>
                </a:cubicBezTo>
                <a:lnTo>
                  <a:pt x="1751743" y="939281"/>
                </a:lnTo>
                <a:lnTo>
                  <a:pt x="1751742" y="939280"/>
                </a:lnTo>
                <a:cubicBezTo>
                  <a:pt x="1532643" y="942588"/>
                  <a:pt x="1323859" y="1032923"/>
                  <a:pt x="1171447" y="1190359"/>
                </a:cubicBezTo>
                <a:lnTo>
                  <a:pt x="496665" y="537105"/>
                </a:lnTo>
                <a:close/>
              </a:path>
            </a:pathLst>
          </a:custGeom>
          <a:gradFill rotWithShape="0">
            <a:gsLst>
              <a:gs pos="0">
                <a:srgbClr val="6e565a"/>
              </a:gs>
              <a:gs pos="100000">
                <a:srgbClr val="8c6d7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空心弧 23"/>
          <p:cNvSpPr/>
          <p:nvPr/>
        </p:nvSpPr>
        <p:spPr>
          <a:xfrm rot="60000">
            <a:off x="4492440" y="834840"/>
            <a:ext cx="3528720" cy="3527280"/>
          </a:xfrm>
          <a:custGeom>
            <a:avLst/>
            <a:gdLst>
              <a:gd name="textAreaLeft" fmla="*/ 491760 w 3528720"/>
              <a:gd name="textAreaRight" fmla="*/ 1751760 w 3528720"/>
              <a:gd name="textAreaTop" fmla="*/ 0 h 3527280"/>
              <a:gd name="textAreaBottom" fmla="*/ 1192320 h 3527280"/>
            </a:gdLst>
            <a:ahLst/>
            <a:rect l="textAreaLeft" t="textAreaTop" r="textAreaRight" b="textAreaBottom"/>
            <a:pathLst>
              <a:path w="3528392" h="3528392">
                <a:moveTo>
                  <a:pt x="491965" y="541978"/>
                </a:moveTo>
                <a:lnTo>
                  <a:pt x="491965" y="541978"/>
                </a:lnTo>
                <a:cubicBezTo>
                  <a:pt x="818215" y="202378"/>
                  <a:pt x="1266697" y="7309"/>
                  <a:pt x="1737565" y="200"/>
                </a:cubicBezTo>
                <a:lnTo>
                  <a:pt x="1751743" y="939281"/>
                </a:lnTo>
                <a:lnTo>
                  <a:pt x="1751742" y="939280"/>
                </a:lnTo>
                <a:cubicBezTo>
                  <a:pt x="1531546" y="942605"/>
                  <a:pt x="1321817" y="1033827"/>
                  <a:pt x="1169249" y="1192637"/>
                </a:cubicBezTo>
                <a:lnTo>
                  <a:pt x="491965" y="541978"/>
                </a:lnTo>
                <a:close/>
              </a:path>
            </a:pathLst>
          </a:custGeom>
          <a:gradFill rotWithShape="0">
            <a:gsLst>
              <a:gs pos="0">
                <a:srgbClr val="406d7b"/>
              </a:gs>
              <a:gs pos="100000">
                <a:srgbClr val="73bdd4"/>
              </a:gs>
            </a:gsLst>
            <a:lin ang="2154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空心弧 24"/>
          <p:cNvSpPr/>
          <p:nvPr/>
        </p:nvSpPr>
        <p:spPr>
          <a:xfrm flipH="1" rot="21540000">
            <a:off x="4483440" y="831600"/>
            <a:ext cx="3527640" cy="3527280"/>
          </a:xfrm>
          <a:custGeom>
            <a:avLst/>
            <a:gdLst>
              <a:gd name="textAreaLeft" fmla="*/ 496080 w 3527640"/>
              <a:gd name="textAreaRight" fmla="*/ 1751040 w 3527640"/>
              <a:gd name="textAreaTop" fmla="*/ 0 h 3527280"/>
              <a:gd name="textAreaBottom" fmla="*/ 1189800 h 3527280"/>
            </a:gdLst>
            <a:ahLst/>
            <a:rect l="textAreaLeft" t="textAreaTop" r="textAreaRight" b="textAreaBottom"/>
            <a:pathLst>
              <a:path w="3528392" h="3528392">
                <a:moveTo>
                  <a:pt x="496665" y="537105"/>
                </a:moveTo>
                <a:lnTo>
                  <a:pt x="496664" y="537104"/>
                </a:lnTo>
                <a:cubicBezTo>
                  <a:pt x="822583" y="200445"/>
                  <a:pt x="1269044" y="7273"/>
                  <a:pt x="1737566" y="200"/>
                </a:cubicBezTo>
                <a:lnTo>
                  <a:pt x="1751743" y="939281"/>
                </a:lnTo>
                <a:lnTo>
                  <a:pt x="1751742" y="939280"/>
                </a:lnTo>
                <a:cubicBezTo>
                  <a:pt x="1532643" y="942588"/>
                  <a:pt x="1323859" y="1032923"/>
                  <a:pt x="1171447" y="1190359"/>
                </a:cubicBezTo>
                <a:lnTo>
                  <a:pt x="496665" y="537105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空心弧 28"/>
          <p:cNvSpPr/>
          <p:nvPr/>
        </p:nvSpPr>
        <p:spPr>
          <a:xfrm flipH="1" rot="5280000">
            <a:off x="4482000" y="825840"/>
            <a:ext cx="3527640" cy="3528720"/>
          </a:xfrm>
          <a:custGeom>
            <a:avLst/>
            <a:gdLst>
              <a:gd name="textAreaLeft" fmla="*/ 475920 w 3527640"/>
              <a:gd name="textAreaRight" fmla="*/ 1751040 w 3527640"/>
              <a:gd name="textAreaTop" fmla="*/ 0 h 3528720"/>
              <a:gd name="textAreaBottom" fmla="*/ 1200240 h 3528720"/>
            </a:gdLst>
            <a:ahLst/>
            <a:rect l="textAreaLeft" t="textAreaTop" r="textAreaRight" b="textAreaBottom"/>
            <a:pathLst>
              <a:path w="3528392" h="3528392">
                <a:moveTo>
                  <a:pt x="476612" y="558163"/>
                </a:moveTo>
                <a:lnTo>
                  <a:pt x="476612" y="558163"/>
                </a:lnTo>
                <a:cubicBezTo>
                  <a:pt x="803832" y="208816"/>
                  <a:pt x="1258960" y="7425"/>
                  <a:pt x="1737566" y="200"/>
                </a:cubicBezTo>
                <a:lnTo>
                  <a:pt x="1751743" y="939281"/>
                </a:lnTo>
                <a:lnTo>
                  <a:pt x="1751742" y="939280"/>
                </a:lnTo>
                <a:cubicBezTo>
                  <a:pt x="1527927" y="942659"/>
                  <a:pt x="1315091" y="1036837"/>
                  <a:pt x="1162069" y="1200206"/>
                </a:cubicBezTo>
                <a:lnTo>
                  <a:pt x="476612" y="558163"/>
                </a:lnTo>
                <a:close/>
              </a:path>
            </a:pathLst>
          </a:cu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空心弧 29"/>
          <p:cNvSpPr/>
          <p:nvPr/>
        </p:nvSpPr>
        <p:spPr>
          <a:xfrm rot="5400000">
            <a:off x="4484160" y="834840"/>
            <a:ext cx="3528720" cy="3529080"/>
          </a:xfrm>
          <a:custGeom>
            <a:avLst/>
            <a:gdLst>
              <a:gd name="textAreaLeft" fmla="*/ 496440 w 3528720"/>
              <a:gd name="textAreaRight" fmla="*/ 1751760 w 3528720"/>
              <a:gd name="textAreaTop" fmla="*/ 0 h 3529080"/>
              <a:gd name="textAreaBottom" fmla="*/ 1190520 h 3529080"/>
            </a:gdLst>
            <a:ahLst/>
            <a:rect l="textAreaLeft" t="textAreaTop" r="textAreaRight" b="textAreaBottom"/>
            <a:pathLst>
              <a:path w="3528392" h="3528392">
                <a:moveTo>
                  <a:pt x="496665" y="537105"/>
                </a:moveTo>
                <a:lnTo>
                  <a:pt x="496664" y="537104"/>
                </a:lnTo>
                <a:cubicBezTo>
                  <a:pt x="822583" y="200445"/>
                  <a:pt x="1269044" y="7273"/>
                  <a:pt x="1737566" y="200"/>
                </a:cubicBezTo>
                <a:lnTo>
                  <a:pt x="1751743" y="939281"/>
                </a:lnTo>
                <a:lnTo>
                  <a:pt x="1751742" y="939280"/>
                </a:lnTo>
                <a:cubicBezTo>
                  <a:pt x="1532643" y="942588"/>
                  <a:pt x="1323859" y="1032923"/>
                  <a:pt x="1171447" y="1190359"/>
                </a:cubicBezTo>
                <a:lnTo>
                  <a:pt x="496665" y="537105"/>
                </a:lnTo>
                <a:close/>
              </a:path>
            </a:pathLst>
          </a:custGeom>
          <a:gradFill rotWithShape="0">
            <a:gsLst>
              <a:gs pos="0">
                <a:srgbClr val="b4b2b9"/>
              </a:gs>
              <a:gs pos="100000">
                <a:srgbClr val="7c7787"/>
              </a:gs>
            </a:gsLst>
            <a:lin ang="15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9" name="空心弧 30"/>
          <p:cNvGrpSpPr/>
          <p:nvPr/>
        </p:nvGrpSpPr>
        <p:grpSpPr>
          <a:xfrm>
            <a:off x="6199200" y="3162240"/>
            <a:ext cx="1316520" cy="1229760"/>
            <a:chOff x="6199200" y="3162240"/>
            <a:chExt cx="1316520" cy="1229760"/>
          </a:xfrm>
        </p:grpSpPr>
        <p:pic>
          <p:nvPicPr>
            <p:cNvPr id="1460" name="空心弧 30" descr=""/>
            <p:cNvPicPr/>
            <p:nvPr/>
          </p:nvPicPr>
          <p:blipFill>
            <a:blip r:embed="rId8"/>
            <a:stretch/>
          </p:blipFill>
          <p:spPr>
            <a:xfrm>
              <a:off x="6205680" y="3176640"/>
              <a:ext cx="1292040" cy="117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1" name="Text Box 20"/>
            <p:cNvSpPr/>
            <p:nvPr/>
          </p:nvSpPr>
          <p:spPr>
            <a:xfrm rot="10920000">
              <a:off x="6219360" y="3184200"/>
              <a:ext cx="1275840" cy="11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2" name="空心弧 31"/>
          <p:cNvSpPr/>
          <p:nvPr/>
        </p:nvSpPr>
        <p:spPr>
          <a:xfrm flipH="1" rot="10800000">
            <a:off x="4492800" y="837720"/>
            <a:ext cx="3528720" cy="3527640"/>
          </a:xfrm>
          <a:custGeom>
            <a:avLst/>
            <a:gdLst>
              <a:gd name="textAreaLeft" fmla="*/ 496800 w 3528720"/>
              <a:gd name="textAreaRight" fmla="*/ 1752120 w 3528720"/>
              <a:gd name="textAreaTop" fmla="*/ 0 h 3527640"/>
              <a:gd name="textAreaBottom" fmla="*/ 1190160 h 3527640"/>
            </a:gdLst>
            <a:ahLst/>
            <a:rect l="textAreaLeft" t="textAreaTop" r="textAreaRight" b="textAreaBottom"/>
            <a:pathLst>
              <a:path w="3528392" h="3528392">
                <a:moveTo>
                  <a:pt x="496665" y="537105"/>
                </a:moveTo>
                <a:lnTo>
                  <a:pt x="496664" y="537104"/>
                </a:lnTo>
                <a:cubicBezTo>
                  <a:pt x="822583" y="200445"/>
                  <a:pt x="1269044" y="7273"/>
                  <a:pt x="1737566" y="200"/>
                </a:cubicBezTo>
                <a:lnTo>
                  <a:pt x="1751743" y="939281"/>
                </a:lnTo>
                <a:lnTo>
                  <a:pt x="1751742" y="939280"/>
                </a:lnTo>
                <a:cubicBezTo>
                  <a:pt x="1532643" y="942588"/>
                  <a:pt x="1323859" y="1032923"/>
                  <a:pt x="1171447" y="1190359"/>
                </a:cubicBezTo>
                <a:lnTo>
                  <a:pt x="496665" y="537105"/>
                </a:lnTo>
                <a:close/>
              </a:path>
            </a:pathLst>
          </a:custGeom>
          <a:blipFill rotWithShape="0">
            <a:blip r:embed="rId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TextBox 1"/>
          <p:cNvSpPr/>
          <p:nvPr/>
        </p:nvSpPr>
        <p:spPr>
          <a:xfrm>
            <a:off x="1985040" y="689040"/>
            <a:ext cx="1226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Niagara Solid"/>
                <a:ea typeface="FreesiaUPC"/>
              </a:rPr>
              <a:t>01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TextBox 32"/>
          <p:cNvSpPr/>
          <p:nvPr/>
        </p:nvSpPr>
        <p:spPr>
          <a:xfrm>
            <a:off x="3808080" y="1397160"/>
            <a:ext cx="1226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Niagara Solid"/>
                <a:ea typeface="FreesiaUPC"/>
              </a:rPr>
              <a:t>02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TextBox 33"/>
          <p:cNvSpPr/>
          <p:nvPr/>
        </p:nvSpPr>
        <p:spPr>
          <a:xfrm>
            <a:off x="5636160" y="666720"/>
            <a:ext cx="1226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Niagara Solid"/>
                <a:ea typeface="FreesiaUPC"/>
              </a:rPr>
              <a:t>03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TextBox 34"/>
          <p:cNvSpPr/>
          <p:nvPr/>
        </p:nvSpPr>
        <p:spPr>
          <a:xfrm>
            <a:off x="5640840" y="3270240"/>
            <a:ext cx="1226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Niagara Solid"/>
                <a:ea typeface="FreesiaUPC"/>
              </a:rPr>
              <a:t>06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TextBox 35"/>
          <p:cNvSpPr/>
          <p:nvPr/>
        </p:nvSpPr>
        <p:spPr>
          <a:xfrm>
            <a:off x="3813120" y="2516040"/>
            <a:ext cx="1226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Niagara Solid"/>
                <a:ea typeface="FreesiaUPC"/>
              </a:rPr>
              <a:t>05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TextBox 36"/>
          <p:cNvSpPr/>
          <p:nvPr/>
        </p:nvSpPr>
        <p:spPr>
          <a:xfrm>
            <a:off x="2030400" y="3270240"/>
            <a:ext cx="1226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Niagara Solid"/>
                <a:ea typeface="FreesiaUPC"/>
              </a:rPr>
              <a:t>04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TextBox 2"/>
          <p:cNvSpPr/>
          <p:nvPr/>
        </p:nvSpPr>
        <p:spPr>
          <a:xfrm>
            <a:off x="1662840" y="1162080"/>
            <a:ext cx="18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TEP          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TextBox 37"/>
          <p:cNvSpPr/>
          <p:nvPr/>
        </p:nvSpPr>
        <p:spPr>
          <a:xfrm>
            <a:off x="5265720" y="1162080"/>
            <a:ext cx="21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TEP            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TextBox 38"/>
          <p:cNvSpPr/>
          <p:nvPr/>
        </p:nvSpPr>
        <p:spPr>
          <a:xfrm>
            <a:off x="1675800" y="3716280"/>
            <a:ext cx="201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TEP            FO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TextBox 39"/>
          <p:cNvSpPr/>
          <p:nvPr/>
        </p:nvSpPr>
        <p:spPr>
          <a:xfrm>
            <a:off x="5306400" y="3716280"/>
            <a:ext cx="174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TEP            S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TextBox 40"/>
          <p:cNvSpPr/>
          <p:nvPr/>
        </p:nvSpPr>
        <p:spPr>
          <a:xfrm>
            <a:off x="3432600" y="1811160"/>
            <a:ext cx="198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TEP            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TextBox 41"/>
          <p:cNvSpPr/>
          <p:nvPr/>
        </p:nvSpPr>
        <p:spPr>
          <a:xfrm>
            <a:off x="3438720" y="3003480"/>
            <a:ext cx="193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TEP             F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心形 3"/>
          <p:cNvSpPr/>
          <p:nvPr/>
        </p:nvSpPr>
        <p:spPr>
          <a:xfrm>
            <a:off x="2478240" y="407880"/>
            <a:ext cx="215640" cy="219240"/>
          </a:xfrm>
          <a:custGeom>
            <a:avLst/>
            <a:gdLst>
              <a:gd name="textAreaLeft" fmla="*/ 36000 w 215640"/>
              <a:gd name="textAreaRight" fmla="*/ 180000 w 215640"/>
              <a:gd name="textAreaTop" fmla="*/ 54720 h 219240"/>
              <a:gd name="textAreaBottom" fmla="*/ 146160 h 219240"/>
            </a:gdLst>
            <a:ahLst/>
            <a:rect l="textAreaLeft" t="textAreaTop" r="textAreaRight" b="textAreaBottom"/>
            <a:pathLst>
              <a:path w="216024" h="220188">
                <a:moveTo>
                  <a:pt x="108012" y="55047"/>
                </a:moveTo>
                <a:cubicBezTo>
                  <a:pt x="153017" y="-73396"/>
                  <a:pt x="328536" y="55047"/>
                  <a:pt x="108012" y="220188"/>
                </a:cubicBezTo>
                <a:cubicBezTo>
                  <a:pt x="-112512" y="55047"/>
                  <a:pt x="63007" y="-73396"/>
                  <a:pt x="108012" y="55047"/>
                </a:cubicBez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直接连接符 6"/>
          <p:cNvSpPr/>
          <p:nvPr/>
        </p:nvSpPr>
        <p:spPr>
          <a:xfrm>
            <a:off x="2587680" y="723960"/>
            <a:ext cx="0" cy="115920"/>
          </a:xfrm>
          <a:prstGeom prst="line">
            <a:avLst/>
          </a:prstGeom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椭圆 8"/>
          <p:cNvSpPr/>
          <p:nvPr/>
        </p:nvSpPr>
        <p:spPr>
          <a:xfrm>
            <a:off x="2371680" y="291960"/>
            <a:ext cx="432000" cy="432000"/>
          </a:xfrm>
          <a:prstGeom prst="ellipse">
            <a:avLst/>
          </a:prstGeom>
          <a:noFill/>
          <a:ln w="1260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椭圆 42"/>
          <p:cNvSpPr/>
          <p:nvPr/>
        </p:nvSpPr>
        <p:spPr>
          <a:xfrm>
            <a:off x="4183200" y="291960"/>
            <a:ext cx="431640" cy="432000"/>
          </a:xfrm>
          <a:prstGeom prst="ellipse">
            <a:avLst/>
          </a:prstGeom>
          <a:noFill/>
          <a:ln w="12600">
            <a:solidFill>
              <a:srgbClr val="8c6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椭圆 10"/>
          <p:cNvSpPr/>
          <p:nvPr/>
        </p:nvSpPr>
        <p:spPr>
          <a:xfrm>
            <a:off x="4351320" y="390600"/>
            <a:ext cx="104760" cy="104760"/>
          </a:xfrm>
          <a:prstGeom prst="ellipse">
            <a:avLst/>
          </a:prstGeom>
          <a:solidFill>
            <a:srgbClr val="8c6d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弦形 12"/>
          <p:cNvSpPr/>
          <p:nvPr/>
        </p:nvSpPr>
        <p:spPr>
          <a:xfrm rot="8100000">
            <a:off x="4290480" y="504720"/>
            <a:ext cx="216000" cy="216000"/>
          </a:xfrm>
          <a:custGeom>
            <a:avLst/>
            <a:gdLst>
              <a:gd name="textAreaLeft" fmla="*/ 31680 w 216000"/>
              <a:gd name="textAreaRight" fmla="*/ 184320 w 216000"/>
              <a:gd name="textAreaTop" fmla="*/ 31680 h 216000"/>
              <a:gd name="textAreaBottom" fmla="*/ 184320 h 216000"/>
            </a:gdLst>
            <a:ahLst/>
            <a:rect l="textAreaLeft" t="textAreaTop" r="textAreaRight" b="textAreaBottom"/>
            <a:pathLst>
              <a:path w="216168" h="216168">
                <a:moveTo>
                  <a:pt x="184511" y="184511"/>
                </a:moveTo>
                <a:lnTo>
                  <a:pt x="184510" y="184510"/>
                </a:lnTo>
                <a:cubicBezTo>
                  <a:pt x="164241" y="204780"/>
                  <a:pt x="136749" y="216168"/>
                  <a:pt x="108084" y="216168"/>
                </a:cubicBezTo>
                <a:cubicBezTo>
                  <a:pt x="48390" y="216168"/>
                  <a:pt x="0" y="167777"/>
                  <a:pt x="0" y="108084"/>
                </a:cubicBezTo>
                <a:cubicBezTo>
                  <a:pt x="0" y="79346"/>
                  <a:pt x="11444" y="51792"/>
                  <a:pt x="31803" y="31510"/>
                </a:cubicBezTo>
                <a:lnTo>
                  <a:pt x="184511" y="184511"/>
                </a:lnTo>
                <a:close/>
              </a:path>
            </a:pathLst>
          </a:custGeom>
          <a:solidFill>
            <a:srgbClr val="8c6d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直接连接符 19"/>
          <p:cNvSpPr/>
          <p:nvPr/>
        </p:nvSpPr>
        <p:spPr>
          <a:xfrm>
            <a:off x="4405320" y="723960"/>
            <a:ext cx="0" cy="191880"/>
          </a:xfrm>
          <a:prstGeom prst="line">
            <a:avLst/>
          </a:prstGeom>
          <a:ln w="9360">
            <a:solidFill>
              <a:srgbClr val="8c6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2" name="Picture 3" descr="\\MAGNUM\Projects\Microsoft\Cloud Power FY12\Design\Icons\PNGs\Open_Web_Platform.png"/>
          <p:cNvPicPr/>
          <p:nvPr/>
        </p:nvPicPr>
        <p:blipFill>
          <a:blip r:embed="rId10"/>
          <a:stretch/>
        </p:blipFill>
        <p:spPr>
          <a:xfrm>
            <a:off x="5931000" y="201600"/>
            <a:ext cx="585720" cy="584280"/>
          </a:xfrm>
          <a:prstGeom prst="rect">
            <a:avLst/>
          </a:prstGeom>
          <a:ln w="0">
            <a:noFill/>
          </a:ln>
        </p:spPr>
      </p:pic>
      <p:sp>
        <p:nvSpPr>
          <p:cNvPr id="1483" name="直接连接符 45"/>
          <p:cNvSpPr/>
          <p:nvPr/>
        </p:nvSpPr>
        <p:spPr>
          <a:xfrm>
            <a:off x="6227640" y="723960"/>
            <a:ext cx="0" cy="115920"/>
          </a:xfrm>
          <a:prstGeom prst="line">
            <a:avLst/>
          </a:prstGeom>
          <a:ln w="9360">
            <a:solidFill>
              <a:srgbClr val="4299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直接连接符 46"/>
          <p:cNvSpPr/>
          <p:nvPr/>
        </p:nvSpPr>
        <p:spPr>
          <a:xfrm>
            <a:off x="2587680" y="4362480"/>
            <a:ext cx="0" cy="115920"/>
          </a:xfrm>
          <a:prstGeom prst="line">
            <a:avLst/>
          </a:prstGeom>
          <a:ln w="9360">
            <a:solidFill>
              <a:srgbClr val="8c6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椭圆 47"/>
          <p:cNvSpPr/>
          <p:nvPr/>
        </p:nvSpPr>
        <p:spPr>
          <a:xfrm>
            <a:off x="2371680" y="4470480"/>
            <a:ext cx="432000" cy="431640"/>
          </a:xfrm>
          <a:prstGeom prst="ellipse">
            <a:avLst/>
          </a:prstGeom>
          <a:noFill/>
          <a:ln w="12600">
            <a:solidFill>
              <a:srgbClr val="8c6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矩形 25"/>
          <p:cNvSpPr/>
          <p:nvPr/>
        </p:nvSpPr>
        <p:spPr>
          <a:xfrm rot="2700000">
            <a:off x="2471400" y="4657680"/>
            <a:ext cx="220680" cy="68040"/>
          </a:xfrm>
          <a:prstGeom prst="rect">
            <a:avLst/>
          </a:prstGeom>
          <a:solidFill>
            <a:srgbClr val="8c6d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矩形 48"/>
          <p:cNvSpPr/>
          <p:nvPr/>
        </p:nvSpPr>
        <p:spPr>
          <a:xfrm rot="8100000">
            <a:off x="2471400" y="4657680"/>
            <a:ext cx="220680" cy="68400"/>
          </a:xfrm>
          <a:prstGeom prst="rect">
            <a:avLst/>
          </a:prstGeom>
          <a:solidFill>
            <a:srgbClr val="8c6d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直接连接符 49"/>
          <p:cNvSpPr/>
          <p:nvPr/>
        </p:nvSpPr>
        <p:spPr>
          <a:xfrm>
            <a:off x="2583000" y="3314880"/>
            <a:ext cx="0" cy="115560"/>
          </a:xfrm>
          <a:prstGeom prst="line">
            <a:avLst/>
          </a:prstGeom>
          <a:ln w="9360">
            <a:solidFill>
              <a:srgbClr val="8c6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直接连接符 50"/>
          <p:cNvSpPr/>
          <p:nvPr/>
        </p:nvSpPr>
        <p:spPr>
          <a:xfrm>
            <a:off x="2587680" y="1773360"/>
            <a:ext cx="0" cy="115920"/>
          </a:xfrm>
          <a:prstGeom prst="line">
            <a:avLst/>
          </a:prstGeom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直接连接符 51"/>
          <p:cNvSpPr/>
          <p:nvPr/>
        </p:nvSpPr>
        <p:spPr>
          <a:xfrm>
            <a:off x="4405320" y="1397160"/>
            <a:ext cx="0" cy="190440"/>
          </a:xfrm>
          <a:prstGeom prst="line">
            <a:avLst/>
          </a:prstGeom>
          <a:ln w="9360">
            <a:solidFill>
              <a:srgbClr val="8c6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直接连接符 52"/>
          <p:cNvSpPr/>
          <p:nvPr/>
        </p:nvSpPr>
        <p:spPr>
          <a:xfrm>
            <a:off x="6227640" y="1773360"/>
            <a:ext cx="0" cy="115920"/>
          </a:xfrm>
          <a:prstGeom prst="line">
            <a:avLst/>
          </a:prstGeom>
          <a:ln w="9360">
            <a:solidFill>
              <a:srgbClr val="4299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椭圆 53"/>
          <p:cNvSpPr/>
          <p:nvPr/>
        </p:nvSpPr>
        <p:spPr>
          <a:xfrm>
            <a:off x="4187880" y="4470480"/>
            <a:ext cx="431640" cy="431640"/>
          </a:xfrm>
          <a:prstGeom prst="ellipse">
            <a:avLst/>
          </a:prstGeom>
          <a:noFill/>
          <a:ln w="12600">
            <a:solidFill>
              <a:srgbClr val="9b82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直接连接符 54"/>
          <p:cNvSpPr/>
          <p:nvPr/>
        </p:nvSpPr>
        <p:spPr>
          <a:xfrm>
            <a:off x="4405320" y="3594240"/>
            <a:ext cx="0" cy="250560"/>
          </a:xfrm>
          <a:prstGeom prst="line">
            <a:avLst/>
          </a:prstGeom>
          <a:ln w="9360">
            <a:solidFill>
              <a:srgbClr val="9b82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直接连接符 55"/>
          <p:cNvSpPr/>
          <p:nvPr/>
        </p:nvSpPr>
        <p:spPr>
          <a:xfrm>
            <a:off x="4405320" y="4287960"/>
            <a:ext cx="0" cy="180720"/>
          </a:xfrm>
          <a:prstGeom prst="line">
            <a:avLst/>
          </a:prstGeom>
          <a:ln w="9360">
            <a:solidFill>
              <a:srgbClr val="9b82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任意多边形 56"/>
          <p:cNvSpPr/>
          <p:nvPr/>
        </p:nvSpPr>
        <p:spPr>
          <a:xfrm>
            <a:off x="4299120" y="4573440"/>
            <a:ext cx="168120" cy="233640"/>
          </a:xfrm>
          <a:custGeom>
            <a:avLst/>
            <a:gdLst>
              <a:gd name="textAreaLeft" fmla="*/ 0 w 168120"/>
              <a:gd name="textAreaRight" fmla="*/ 168480 w 168120"/>
              <a:gd name="textAreaTop" fmla="*/ 0 h 233640"/>
              <a:gd name="textAreaBottom" fmla="*/ 234000 h 233640"/>
            </a:gdLst>
            <a:ahLst/>
            <a:rect l="textAreaLeft" t="textAreaTop" r="textAreaRight" b="textAreaBottom"/>
            <a:pathLst>
              <a:path w="167590" h="233661">
                <a:moveTo>
                  <a:pt x="167511" y="3"/>
                </a:moveTo>
                <a:cubicBezTo>
                  <a:pt x="171481" y="-393"/>
                  <a:pt x="25826" y="45247"/>
                  <a:pt x="10348" y="95253"/>
                </a:cubicBezTo>
                <a:cubicBezTo>
                  <a:pt x="-5130" y="145259"/>
                  <a:pt x="-3637" y="227148"/>
                  <a:pt x="17492" y="233365"/>
                </a:cubicBezTo>
                <a:cubicBezTo>
                  <a:pt x="38621" y="239582"/>
                  <a:pt x="46637" y="146446"/>
                  <a:pt x="75212" y="113506"/>
                </a:cubicBezTo>
                <a:cubicBezTo>
                  <a:pt x="103787" y="80566"/>
                  <a:pt x="163541" y="399"/>
                  <a:pt x="167511" y="3"/>
                </a:cubicBezTo>
                <a:close/>
              </a:path>
            </a:pathLst>
          </a:custGeom>
          <a:solidFill>
            <a:srgbClr val="9b82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任意多边形 57"/>
          <p:cNvSpPr/>
          <p:nvPr/>
        </p:nvSpPr>
        <p:spPr>
          <a:xfrm>
            <a:off x="4338720" y="4586400"/>
            <a:ext cx="158760" cy="234720"/>
          </a:xfrm>
          <a:custGeom>
            <a:avLst/>
            <a:gdLst>
              <a:gd name="textAreaLeft" fmla="*/ 0 w 158760"/>
              <a:gd name="textAreaRight" fmla="*/ 159120 w 158760"/>
              <a:gd name="textAreaTop" fmla="*/ 0 h 234720"/>
              <a:gd name="textAreaBottom" fmla="*/ 235080 h 234720"/>
            </a:gdLst>
            <a:ahLst/>
            <a:rect l="textAreaLeft" t="textAreaTop" r="textAreaRight" b="textAreaBottom"/>
            <a:pathLst>
              <a:path w="160059" h="235325">
                <a:moveTo>
                  <a:pt x="148270" y="363"/>
                </a:moveTo>
                <a:cubicBezTo>
                  <a:pt x="162954" y="6316"/>
                  <a:pt x="162161" y="101566"/>
                  <a:pt x="155414" y="136094"/>
                </a:cubicBezTo>
                <a:cubicBezTo>
                  <a:pt x="148667" y="170622"/>
                  <a:pt x="133586" y="192053"/>
                  <a:pt x="107789" y="207531"/>
                </a:cubicBezTo>
                <a:cubicBezTo>
                  <a:pt x="81992" y="223009"/>
                  <a:pt x="7380" y="246822"/>
                  <a:pt x="633" y="228963"/>
                </a:cubicBezTo>
                <a:cubicBezTo>
                  <a:pt x="-6114" y="211104"/>
                  <a:pt x="42702" y="137681"/>
                  <a:pt x="67308" y="100375"/>
                </a:cubicBezTo>
                <a:cubicBezTo>
                  <a:pt x="91914" y="63069"/>
                  <a:pt x="133586" y="-5590"/>
                  <a:pt x="148270" y="363"/>
                </a:cubicBezTo>
                <a:close/>
              </a:path>
            </a:pathLst>
          </a:custGeom>
          <a:solidFill>
            <a:srgbClr val="9b82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直接连接符 58"/>
          <p:cNvSpPr/>
          <p:nvPr/>
        </p:nvSpPr>
        <p:spPr>
          <a:xfrm>
            <a:off x="6227640" y="3314880"/>
            <a:ext cx="0" cy="115560"/>
          </a:xfrm>
          <a:prstGeom prst="line">
            <a:avLst/>
          </a:prstGeom>
          <a:ln w="93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直接连接符 59"/>
          <p:cNvSpPr/>
          <p:nvPr/>
        </p:nvSpPr>
        <p:spPr>
          <a:xfrm>
            <a:off x="6227640" y="4349880"/>
            <a:ext cx="0" cy="114120"/>
          </a:xfrm>
          <a:prstGeom prst="line">
            <a:avLst/>
          </a:prstGeom>
          <a:ln w="93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椭圆 60"/>
          <p:cNvSpPr/>
          <p:nvPr/>
        </p:nvSpPr>
        <p:spPr>
          <a:xfrm>
            <a:off x="6008760" y="4473720"/>
            <a:ext cx="431640" cy="431640"/>
          </a:xfrm>
          <a:prstGeom prst="ellipse">
            <a:avLst/>
          </a:prstGeom>
          <a:noFill/>
          <a:ln w="1260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五角星 61"/>
          <p:cNvSpPr/>
          <p:nvPr/>
        </p:nvSpPr>
        <p:spPr>
          <a:xfrm>
            <a:off x="6107040" y="4575240"/>
            <a:ext cx="233280" cy="233280"/>
          </a:xfrm>
          <a:custGeom>
            <a:avLst/>
            <a:gdLst>
              <a:gd name="textAreaLeft" fmla="*/ 51840 w 233280"/>
              <a:gd name="textAreaRight" fmla="*/ 181440 w 233280"/>
              <a:gd name="textAreaTop" fmla="*/ 70920 h 233280"/>
              <a:gd name="textAreaBottom" fmla="*/ 200520 h 233280"/>
            </a:gdLst>
            <a:ahLst/>
            <a:rect l="textAreaLeft" t="textAreaTop" r="textAreaRight" b="textAreaBottom"/>
            <a:pathLst>
              <a:path w="233824" h="233824">
                <a:moveTo>
                  <a:pt x="0" y="89313"/>
                </a:moveTo>
                <a:lnTo>
                  <a:pt x="76888" y="71332"/>
                </a:lnTo>
                <a:lnTo>
                  <a:pt x="116912" y="0"/>
                </a:lnTo>
                <a:lnTo>
                  <a:pt x="156936" y="71332"/>
                </a:lnTo>
                <a:lnTo>
                  <a:pt x="233824" y="89313"/>
                </a:lnTo>
                <a:lnTo>
                  <a:pt x="181672" y="151379"/>
                </a:lnTo>
                <a:lnTo>
                  <a:pt x="189168" y="233823"/>
                </a:lnTo>
                <a:lnTo>
                  <a:pt x="116912" y="200851"/>
                </a:lnTo>
                <a:lnTo>
                  <a:pt x="44656" y="233823"/>
                </a:lnTo>
                <a:lnTo>
                  <a:pt x="52152" y="151379"/>
                </a:lnTo>
                <a:lnTo>
                  <a:pt x="0" y="89313"/>
                </a:lnTo>
                <a:close/>
              </a:path>
            </a:pathLst>
          </a:cu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TextBox 62"/>
          <p:cNvSpPr/>
          <p:nvPr/>
        </p:nvSpPr>
        <p:spPr>
          <a:xfrm>
            <a:off x="1903320" y="2120760"/>
            <a:ext cx="1368360" cy="9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e46c0a"/>
                </a:solidFill>
                <a:latin typeface="Calibri"/>
              </a:rPr>
              <a:t>Your tex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Click here to add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your text or Copy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Your text and past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it her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TextBox 63"/>
          <p:cNvSpPr/>
          <p:nvPr/>
        </p:nvSpPr>
        <p:spPr>
          <a:xfrm>
            <a:off x="5543640" y="2120760"/>
            <a:ext cx="1366920" cy="9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e46c0a"/>
                </a:solidFill>
                <a:latin typeface="Calibri"/>
              </a:rPr>
              <a:t>Your tex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Click here to add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your text or Copy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Your text and past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it her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矩形 64"/>
          <p:cNvSpPr/>
          <p:nvPr/>
        </p:nvSpPr>
        <p:spPr>
          <a:xfrm>
            <a:off x="4105800" y="966960"/>
            <a:ext cx="58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46c0a"/>
                </a:solidFill>
                <a:latin typeface="Calibri"/>
              </a:rPr>
              <a:t>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矩形 65"/>
          <p:cNvSpPr/>
          <p:nvPr/>
        </p:nvSpPr>
        <p:spPr>
          <a:xfrm>
            <a:off x="4105800" y="3870360"/>
            <a:ext cx="58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46c0a"/>
                </a:solidFill>
                <a:latin typeface="Calibri"/>
              </a:rPr>
              <a:t>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矩形 12"/>
          <p:cNvSpPr/>
          <p:nvPr/>
        </p:nvSpPr>
        <p:spPr>
          <a:xfrm>
            <a:off x="343080" y="3521160"/>
            <a:ext cx="934920" cy="1008000"/>
          </a:xfrm>
          <a:prstGeom prst="rect">
            <a:avLst/>
          </a:prstGeom>
          <a:solidFill>
            <a:srgbClr val="2a44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矩形 11"/>
          <p:cNvSpPr/>
          <p:nvPr/>
        </p:nvSpPr>
        <p:spPr>
          <a:xfrm>
            <a:off x="343080" y="2513160"/>
            <a:ext cx="934920" cy="1008000"/>
          </a:xfrm>
          <a:prstGeom prst="rect">
            <a:avLst/>
          </a:prstGeom>
          <a:solidFill>
            <a:srgbClr val="0a94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矩形 10"/>
          <p:cNvSpPr/>
          <p:nvPr/>
        </p:nvSpPr>
        <p:spPr>
          <a:xfrm>
            <a:off x="343080" y="1514520"/>
            <a:ext cx="934920" cy="1008000"/>
          </a:xfrm>
          <a:prstGeom prst="rect">
            <a:avLst/>
          </a:prstGeom>
          <a:solidFill>
            <a:srgbClr val="e265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矩形 8"/>
          <p:cNvSpPr/>
          <p:nvPr/>
        </p:nvSpPr>
        <p:spPr>
          <a:xfrm>
            <a:off x="343080" y="509760"/>
            <a:ext cx="934920" cy="1008000"/>
          </a:xfrm>
          <a:prstGeom prst="rect">
            <a:avLst/>
          </a:prstGeom>
          <a:solidFill>
            <a:srgbClr val="869a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9" name="Picture 3" descr=""/>
          <p:cNvPicPr/>
          <p:nvPr/>
        </p:nvPicPr>
        <p:blipFill>
          <a:blip r:embed="rId1"/>
          <a:srcRect l="0" t="2775" r="57688" b="7215"/>
          <a:stretch/>
        </p:blipFill>
        <p:spPr>
          <a:xfrm>
            <a:off x="343080" y="-93600"/>
            <a:ext cx="180720" cy="6191280"/>
          </a:xfrm>
          <a:prstGeom prst="rect">
            <a:avLst/>
          </a:prstGeom>
          <a:ln w="0">
            <a:noFill/>
          </a:ln>
        </p:spPr>
      </p:pic>
      <p:sp>
        <p:nvSpPr>
          <p:cNvPr id="1510" name="矩形 23"/>
          <p:cNvSpPr/>
          <p:nvPr/>
        </p:nvSpPr>
        <p:spPr>
          <a:xfrm>
            <a:off x="3105000" y="3233880"/>
            <a:ext cx="2619360" cy="726840"/>
          </a:xfrm>
          <a:prstGeom prst="rect">
            <a:avLst/>
          </a:prstGeom>
          <a:solidFill>
            <a:srgbClr val="2b45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矩形 24"/>
          <p:cNvSpPr/>
          <p:nvPr/>
        </p:nvSpPr>
        <p:spPr>
          <a:xfrm>
            <a:off x="3105000" y="2506680"/>
            <a:ext cx="2619360" cy="727200"/>
          </a:xfrm>
          <a:prstGeom prst="rect">
            <a:avLst/>
          </a:prstGeom>
          <a:solidFill>
            <a:srgbClr val="0b9b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矩形 25"/>
          <p:cNvSpPr/>
          <p:nvPr/>
        </p:nvSpPr>
        <p:spPr>
          <a:xfrm>
            <a:off x="3105000" y="1787400"/>
            <a:ext cx="2619360" cy="727200"/>
          </a:xfrm>
          <a:prstGeom prst="rect">
            <a:avLst/>
          </a:prstGeom>
          <a:solidFill>
            <a:srgbClr val="f76d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矩形 26"/>
          <p:cNvSpPr/>
          <p:nvPr/>
        </p:nvSpPr>
        <p:spPr>
          <a:xfrm>
            <a:off x="3105000" y="1063800"/>
            <a:ext cx="2619360" cy="726840"/>
          </a:xfrm>
          <a:prstGeom prst="rect">
            <a:avLst/>
          </a:prstGeom>
          <a:solidFill>
            <a:srgbClr val="8fa2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矩形 28"/>
          <p:cNvSpPr/>
          <p:nvPr/>
        </p:nvSpPr>
        <p:spPr>
          <a:xfrm>
            <a:off x="1278000" y="509760"/>
            <a:ext cx="1827000" cy="1280880"/>
          </a:xfrm>
          <a:custGeom>
            <a:avLst/>
            <a:gdLst>
              <a:gd name="textAreaLeft" fmla="*/ 0 w 1827000"/>
              <a:gd name="textAreaRight" fmla="*/ 1827360 w 1827000"/>
              <a:gd name="textAreaTop" fmla="*/ 0 h 1280880"/>
              <a:gd name="textAreaBottom" fmla="*/ 1281240 h 1280880"/>
            </a:gdLst>
            <a:ahLst/>
            <a:rect l="textAreaLeft" t="textAreaTop" r="textAreaRight" b="textAreaBottom"/>
            <a:pathLst>
              <a:path w="1826712" h="1280593">
                <a:moveTo>
                  <a:pt x="0" y="0"/>
                </a:moveTo>
                <a:lnTo>
                  <a:pt x="1826712" y="555625"/>
                </a:lnTo>
                <a:lnTo>
                  <a:pt x="1826712" y="1280593"/>
                </a:lnTo>
                <a:lnTo>
                  <a:pt x="0" y="1007543"/>
                </a:lnTo>
                <a:lnTo>
                  <a:pt x="0" y="0"/>
                </a:lnTo>
                <a:close/>
              </a:path>
            </a:pathLst>
          </a:custGeom>
          <a:solidFill>
            <a:srgbClr val="92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矩形 28"/>
          <p:cNvSpPr/>
          <p:nvPr/>
        </p:nvSpPr>
        <p:spPr>
          <a:xfrm>
            <a:off x="1278000" y="1515960"/>
            <a:ext cx="1830240" cy="1008000"/>
          </a:xfrm>
          <a:custGeom>
            <a:avLst/>
            <a:gdLst>
              <a:gd name="textAreaLeft" fmla="*/ 0 w 1830240"/>
              <a:gd name="textAreaRight" fmla="*/ 1830600 w 1830240"/>
              <a:gd name="textAreaTop" fmla="*/ 0 h 1008000"/>
              <a:gd name="textAreaBottom" fmla="*/ 1008360 h 1008000"/>
            </a:gdLst>
            <a:ahLst/>
            <a:rect l="textAreaLeft" t="textAreaTop" r="textAreaRight" b="textAreaBottom"/>
            <a:pathLst>
              <a:path w="1829887" h="1007543">
                <a:moveTo>
                  <a:pt x="0" y="0"/>
                </a:moveTo>
                <a:lnTo>
                  <a:pt x="1829887" y="273050"/>
                </a:lnTo>
                <a:cubicBezTo>
                  <a:pt x="1828829" y="608898"/>
                  <a:pt x="1830151" y="667727"/>
                  <a:pt x="1829093" y="1003575"/>
                </a:cubicBezTo>
                <a:lnTo>
                  <a:pt x="0" y="1007543"/>
                </a:lnTo>
                <a:lnTo>
                  <a:pt x="0" y="0"/>
                </a:lnTo>
                <a:close/>
              </a:path>
            </a:pathLst>
          </a:custGeom>
          <a:solidFill>
            <a:srgbClr val="fe72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矩形 28"/>
          <p:cNvSpPr/>
          <p:nvPr/>
        </p:nvSpPr>
        <p:spPr>
          <a:xfrm>
            <a:off x="1278000" y="2516040"/>
            <a:ext cx="1834920" cy="1003320"/>
          </a:xfrm>
          <a:custGeom>
            <a:avLst/>
            <a:gdLst>
              <a:gd name="textAreaLeft" fmla="*/ 0 w 1834920"/>
              <a:gd name="textAreaRight" fmla="*/ 1835280 w 1834920"/>
              <a:gd name="textAreaTop" fmla="*/ 0 h 1003320"/>
              <a:gd name="textAreaBottom" fmla="*/ 1003680 h 1003320"/>
            </a:gdLst>
            <a:ahLst/>
            <a:rect l="textAreaLeft" t="textAreaTop" r="textAreaRight" b="textAreaBottom"/>
            <a:pathLst>
              <a:path w="1834048" h="1003574">
                <a:moveTo>
                  <a:pt x="0" y="5556"/>
                </a:moveTo>
                <a:lnTo>
                  <a:pt x="1832268" y="0"/>
                </a:lnTo>
                <a:cubicBezTo>
                  <a:pt x="1831210" y="335848"/>
                  <a:pt x="1834914" y="385151"/>
                  <a:pt x="1833856" y="720999"/>
                </a:cubicBezTo>
                <a:lnTo>
                  <a:pt x="0" y="1003574"/>
                </a:lnTo>
                <a:lnTo>
                  <a:pt x="0" y="5556"/>
                </a:lnTo>
                <a:close/>
              </a:path>
            </a:pathLst>
          </a:custGeom>
          <a:solidFill>
            <a:srgbClr val="0ba1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矩形 28"/>
          <p:cNvSpPr/>
          <p:nvPr/>
        </p:nvSpPr>
        <p:spPr>
          <a:xfrm>
            <a:off x="1273320" y="3232080"/>
            <a:ext cx="1838160" cy="1297080"/>
          </a:xfrm>
          <a:custGeom>
            <a:avLst/>
            <a:gdLst>
              <a:gd name="textAreaLeft" fmla="*/ 0 w 1838160"/>
              <a:gd name="textAreaRight" fmla="*/ 1838520 w 1838160"/>
              <a:gd name="textAreaTop" fmla="*/ 0 h 1297080"/>
              <a:gd name="textAreaBottom" fmla="*/ 1297440 h 1297080"/>
            </a:gdLst>
            <a:ahLst/>
            <a:rect l="textAreaLeft" t="textAreaTop" r="textAreaRight" b="textAreaBottom"/>
            <a:pathLst>
              <a:path w="1837135" h="1296468">
                <a:moveTo>
                  <a:pt x="2486" y="284162"/>
                </a:moveTo>
                <a:lnTo>
                  <a:pt x="1837135" y="0"/>
                </a:lnTo>
                <a:cubicBezTo>
                  <a:pt x="1836077" y="335848"/>
                  <a:pt x="1837400" y="392296"/>
                  <a:pt x="1836342" y="728144"/>
                </a:cubicBezTo>
                <a:lnTo>
                  <a:pt x="105" y="1296468"/>
                </a:lnTo>
                <a:cubicBezTo>
                  <a:pt x="-689" y="962208"/>
                  <a:pt x="3280" y="618422"/>
                  <a:pt x="2486" y="284162"/>
                </a:cubicBezTo>
                <a:close/>
              </a:path>
            </a:pathLst>
          </a:custGeom>
          <a:solidFill>
            <a:srgbClr val="2d48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矩形 38"/>
          <p:cNvSpPr/>
          <p:nvPr/>
        </p:nvSpPr>
        <p:spPr>
          <a:xfrm>
            <a:off x="3112920" y="1063800"/>
            <a:ext cx="522360" cy="289692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0000">
                  <a:alpha val="16078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矩形 39"/>
          <p:cNvSpPr/>
          <p:nvPr/>
        </p:nvSpPr>
        <p:spPr>
          <a:xfrm rot="10800000">
            <a:off x="755280" y="509400"/>
            <a:ext cx="522360" cy="40194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0000">
                  <a:alpha val="16078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TextBox 40"/>
          <p:cNvSpPr/>
          <p:nvPr/>
        </p:nvSpPr>
        <p:spPr>
          <a:xfrm>
            <a:off x="832320" y="47952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doni MT Condensed"/>
              </a:rPr>
              <a:t>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TextBox 42"/>
          <p:cNvSpPr/>
          <p:nvPr/>
        </p:nvSpPr>
        <p:spPr>
          <a:xfrm>
            <a:off x="832320" y="146196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doni MT Condensed"/>
              </a:rPr>
              <a:t>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TextBox 44"/>
          <p:cNvSpPr/>
          <p:nvPr/>
        </p:nvSpPr>
        <p:spPr>
          <a:xfrm>
            <a:off x="832320" y="248112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doni MT Condensed"/>
              </a:rPr>
              <a:t>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TextBox 46"/>
          <p:cNvSpPr/>
          <p:nvPr/>
        </p:nvSpPr>
        <p:spPr>
          <a:xfrm>
            <a:off x="832320" y="346248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doni MT Condensed"/>
              </a:rPr>
              <a:t>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4" name="TextBox 49"/>
          <p:cNvSpPr/>
          <p:nvPr/>
        </p:nvSpPr>
        <p:spPr>
          <a:xfrm>
            <a:off x="3276720" y="1131840"/>
            <a:ext cx="2334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alibri"/>
              </a:rPr>
              <a:t>Your tex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alibri"/>
              </a:rPr>
              <a:t>Click here to add your text or Copy Your text and paste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alibri"/>
              </a:rPr>
              <a:t>it her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TextBox 53"/>
          <p:cNvSpPr/>
          <p:nvPr/>
        </p:nvSpPr>
        <p:spPr>
          <a:xfrm>
            <a:off x="3276720" y="1851120"/>
            <a:ext cx="2334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alibri"/>
              </a:rPr>
              <a:t>Your tex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alibri"/>
              </a:rPr>
              <a:t>Click here to add your text or Copy Your text and paste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alibri"/>
              </a:rPr>
              <a:t>it her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TextBox 54"/>
          <p:cNvSpPr/>
          <p:nvPr/>
        </p:nvSpPr>
        <p:spPr>
          <a:xfrm>
            <a:off x="3276720" y="2584440"/>
            <a:ext cx="2334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alibri"/>
              </a:rPr>
              <a:t>Your tex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alibri"/>
              </a:rPr>
              <a:t>Click here to add your text or Copy Your text and paste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alibri"/>
              </a:rPr>
              <a:t>it her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TextBox 55"/>
          <p:cNvSpPr/>
          <p:nvPr/>
        </p:nvSpPr>
        <p:spPr>
          <a:xfrm>
            <a:off x="3276720" y="3305160"/>
            <a:ext cx="2334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alibri"/>
              </a:rPr>
              <a:t>Your tex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alibri"/>
              </a:rPr>
              <a:t>Click here to add your text or Copy Your text and paste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alibri"/>
              </a:rPr>
              <a:t>it her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矩形 56"/>
          <p:cNvSpPr/>
          <p:nvPr/>
        </p:nvSpPr>
        <p:spPr>
          <a:xfrm>
            <a:off x="420480" y="803160"/>
            <a:ext cx="779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Click 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add tit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矩形 57"/>
          <p:cNvSpPr/>
          <p:nvPr/>
        </p:nvSpPr>
        <p:spPr>
          <a:xfrm>
            <a:off x="420480" y="1851120"/>
            <a:ext cx="779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Click 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add tit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矩形 58"/>
          <p:cNvSpPr/>
          <p:nvPr/>
        </p:nvSpPr>
        <p:spPr>
          <a:xfrm>
            <a:off x="420480" y="2784600"/>
            <a:ext cx="779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Click 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add tit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矩形 59"/>
          <p:cNvSpPr/>
          <p:nvPr/>
        </p:nvSpPr>
        <p:spPr>
          <a:xfrm>
            <a:off x="420480" y="3765600"/>
            <a:ext cx="779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Click 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add tit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Freeform 144"/>
          <p:cNvSpPr/>
          <p:nvPr/>
        </p:nvSpPr>
        <p:spPr>
          <a:xfrm>
            <a:off x="1982880" y="1819440"/>
            <a:ext cx="342720" cy="604800"/>
          </a:xfrm>
          <a:custGeom>
            <a:avLst/>
            <a:gdLst>
              <a:gd name="textAreaLeft" fmla="*/ 0 w 342720"/>
              <a:gd name="textAreaRight" fmla="*/ 342720 w 342720"/>
              <a:gd name="textAreaTop" fmla="*/ 0 h 604800"/>
              <a:gd name="textAreaBottom" fmla="*/ 605160 h 604800"/>
            </a:gdLst>
            <a:ahLst/>
            <a:rect l="textAreaLeft" t="textAreaTop" r="textAreaRight" b="textAreaBottom"/>
            <a:pathLst>
              <a:path w="46" h="84">
                <a:moveTo>
                  <a:pt x="35" y="7"/>
                </a:moveTo>
                <a:cubicBezTo>
                  <a:pt x="35" y="11"/>
                  <a:pt x="33" y="14"/>
                  <a:pt x="29" y="14"/>
                </a:cubicBezTo>
                <a:cubicBezTo>
                  <a:pt x="25" y="14"/>
                  <a:pt x="22" y="11"/>
                  <a:pt x="22" y="7"/>
                </a:cubicBezTo>
                <a:cubicBezTo>
                  <a:pt x="22" y="3"/>
                  <a:pt x="25" y="0"/>
                  <a:pt x="29" y="0"/>
                </a:cubicBezTo>
                <a:cubicBezTo>
                  <a:pt x="33" y="0"/>
                  <a:pt x="35" y="3"/>
                  <a:pt x="35" y="7"/>
                </a:cubicBezTo>
                <a:moveTo>
                  <a:pt x="20" y="12"/>
                </a:moveTo>
                <a:cubicBezTo>
                  <a:pt x="2" y="22"/>
                  <a:pt x="2" y="22"/>
                  <a:pt x="2" y="22"/>
                </a:cubicBezTo>
                <a:cubicBezTo>
                  <a:pt x="0" y="41"/>
                  <a:pt x="0" y="41"/>
                  <a:pt x="0" y="41"/>
                </a:cubicBezTo>
                <a:cubicBezTo>
                  <a:pt x="6" y="41"/>
                  <a:pt x="6" y="41"/>
                  <a:pt x="6" y="41"/>
                </a:cubicBezTo>
                <a:cubicBezTo>
                  <a:pt x="7" y="26"/>
                  <a:pt x="7" y="26"/>
                  <a:pt x="7" y="26"/>
                </a:cubicBezTo>
                <a:cubicBezTo>
                  <a:pt x="15" y="22"/>
                  <a:pt x="15" y="22"/>
                  <a:pt x="15" y="22"/>
                </a:cubicBezTo>
                <a:cubicBezTo>
                  <a:pt x="15" y="22"/>
                  <a:pt x="11" y="34"/>
                  <a:pt x="10" y="37"/>
                </a:cubicBezTo>
                <a:cubicBezTo>
                  <a:pt x="9" y="39"/>
                  <a:pt x="11" y="43"/>
                  <a:pt x="12" y="45"/>
                </a:cubicBezTo>
                <a:cubicBezTo>
                  <a:pt x="0" y="82"/>
                  <a:pt x="0" y="82"/>
                  <a:pt x="0" y="82"/>
                </a:cubicBezTo>
                <a:cubicBezTo>
                  <a:pt x="8" y="84"/>
                  <a:pt x="8" y="84"/>
                  <a:pt x="8" y="84"/>
                </a:cubicBezTo>
                <a:cubicBezTo>
                  <a:pt x="18" y="57"/>
                  <a:pt x="18" y="57"/>
                  <a:pt x="18" y="57"/>
                </a:cubicBezTo>
                <a:cubicBezTo>
                  <a:pt x="21" y="62"/>
                  <a:pt x="21" y="62"/>
                  <a:pt x="21" y="62"/>
                </a:cubicBezTo>
                <a:cubicBezTo>
                  <a:pt x="27" y="84"/>
                  <a:pt x="27" y="84"/>
                  <a:pt x="27" y="84"/>
                </a:cubicBezTo>
                <a:cubicBezTo>
                  <a:pt x="36" y="81"/>
                  <a:pt x="36" y="81"/>
                  <a:pt x="36" y="81"/>
                </a:cubicBezTo>
                <a:cubicBezTo>
                  <a:pt x="29" y="56"/>
                  <a:pt x="29" y="56"/>
                  <a:pt x="29" y="56"/>
                </a:cubicBezTo>
                <a:cubicBezTo>
                  <a:pt x="22" y="45"/>
                  <a:pt x="22" y="45"/>
                  <a:pt x="22" y="45"/>
                </a:cubicBezTo>
                <a:cubicBezTo>
                  <a:pt x="27" y="29"/>
                  <a:pt x="27" y="29"/>
                  <a:pt x="27" y="29"/>
                </a:cubicBezTo>
                <a:cubicBezTo>
                  <a:pt x="29" y="35"/>
                  <a:pt x="29" y="35"/>
                  <a:pt x="29" y="35"/>
                </a:cubicBezTo>
                <a:cubicBezTo>
                  <a:pt x="44" y="41"/>
                  <a:pt x="44" y="41"/>
                  <a:pt x="44" y="41"/>
                </a:cubicBezTo>
                <a:cubicBezTo>
                  <a:pt x="46" y="35"/>
                  <a:pt x="46" y="35"/>
                  <a:pt x="46" y="35"/>
                </a:cubicBezTo>
                <a:cubicBezTo>
                  <a:pt x="35" y="30"/>
                  <a:pt x="35" y="30"/>
                  <a:pt x="35" y="30"/>
                </a:cubicBezTo>
                <a:cubicBezTo>
                  <a:pt x="31" y="17"/>
                  <a:pt x="31" y="17"/>
                  <a:pt x="31" y="17"/>
                </a:cubicBezTo>
                <a:lnTo>
                  <a:pt x="20" y="12"/>
                </a:lnTo>
                <a:close/>
              </a:path>
            </a:pathLst>
          </a:cu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3" name="Picture 34" descr="Efficiency.png"/>
          <p:cNvPicPr/>
          <p:nvPr/>
        </p:nvPicPr>
        <p:blipFill>
          <a:blip r:embed="rId2"/>
          <a:stretch/>
        </p:blipFill>
        <p:spPr>
          <a:xfrm>
            <a:off x="1782720" y="2614680"/>
            <a:ext cx="743040" cy="690480"/>
          </a:xfrm>
          <a:prstGeom prst="rect">
            <a:avLst/>
          </a:prstGeom>
          <a:ln w="0">
            <a:noFill/>
          </a:ln>
        </p:spPr>
      </p:pic>
      <p:pic>
        <p:nvPicPr>
          <p:cNvPr id="1534" name="Group 173" descr=""/>
          <p:cNvPicPr/>
          <p:nvPr/>
        </p:nvPicPr>
        <p:blipFill>
          <a:blip r:embed="rId3"/>
          <a:stretch/>
        </p:blipFill>
        <p:spPr>
          <a:xfrm>
            <a:off x="1914480" y="3456000"/>
            <a:ext cx="463680" cy="665280"/>
          </a:xfrm>
          <a:prstGeom prst="rect">
            <a:avLst/>
          </a:prstGeom>
          <a:ln w="0">
            <a:noFill/>
          </a:ln>
        </p:spPr>
      </p:pic>
      <p:sp>
        <p:nvSpPr>
          <p:cNvPr id="1535" name="Freeform 89"/>
          <p:cNvSpPr/>
          <p:nvPr/>
        </p:nvSpPr>
        <p:spPr>
          <a:xfrm>
            <a:off x="1811160" y="1063800"/>
            <a:ext cx="627120" cy="404640"/>
          </a:xfrm>
          <a:custGeom>
            <a:avLst/>
            <a:gdLst>
              <a:gd name="textAreaLeft" fmla="*/ 0 w 627120"/>
              <a:gd name="textAreaRight" fmla="*/ 627480 w 627120"/>
              <a:gd name="textAreaTop" fmla="*/ 0 h 404640"/>
              <a:gd name="textAreaBottom" fmla="*/ 405000 h 404640"/>
            </a:gdLst>
            <a:ahLst/>
            <a:rect l="textAreaLeft" t="textAreaTop" r="textAreaRight" b="textAreaBottom"/>
            <a:pathLst>
              <a:path w="3153" h="2031">
                <a:moveTo>
                  <a:pt x="448" y="830"/>
                </a:moveTo>
                <a:cubicBezTo>
                  <a:pt x="368" y="755"/>
                  <a:pt x="368" y="615"/>
                  <a:pt x="448" y="539"/>
                </a:cubicBezTo>
                <a:cubicBezTo>
                  <a:pt x="393" y="549"/>
                  <a:pt x="339" y="610"/>
                  <a:pt x="339" y="685"/>
                </a:cubicBezTo>
                <a:cubicBezTo>
                  <a:pt x="339" y="759"/>
                  <a:pt x="393" y="820"/>
                  <a:pt x="448" y="830"/>
                </a:cubicBezTo>
                <a:close/>
                <a:moveTo>
                  <a:pt x="2814" y="685"/>
                </a:moveTo>
                <a:cubicBezTo>
                  <a:pt x="2815" y="610"/>
                  <a:pt x="2761" y="549"/>
                  <a:pt x="2706" y="539"/>
                </a:cubicBezTo>
                <a:cubicBezTo>
                  <a:pt x="2786" y="615"/>
                  <a:pt x="2786" y="755"/>
                  <a:pt x="2706" y="830"/>
                </a:cubicBezTo>
                <a:cubicBezTo>
                  <a:pt x="2761" y="820"/>
                  <a:pt x="2815" y="759"/>
                  <a:pt x="2814" y="685"/>
                </a:cubicBezTo>
                <a:close/>
                <a:moveTo>
                  <a:pt x="2804" y="935"/>
                </a:moveTo>
                <a:cubicBezTo>
                  <a:pt x="2886" y="904"/>
                  <a:pt x="2970" y="808"/>
                  <a:pt x="2969" y="685"/>
                </a:cubicBezTo>
                <a:cubicBezTo>
                  <a:pt x="2970" y="561"/>
                  <a:pt x="2886" y="465"/>
                  <a:pt x="2804" y="434"/>
                </a:cubicBezTo>
                <a:cubicBezTo>
                  <a:pt x="2871" y="501"/>
                  <a:pt x="2915" y="591"/>
                  <a:pt x="2914" y="685"/>
                </a:cubicBezTo>
                <a:cubicBezTo>
                  <a:pt x="2915" y="778"/>
                  <a:pt x="2871" y="868"/>
                  <a:pt x="2804" y="935"/>
                </a:cubicBezTo>
                <a:close/>
                <a:moveTo>
                  <a:pt x="350" y="935"/>
                </a:moveTo>
                <a:cubicBezTo>
                  <a:pt x="282" y="868"/>
                  <a:pt x="239" y="778"/>
                  <a:pt x="239" y="685"/>
                </a:cubicBezTo>
                <a:cubicBezTo>
                  <a:pt x="239" y="591"/>
                  <a:pt x="282" y="501"/>
                  <a:pt x="350" y="434"/>
                </a:cubicBezTo>
                <a:cubicBezTo>
                  <a:pt x="267" y="465"/>
                  <a:pt x="183" y="561"/>
                  <a:pt x="184" y="685"/>
                </a:cubicBezTo>
                <a:cubicBezTo>
                  <a:pt x="183" y="808"/>
                  <a:pt x="267" y="904"/>
                  <a:pt x="350" y="935"/>
                </a:cubicBezTo>
                <a:close/>
                <a:moveTo>
                  <a:pt x="2877" y="1804"/>
                </a:moveTo>
                <a:cubicBezTo>
                  <a:pt x="2844" y="1765"/>
                  <a:pt x="2811" y="1726"/>
                  <a:pt x="2778" y="1687"/>
                </a:cubicBezTo>
                <a:cubicBezTo>
                  <a:pt x="2705" y="1601"/>
                  <a:pt x="2633" y="1516"/>
                  <a:pt x="2560" y="1430"/>
                </a:cubicBezTo>
                <a:cubicBezTo>
                  <a:pt x="2557" y="1426"/>
                  <a:pt x="2553" y="1421"/>
                  <a:pt x="2549" y="1417"/>
                </a:cubicBezTo>
                <a:cubicBezTo>
                  <a:pt x="2534" y="1399"/>
                  <a:pt x="2511" y="1389"/>
                  <a:pt x="2489" y="1381"/>
                </a:cubicBezTo>
                <a:cubicBezTo>
                  <a:pt x="2466" y="1373"/>
                  <a:pt x="2441" y="1368"/>
                  <a:pt x="2416" y="1367"/>
                </a:cubicBezTo>
                <a:cubicBezTo>
                  <a:pt x="2503" y="1344"/>
                  <a:pt x="2567" y="1266"/>
                  <a:pt x="2567" y="1172"/>
                </a:cubicBezTo>
                <a:cubicBezTo>
                  <a:pt x="2567" y="202"/>
                  <a:pt x="2567" y="202"/>
                  <a:pt x="2567" y="202"/>
                </a:cubicBezTo>
                <a:cubicBezTo>
                  <a:pt x="2567" y="90"/>
                  <a:pt x="2476" y="0"/>
                  <a:pt x="2365" y="0"/>
                </a:cubicBezTo>
                <a:cubicBezTo>
                  <a:pt x="788" y="0"/>
                  <a:pt x="788" y="0"/>
                  <a:pt x="788" y="0"/>
                </a:cubicBezTo>
                <a:cubicBezTo>
                  <a:pt x="677" y="0"/>
                  <a:pt x="586" y="90"/>
                  <a:pt x="586" y="202"/>
                </a:cubicBezTo>
                <a:cubicBezTo>
                  <a:pt x="586" y="1172"/>
                  <a:pt x="586" y="1172"/>
                  <a:pt x="586" y="1172"/>
                </a:cubicBezTo>
                <a:cubicBezTo>
                  <a:pt x="586" y="1266"/>
                  <a:pt x="651" y="1345"/>
                  <a:pt x="738" y="1368"/>
                </a:cubicBezTo>
                <a:cubicBezTo>
                  <a:pt x="689" y="1370"/>
                  <a:pt x="633" y="1388"/>
                  <a:pt x="600" y="1426"/>
                </a:cubicBezTo>
                <a:cubicBezTo>
                  <a:pt x="575" y="1457"/>
                  <a:pt x="549" y="1487"/>
                  <a:pt x="524" y="1518"/>
                </a:cubicBezTo>
                <a:cubicBezTo>
                  <a:pt x="446" y="1610"/>
                  <a:pt x="368" y="1703"/>
                  <a:pt x="290" y="1796"/>
                </a:cubicBezTo>
                <a:cubicBezTo>
                  <a:pt x="271" y="1819"/>
                  <a:pt x="235" y="1852"/>
                  <a:pt x="235" y="1884"/>
                </a:cubicBezTo>
                <a:cubicBezTo>
                  <a:pt x="235" y="1971"/>
                  <a:pt x="235" y="1971"/>
                  <a:pt x="235" y="1971"/>
                </a:cubicBezTo>
                <a:cubicBezTo>
                  <a:pt x="236" y="1982"/>
                  <a:pt x="238" y="1993"/>
                  <a:pt x="244" y="2002"/>
                </a:cubicBezTo>
                <a:cubicBezTo>
                  <a:pt x="264" y="2030"/>
                  <a:pt x="304" y="2031"/>
                  <a:pt x="336" y="2031"/>
                </a:cubicBezTo>
                <a:cubicBezTo>
                  <a:pt x="380" y="2031"/>
                  <a:pt x="2688" y="2031"/>
                  <a:pt x="2758" y="2031"/>
                </a:cubicBezTo>
                <a:cubicBezTo>
                  <a:pt x="2792" y="2031"/>
                  <a:pt x="2831" y="2027"/>
                  <a:pt x="2865" y="2020"/>
                </a:cubicBezTo>
                <a:cubicBezTo>
                  <a:pt x="2888" y="2016"/>
                  <a:pt x="2915" y="2003"/>
                  <a:pt x="2918" y="1976"/>
                </a:cubicBezTo>
                <a:cubicBezTo>
                  <a:pt x="2918" y="1882"/>
                  <a:pt x="2918" y="1882"/>
                  <a:pt x="2918" y="1882"/>
                </a:cubicBezTo>
                <a:cubicBezTo>
                  <a:pt x="2921" y="1861"/>
                  <a:pt x="2909" y="1841"/>
                  <a:pt x="2896" y="1826"/>
                </a:cubicBezTo>
                <a:cubicBezTo>
                  <a:pt x="2889" y="1818"/>
                  <a:pt x="2883" y="1811"/>
                  <a:pt x="2877" y="1804"/>
                </a:cubicBezTo>
                <a:close/>
                <a:moveTo>
                  <a:pt x="705" y="1159"/>
                </a:moveTo>
                <a:cubicBezTo>
                  <a:pt x="705" y="215"/>
                  <a:pt x="705" y="215"/>
                  <a:pt x="705" y="215"/>
                </a:cubicBezTo>
                <a:cubicBezTo>
                  <a:pt x="705" y="157"/>
                  <a:pt x="752" y="111"/>
                  <a:pt x="809" y="111"/>
                </a:cubicBezTo>
                <a:cubicBezTo>
                  <a:pt x="2344" y="111"/>
                  <a:pt x="2344" y="111"/>
                  <a:pt x="2344" y="111"/>
                </a:cubicBezTo>
                <a:cubicBezTo>
                  <a:pt x="2401" y="111"/>
                  <a:pt x="2448" y="157"/>
                  <a:pt x="2448" y="215"/>
                </a:cubicBezTo>
                <a:cubicBezTo>
                  <a:pt x="2448" y="1159"/>
                  <a:pt x="2448" y="1159"/>
                  <a:pt x="2448" y="1159"/>
                </a:cubicBezTo>
                <a:cubicBezTo>
                  <a:pt x="2448" y="1216"/>
                  <a:pt x="2401" y="1263"/>
                  <a:pt x="2344" y="1263"/>
                </a:cubicBezTo>
                <a:cubicBezTo>
                  <a:pt x="809" y="1263"/>
                  <a:pt x="809" y="1263"/>
                  <a:pt x="809" y="1263"/>
                </a:cubicBezTo>
                <a:cubicBezTo>
                  <a:pt x="752" y="1263"/>
                  <a:pt x="705" y="1216"/>
                  <a:pt x="705" y="1159"/>
                </a:cubicBezTo>
                <a:close/>
                <a:moveTo>
                  <a:pt x="2407" y="1487"/>
                </a:moveTo>
                <a:cubicBezTo>
                  <a:pt x="2407" y="1489"/>
                  <a:pt x="2406" y="1491"/>
                  <a:pt x="2404" y="1493"/>
                </a:cubicBezTo>
                <a:cubicBezTo>
                  <a:pt x="2404" y="1493"/>
                  <a:pt x="2403" y="1493"/>
                  <a:pt x="2403" y="1493"/>
                </a:cubicBezTo>
                <a:cubicBezTo>
                  <a:pt x="2403" y="1493"/>
                  <a:pt x="2403" y="1493"/>
                  <a:pt x="2403" y="1493"/>
                </a:cubicBezTo>
                <a:cubicBezTo>
                  <a:pt x="2403" y="1494"/>
                  <a:pt x="2403" y="1494"/>
                  <a:pt x="2402" y="1494"/>
                </a:cubicBezTo>
                <a:cubicBezTo>
                  <a:pt x="2402" y="1494"/>
                  <a:pt x="2402" y="1494"/>
                  <a:pt x="2401" y="1495"/>
                </a:cubicBezTo>
                <a:cubicBezTo>
                  <a:pt x="2401" y="1495"/>
                  <a:pt x="2400" y="1495"/>
                  <a:pt x="2400" y="1496"/>
                </a:cubicBezTo>
                <a:cubicBezTo>
                  <a:pt x="2399" y="1496"/>
                  <a:pt x="2399" y="1496"/>
                  <a:pt x="2398" y="1496"/>
                </a:cubicBezTo>
                <a:cubicBezTo>
                  <a:pt x="2388" y="1501"/>
                  <a:pt x="2374" y="1500"/>
                  <a:pt x="2362" y="1500"/>
                </a:cubicBezTo>
                <a:cubicBezTo>
                  <a:pt x="2304" y="1500"/>
                  <a:pt x="2304" y="1500"/>
                  <a:pt x="2304" y="1500"/>
                </a:cubicBezTo>
                <a:cubicBezTo>
                  <a:pt x="2293" y="1500"/>
                  <a:pt x="2281" y="1498"/>
                  <a:pt x="2271" y="1493"/>
                </a:cubicBezTo>
                <a:cubicBezTo>
                  <a:pt x="2267" y="1491"/>
                  <a:pt x="2263" y="1489"/>
                  <a:pt x="2260" y="1487"/>
                </a:cubicBezTo>
                <a:cubicBezTo>
                  <a:pt x="2257" y="1484"/>
                  <a:pt x="2254" y="1482"/>
                  <a:pt x="2252" y="1479"/>
                </a:cubicBezTo>
                <a:cubicBezTo>
                  <a:pt x="2250" y="1474"/>
                  <a:pt x="2250" y="1474"/>
                  <a:pt x="2250" y="1474"/>
                </a:cubicBezTo>
                <a:cubicBezTo>
                  <a:pt x="2244" y="1463"/>
                  <a:pt x="2236" y="1453"/>
                  <a:pt x="2231" y="1441"/>
                </a:cubicBezTo>
                <a:cubicBezTo>
                  <a:pt x="2227" y="1433"/>
                  <a:pt x="2231" y="1429"/>
                  <a:pt x="2238" y="1426"/>
                </a:cubicBezTo>
                <a:cubicBezTo>
                  <a:pt x="2240" y="1425"/>
                  <a:pt x="2242" y="1424"/>
                  <a:pt x="2244" y="1424"/>
                </a:cubicBezTo>
                <a:cubicBezTo>
                  <a:pt x="2248" y="1423"/>
                  <a:pt x="2253" y="1422"/>
                  <a:pt x="2258" y="1422"/>
                </a:cubicBezTo>
                <a:cubicBezTo>
                  <a:pt x="2266" y="1422"/>
                  <a:pt x="2266" y="1422"/>
                  <a:pt x="2266" y="1422"/>
                </a:cubicBezTo>
                <a:cubicBezTo>
                  <a:pt x="2266" y="1422"/>
                  <a:pt x="2266" y="1422"/>
                  <a:pt x="2266" y="1422"/>
                </a:cubicBezTo>
                <a:cubicBezTo>
                  <a:pt x="2282" y="1422"/>
                  <a:pt x="2297" y="1422"/>
                  <a:pt x="2312" y="1422"/>
                </a:cubicBezTo>
                <a:cubicBezTo>
                  <a:pt x="2313" y="1422"/>
                  <a:pt x="2313" y="1422"/>
                  <a:pt x="2313" y="1422"/>
                </a:cubicBezTo>
                <a:cubicBezTo>
                  <a:pt x="2328" y="1422"/>
                  <a:pt x="2328" y="1422"/>
                  <a:pt x="2328" y="1422"/>
                </a:cubicBezTo>
                <a:cubicBezTo>
                  <a:pt x="2333" y="1422"/>
                  <a:pt x="2339" y="1422"/>
                  <a:pt x="2344" y="1423"/>
                </a:cubicBezTo>
                <a:cubicBezTo>
                  <a:pt x="2347" y="1424"/>
                  <a:pt x="2351" y="1425"/>
                  <a:pt x="2354" y="1426"/>
                </a:cubicBezTo>
                <a:cubicBezTo>
                  <a:pt x="2355" y="1426"/>
                  <a:pt x="2355" y="1426"/>
                  <a:pt x="2356" y="1426"/>
                </a:cubicBezTo>
                <a:cubicBezTo>
                  <a:pt x="2356" y="1427"/>
                  <a:pt x="2356" y="1427"/>
                  <a:pt x="2357" y="1427"/>
                </a:cubicBezTo>
                <a:cubicBezTo>
                  <a:pt x="2357" y="1427"/>
                  <a:pt x="2358" y="1427"/>
                  <a:pt x="2358" y="1427"/>
                </a:cubicBezTo>
                <a:cubicBezTo>
                  <a:pt x="2363" y="1429"/>
                  <a:pt x="2367" y="1431"/>
                  <a:pt x="2371" y="1433"/>
                </a:cubicBezTo>
                <a:cubicBezTo>
                  <a:pt x="2374" y="1436"/>
                  <a:pt x="2377" y="1438"/>
                  <a:pt x="2379" y="1441"/>
                </a:cubicBezTo>
                <a:cubicBezTo>
                  <a:pt x="2391" y="1458"/>
                  <a:pt x="2391" y="1458"/>
                  <a:pt x="2391" y="1458"/>
                </a:cubicBezTo>
                <a:cubicBezTo>
                  <a:pt x="2394" y="1463"/>
                  <a:pt x="2401" y="1471"/>
                  <a:pt x="2404" y="1478"/>
                </a:cubicBezTo>
                <a:cubicBezTo>
                  <a:pt x="2404" y="1478"/>
                  <a:pt x="2404" y="1478"/>
                  <a:pt x="2404" y="1478"/>
                </a:cubicBezTo>
                <a:cubicBezTo>
                  <a:pt x="2406" y="1481"/>
                  <a:pt x="2407" y="1484"/>
                  <a:pt x="2407" y="1487"/>
                </a:cubicBezTo>
                <a:close/>
                <a:moveTo>
                  <a:pt x="1589" y="1480"/>
                </a:moveTo>
                <a:cubicBezTo>
                  <a:pt x="1589" y="1483"/>
                  <a:pt x="1588" y="1485"/>
                  <a:pt x="1587" y="1487"/>
                </a:cubicBezTo>
                <a:cubicBezTo>
                  <a:pt x="1576" y="1507"/>
                  <a:pt x="1525" y="1502"/>
                  <a:pt x="1507" y="1502"/>
                </a:cubicBezTo>
                <a:cubicBezTo>
                  <a:pt x="1496" y="1502"/>
                  <a:pt x="1485" y="1502"/>
                  <a:pt x="1474" y="1502"/>
                </a:cubicBezTo>
                <a:cubicBezTo>
                  <a:pt x="1464" y="1502"/>
                  <a:pt x="1451" y="1500"/>
                  <a:pt x="1442" y="1493"/>
                </a:cubicBezTo>
                <a:cubicBezTo>
                  <a:pt x="1442" y="1493"/>
                  <a:pt x="1441" y="1492"/>
                  <a:pt x="1441" y="1492"/>
                </a:cubicBezTo>
                <a:cubicBezTo>
                  <a:pt x="1441" y="1492"/>
                  <a:pt x="1440" y="1491"/>
                  <a:pt x="1440" y="1491"/>
                </a:cubicBezTo>
                <a:cubicBezTo>
                  <a:pt x="1439" y="1490"/>
                  <a:pt x="1439" y="1490"/>
                  <a:pt x="1439" y="1489"/>
                </a:cubicBezTo>
                <a:cubicBezTo>
                  <a:pt x="1439" y="1489"/>
                  <a:pt x="1439" y="1489"/>
                  <a:pt x="1438" y="1489"/>
                </a:cubicBezTo>
                <a:cubicBezTo>
                  <a:pt x="1438" y="1489"/>
                  <a:pt x="1438" y="1489"/>
                  <a:pt x="1438" y="1489"/>
                </a:cubicBezTo>
                <a:cubicBezTo>
                  <a:pt x="1438" y="1488"/>
                  <a:pt x="1437" y="1487"/>
                  <a:pt x="1437" y="1486"/>
                </a:cubicBezTo>
                <a:cubicBezTo>
                  <a:pt x="1436" y="1484"/>
                  <a:pt x="1436" y="1483"/>
                  <a:pt x="1436" y="1481"/>
                </a:cubicBezTo>
                <a:cubicBezTo>
                  <a:pt x="1436" y="1479"/>
                  <a:pt x="1436" y="1479"/>
                  <a:pt x="1436" y="1479"/>
                </a:cubicBezTo>
                <a:cubicBezTo>
                  <a:pt x="1437" y="1477"/>
                  <a:pt x="1437" y="1474"/>
                  <a:pt x="1437" y="1472"/>
                </a:cubicBezTo>
                <a:cubicBezTo>
                  <a:pt x="1437" y="1471"/>
                  <a:pt x="1437" y="1471"/>
                  <a:pt x="1437" y="1471"/>
                </a:cubicBezTo>
                <a:cubicBezTo>
                  <a:pt x="1438" y="1463"/>
                  <a:pt x="1438" y="1454"/>
                  <a:pt x="1440" y="1446"/>
                </a:cubicBezTo>
                <a:cubicBezTo>
                  <a:pt x="1440" y="1443"/>
                  <a:pt x="1440" y="1443"/>
                  <a:pt x="1440" y="1443"/>
                </a:cubicBezTo>
                <a:cubicBezTo>
                  <a:pt x="1441" y="1441"/>
                  <a:pt x="1442" y="1438"/>
                  <a:pt x="1444" y="1436"/>
                </a:cubicBezTo>
                <a:cubicBezTo>
                  <a:pt x="1446" y="1434"/>
                  <a:pt x="1448" y="1433"/>
                  <a:pt x="1450" y="1431"/>
                </a:cubicBezTo>
                <a:cubicBezTo>
                  <a:pt x="1450" y="1431"/>
                  <a:pt x="1450" y="1431"/>
                  <a:pt x="1450" y="1431"/>
                </a:cubicBezTo>
                <a:cubicBezTo>
                  <a:pt x="1451" y="1431"/>
                  <a:pt x="1451" y="1430"/>
                  <a:pt x="1452" y="1430"/>
                </a:cubicBezTo>
                <a:cubicBezTo>
                  <a:pt x="1452" y="1430"/>
                  <a:pt x="1453" y="1430"/>
                  <a:pt x="1453" y="1429"/>
                </a:cubicBezTo>
                <a:cubicBezTo>
                  <a:pt x="1453" y="1429"/>
                  <a:pt x="1454" y="1429"/>
                  <a:pt x="1454" y="1429"/>
                </a:cubicBezTo>
                <a:cubicBezTo>
                  <a:pt x="1455" y="1428"/>
                  <a:pt x="1457" y="1428"/>
                  <a:pt x="1458" y="1427"/>
                </a:cubicBezTo>
                <a:cubicBezTo>
                  <a:pt x="1459" y="1427"/>
                  <a:pt x="1459" y="1427"/>
                  <a:pt x="1460" y="1427"/>
                </a:cubicBezTo>
                <a:cubicBezTo>
                  <a:pt x="1461" y="1426"/>
                  <a:pt x="1463" y="1426"/>
                  <a:pt x="1464" y="1426"/>
                </a:cubicBezTo>
                <a:cubicBezTo>
                  <a:pt x="1465" y="1426"/>
                  <a:pt x="1465" y="1425"/>
                  <a:pt x="1466" y="1425"/>
                </a:cubicBezTo>
                <a:cubicBezTo>
                  <a:pt x="1466" y="1425"/>
                  <a:pt x="1466" y="1425"/>
                  <a:pt x="1466" y="1425"/>
                </a:cubicBezTo>
                <a:cubicBezTo>
                  <a:pt x="1467" y="1425"/>
                  <a:pt x="1468" y="1425"/>
                  <a:pt x="1468" y="1425"/>
                </a:cubicBezTo>
                <a:cubicBezTo>
                  <a:pt x="1472" y="1424"/>
                  <a:pt x="1476" y="1424"/>
                  <a:pt x="1480" y="1424"/>
                </a:cubicBezTo>
                <a:cubicBezTo>
                  <a:pt x="1483" y="1424"/>
                  <a:pt x="1483" y="1424"/>
                  <a:pt x="1483" y="1424"/>
                </a:cubicBezTo>
                <a:cubicBezTo>
                  <a:pt x="1487" y="1424"/>
                  <a:pt x="1492" y="1424"/>
                  <a:pt x="1496" y="1424"/>
                </a:cubicBezTo>
                <a:cubicBezTo>
                  <a:pt x="1550" y="1424"/>
                  <a:pt x="1550" y="1424"/>
                  <a:pt x="1550" y="1424"/>
                </a:cubicBezTo>
                <a:cubicBezTo>
                  <a:pt x="1551" y="1424"/>
                  <a:pt x="1552" y="1424"/>
                  <a:pt x="1554" y="1424"/>
                </a:cubicBezTo>
                <a:cubicBezTo>
                  <a:pt x="1554" y="1424"/>
                  <a:pt x="1555" y="1424"/>
                  <a:pt x="1555" y="1424"/>
                </a:cubicBezTo>
                <a:cubicBezTo>
                  <a:pt x="1556" y="1424"/>
                  <a:pt x="1558" y="1424"/>
                  <a:pt x="1559" y="1424"/>
                </a:cubicBezTo>
                <a:cubicBezTo>
                  <a:pt x="1570" y="1425"/>
                  <a:pt x="1582" y="1428"/>
                  <a:pt x="1586" y="1438"/>
                </a:cubicBezTo>
                <a:cubicBezTo>
                  <a:pt x="1587" y="1438"/>
                  <a:pt x="1587" y="1439"/>
                  <a:pt x="1587" y="1440"/>
                </a:cubicBezTo>
                <a:cubicBezTo>
                  <a:pt x="1588" y="1440"/>
                  <a:pt x="1588" y="1440"/>
                  <a:pt x="1588" y="1440"/>
                </a:cubicBezTo>
                <a:cubicBezTo>
                  <a:pt x="1591" y="1452"/>
                  <a:pt x="1588" y="1466"/>
                  <a:pt x="1589" y="1478"/>
                </a:cubicBezTo>
                <a:lnTo>
                  <a:pt x="1589" y="1480"/>
                </a:lnTo>
                <a:close/>
                <a:moveTo>
                  <a:pt x="1511" y="1543"/>
                </a:moveTo>
                <a:cubicBezTo>
                  <a:pt x="1531" y="1543"/>
                  <a:pt x="1577" y="1537"/>
                  <a:pt x="1588" y="1559"/>
                </a:cubicBezTo>
                <a:cubicBezTo>
                  <a:pt x="1589" y="1561"/>
                  <a:pt x="1590" y="1563"/>
                  <a:pt x="1590" y="1566"/>
                </a:cubicBezTo>
                <a:cubicBezTo>
                  <a:pt x="1590" y="1589"/>
                  <a:pt x="1590" y="1589"/>
                  <a:pt x="1590" y="1589"/>
                </a:cubicBezTo>
                <a:cubicBezTo>
                  <a:pt x="1590" y="1595"/>
                  <a:pt x="1590" y="1602"/>
                  <a:pt x="1590" y="1609"/>
                </a:cubicBezTo>
                <a:cubicBezTo>
                  <a:pt x="1590" y="1609"/>
                  <a:pt x="1590" y="1609"/>
                  <a:pt x="1590" y="1609"/>
                </a:cubicBezTo>
                <a:cubicBezTo>
                  <a:pt x="1590" y="1612"/>
                  <a:pt x="1590" y="1612"/>
                  <a:pt x="1590" y="1612"/>
                </a:cubicBezTo>
                <a:cubicBezTo>
                  <a:pt x="1590" y="1615"/>
                  <a:pt x="1589" y="1619"/>
                  <a:pt x="1587" y="1622"/>
                </a:cubicBezTo>
                <a:cubicBezTo>
                  <a:pt x="1587" y="1622"/>
                  <a:pt x="1586" y="1623"/>
                  <a:pt x="1586" y="1623"/>
                </a:cubicBezTo>
                <a:cubicBezTo>
                  <a:pt x="1585" y="1624"/>
                  <a:pt x="1584" y="1625"/>
                  <a:pt x="1583" y="1626"/>
                </a:cubicBezTo>
                <a:cubicBezTo>
                  <a:pt x="1583" y="1626"/>
                  <a:pt x="1583" y="1626"/>
                  <a:pt x="1583" y="1626"/>
                </a:cubicBezTo>
                <a:cubicBezTo>
                  <a:pt x="1578" y="1631"/>
                  <a:pt x="1571" y="1634"/>
                  <a:pt x="1563" y="1636"/>
                </a:cubicBezTo>
                <a:cubicBezTo>
                  <a:pt x="1563" y="1636"/>
                  <a:pt x="1563" y="1636"/>
                  <a:pt x="1563" y="1636"/>
                </a:cubicBezTo>
                <a:cubicBezTo>
                  <a:pt x="1563" y="1636"/>
                  <a:pt x="1563" y="1636"/>
                  <a:pt x="1563" y="1636"/>
                </a:cubicBezTo>
                <a:cubicBezTo>
                  <a:pt x="1560" y="1637"/>
                  <a:pt x="1558" y="1637"/>
                  <a:pt x="1556" y="1637"/>
                </a:cubicBezTo>
                <a:cubicBezTo>
                  <a:pt x="1555" y="1637"/>
                  <a:pt x="1554" y="1637"/>
                  <a:pt x="1554" y="1638"/>
                </a:cubicBezTo>
                <a:cubicBezTo>
                  <a:pt x="1551" y="1638"/>
                  <a:pt x="1548" y="1638"/>
                  <a:pt x="1546" y="1638"/>
                </a:cubicBezTo>
                <a:cubicBezTo>
                  <a:pt x="1546" y="1638"/>
                  <a:pt x="1546" y="1638"/>
                  <a:pt x="1546" y="1638"/>
                </a:cubicBezTo>
                <a:cubicBezTo>
                  <a:pt x="1463" y="1638"/>
                  <a:pt x="1463" y="1638"/>
                  <a:pt x="1463" y="1638"/>
                </a:cubicBezTo>
                <a:cubicBezTo>
                  <a:pt x="1453" y="1638"/>
                  <a:pt x="1441" y="1636"/>
                  <a:pt x="1432" y="1631"/>
                </a:cubicBezTo>
                <a:cubicBezTo>
                  <a:pt x="1432" y="1631"/>
                  <a:pt x="1432" y="1631"/>
                  <a:pt x="1432" y="1631"/>
                </a:cubicBezTo>
                <a:cubicBezTo>
                  <a:pt x="1432" y="1631"/>
                  <a:pt x="1432" y="1630"/>
                  <a:pt x="1432" y="1630"/>
                </a:cubicBezTo>
                <a:cubicBezTo>
                  <a:pt x="1431" y="1629"/>
                  <a:pt x="1429" y="1628"/>
                  <a:pt x="1427" y="1627"/>
                </a:cubicBezTo>
                <a:cubicBezTo>
                  <a:pt x="1426" y="1626"/>
                  <a:pt x="1425" y="1624"/>
                  <a:pt x="1424" y="1623"/>
                </a:cubicBezTo>
                <a:cubicBezTo>
                  <a:pt x="1424" y="1623"/>
                  <a:pt x="1424" y="1623"/>
                  <a:pt x="1424" y="1622"/>
                </a:cubicBezTo>
                <a:cubicBezTo>
                  <a:pt x="1422" y="1619"/>
                  <a:pt x="1421" y="1616"/>
                  <a:pt x="1421" y="1612"/>
                </a:cubicBezTo>
                <a:cubicBezTo>
                  <a:pt x="1422" y="1606"/>
                  <a:pt x="1422" y="1606"/>
                  <a:pt x="1422" y="1606"/>
                </a:cubicBezTo>
                <a:cubicBezTo>
                  <a:pt x="1422" y="1606"/>
                  <a:pt x="1422" y="1606"/>
                  <a:pt x="1422" y="1606"/>
                </a:cubicBezTo>
                <a:cubicBezTo>
                  <a:pt x="1424" y="1593"/>
                  <a:pt x="1425" y="1580"/>
                  <a:pt x="1427" y="1567"/>
                </a:cubicBezTo>
                <a:cubicBezTo>
                  <a:pt x="1427" y="1566"/>
                  <a:pt x="1427" y="1566"/>
                  <a:pt x="1427" y="1566"/>
                </a:cubicBezTo>
                <a:cubicBezTo>
                  <a:pt x="1427" y="1566"/>
                  <a:pt x="1427" y="1566"/>
                  <a:pt x="1427" y="1565"/>
                </a:cubicBezTo>
                <a:cubicBezTo>
                  <a:pt x="1432" y="1536"/>
                  <a:pt x="1490" y="1543"/>
                  <a:pt x="1511" y="1543"/>
                </a:cubicBezTo>
                <a:close/>
                <a:moveTo>
                  <a:pt x="1175" y="1631"/>
                </a:moveTo>
                <a:cubicBezTo>
                  <a:pt x="1173" y="1630"/>
                  <a:pt x="1172" y="1629"/>
                  <a:pt x="1170" y="1627"/>
                </a:cubicBezTo>
                <a:cubicBezTo>
                  <a:pt x="1169" y="1626"/>
                  <a:pt x="1169" y="1625"/>
                  <a:pt x="1168" y="1624"/>
                </a:cubicBezTo>
                <a:cubicBezTo>
                  <a:pt x="1168" y="1623"/>
                  <a:pt x="1168" y="1623"/>
                  <a:pt x="1168" y="1623"/>
                </a:cubicBezTo>
                <a:cubicBezTo>
                  <a:pt x="1166" y="1620"/>
                  <a:pt x="1166" y="1616"/>
                  <a:pt x="1167" y="1613"/>
                </a:cubicBezTo>
                <a:cubicBezTo>
                  <a:pt x="1169" y="1607"/>
                  <a:pt x="1169" y="1607"/>
                  <a:pt x="1169" y="1607"/>
                </a:cubicBezTo>
                <a:cubicBezTo>
                  <a:pt x="1169" y="1607"/>
                  <a:pt x="1169" y="1607"/>
                  <a:pt x="1169" y="1607"/>
                </a:cubicBezTo>
                <a:cubicBezTo>
                  <a:pt x="1169" y="1606"/>
                  <a:pt x="1169" y="1605"/>
                  <a:pt x="1170" y="1604"/>
                </a:cubicBezTo>
                <a:cubicBezTo>
                  <a:pt x="1181" y="1567"/>
                  <a:pt x="1181" y="1567"/>
                  <a:pt x="1181" y="1567"/>
                </a:cubicBezTo>
                <a:cubicBezTo>
                  <a:pt x="1181" y="1566"/>
                  <a:pt x="1181" y="1566"/>
                  <a:pt x="1182" y="1565"/>
                </a:cubicBezTo>
                <a:cubicBezTo>
                  <a:pt x="1193" y="1537"/>
                  <a:pt x="1244" y="1543"/>
                  <a:pt x="1268" y="1543"/>
                </a:cubicBezTo>
                <a:cubicBezTo>
                  <a:pt x="1278" y="1543"/>
                  <a:pt x="1297" y="1542"/>
                  <a:pt x="1314" y="1543"/>
                </a:cubicBezTo>
                <a:cubicBezTo>
                  <a:pt x="1317" y="1544"/>
                  <a:pt x="1320" y="1544"/>
                  <a:pt x="1323" y="1545"/>
                </a:cubicBezTo>
                <a:cubicBezTo>
                  <a:pt x="1323" y="1545"/>
                  <a:pt x="1323" y="1545"/>
                  <a:pt x="1324" y="1545"/>
                </a:cubicBezTo>
                <a:cubicBezTo>
                  <a:pt x="1332" y="1547"/>
                  <a:pt x="1339" y="1551"/>
                  <a:pt x="1342" y="1556"/>
                </a:cubicBezTo>
                <a:cubicBezTo>
                  <a:pt x="1342" y="1557"/>
                  <a:pt x="1342" y="1557"/>
                  <a:pt x="1343" y="1557"/>
                </a:cubicBezTo>
                <a:cubicBezTo>
                  <a:pt x="1343" y="1558"/>
                  <a:pt x="1343" y="1558"/>
                  <a:pt x="1343" y="1558"/>
                </a:cubicBezTo>
                <a:cubicBezTo>
                  <a:pt x="1343" y="1558"/>
                  <a:pt x="1343" y="1559"/>
                  <a:pt x="1343" y="1559"/>
                </a:cubicBezTo>
                <a:cubicBezTo>
                  <a:pt x="1344" y="1561"/>
                  <a:pt x="1345" y="1564"/>
                  <a:pt x="1344" y="1567"/>
                </a:cubicBezTo>
                <a:cubicBezTo>
                  <a:pt x="1344" y="1569"/>
                  <a:pt x="1344" y="1569"/>
                  <a:pt x="1344" y="1569"/>
                </a:cubicBezTo>
                <a:cubicBezTo>
                  <a:pt x="1344" y="1569"/>
                  <a:pt x="1344" y="1569"/>
                  <a:pt x="1344" y="1569"/>
                </a:cubicBezTo>
                <a:cubicBezTo>
                  <a:pt x="1343" y="1576"/>
                  <a:pt x="1341" y="1583"/>
                  <a:pt x="1340" y="1589"/>
                </a:cubicBezTo>
                <a:cubicBezTo>
                  <a:pt x="1336" y="1612"/>
                  <a:pt x="1336" y="1612"/>
                  <a:pt x="1336" y="1612"/>
                </a:cubicBezTo>
                <a:cubicBezTo>
                  <a:pt x="1336" y="1616"/>
                  <a:pt x="1334" y="1619"/>
                  <a:pt x="1331" y="1622"/>
                </a:cubicBezTo>
                <a:cubicBezTo>
                  <a:pt x="1331" y="1623"/>
                  <a:pt x="1330" y="1623"/>
                  <a:pt x="1330" y="1623"/>
                </a:cubicBezTo>
                <a:cubicBezTo>
                  <a:pt x="1330" y="1624"/>
                  <a:pt x="1329" y="1624"/>
                  <a:pt x="1329" y="1624"/>
                </a:cubicBezTo>
                <a:cubicBezTo>
                  <a:pt x="1328" y="1625"/>
                  <a:pt x="1327" y="1626"/>
                  <a:pt x="1326" y="1627"/>
                </a:cubicBezTo>
                <a:cubicBezTo>
                  <a:pt x="1320" y="1632"/>
                  <a:pt x="1312" y="1635"/>
                  <a:pt x="1305" y="1636"/>
                </a:cubicBezTo>
                <a:cubicBezTo>
                  <a:pt x="1305" y="1637"/>
                  <a:pt x="1305" y="1637"/>
                  <a:pt x="1305" y="1637"/>
                </a:cubicBezTo>
                <a:cubicBezTo>
                  <a:pt x="1304" y="1637"/>
                  <a:pt x="1304" y="1637"/>
                  <a:pt x="1304" y="1637"/>
                </a:cubicBezTo>
                <a:cubicBezTo>
                  <a:pt x="1302" y="1637"/>
                  <a:pt x="1300" y="1638"/>
                  <a:pt x="1297" y="1638"/>
                </a:cubicBezTo>
                <a:cubicBezTo>
                  <a:pt x="1297" y="1638"/>
                  <a:pt x="1296" y="1638"/>
                  <a:pt x="1295" y="1638"/>
                </a:cubicBezTo>
                <a:cubicBezTo>
                  <a:pt x="1292" y="1638"/>
                  <a:pt x="1290" y="1639"/>
                  <a:pt x="1287" y="1639"/>
                </a:cubicBezTo>
                <a:cubicBezTo>
                  <a:pt x="1287" y="1639"/>
                  <a:pt x="1287" y="1639"/>
                  <a:pt x="1287" y="1639"/>
                </a:cubicBezTo>
                <a:cubicBezTo>
                  <a:pt x="1204" y="1639"/>
                  <a:pt x="1204" y="1639"/>
                  <a:pt x="1204" y="1639"/>
                </a:cubicBezTo>
                <a:cubicBezTo>
                  <a:pt x="1194" y="1639"/>
                  <a:pt x="1183" y="1637"/>
                  <a:pt x="1175" y="1631"/>
                </a:cubicBezTo>
                <a:cubicBezTo>
                  <a:pt x="1175" y="1631"/>
                  <a:pt x="1175" y="1631"/>
                  <a:pt x="1175" y="1631"/>
                </a:cubicBezTo>
                <a:close/>
                <a:moveTo>
                  <a:pt x="1278" y="1502"/>
                </a:moveTo>
                <a:cubicBezTo>
                  <a:pt x="1266" y="1502"/>
                  <a:pt x="1253" y="1502"/>
                  <a:pt x="1241" y="1502"/>
                </a:cubicBezTo>
                <a:cubicBezTo>
                  <a:pt x="1230" y="1502"/>
                  <a:pt x="1213" y="1500"/>
                  <a:pt x="1207" y="1489"/>
                </a:cubicBezTo>
                <a:cubicBezTo>
                  <a:pt x="1207" y="1488"/>
                  <a:pt x="1207" y="1487"/>
                  <a:pt x="1207" y="1486"/>
                </a:cubicBezTo>
                <a:cubicBezTo>
                  <a:pt x="1206" y="1486"/>
                  <a:pt x="1206" y="1485"/>
                  <a:pt x="1206" y="1484"/>
                </a:cubicBezTo>
                <a:cubicBezTo>
                  <a:pt x="1206" y="1483"/>
                  <a:pt x="1207" y="1482"/>
                  <a:pt x="1207" y="1481"/>
                </a:cubicBezTo>
                <a:cubicBezTo>
                  <a:pt x="1207" y="1481"/>
                  <a:pt x="1207" y="1481"/>
                  <a:pt x="1207" y="1481"/>
                </a:cubicBezTo>
                <a:cubicBezTo>
                  <a:pt x="1207" y="1481"/>
                  <a:pt x="1207" y="1481"/>
                  <a:pt x="1207" y="1481"/>
                </a:cubicBezTo>
                <a:cubicBezTo>
                  <a:pt x="1207" y="1478"/>
                  <a:pt x="1209" y="1474"/>
                  <a:pt x="1210" y="1472"/>
                </a:cubicBezTo>
                <a:cubicBezTo>
                  <a:pt x="1212" y="1463"/>
                  <a:pt x="1214" y="1453"/>
                  <a:pt x="1218" y="1445"/>
                </a:cubicBezTo>
                <a:cubicBezTo>
                  <a:pt x="1218" y="1444"/>
                  <a:pt x="1218" y="1444"/>
                  <a:pt x="1218" y="1444"/>
                </a:cubicBezTo>
                <a:cubicBezTo>
                  <a:pt x="1219" y="1441"/>
                  <a:pt x="1221" y="1438"/>
                  <a:pt x="1223" y="1436"/>
                </a:cubicBezTo>
                <a:cubicBezTo>
                  <a:pt x="1225" y="1435"/>
                  <a:pt x="1226" y="1434"/>
                  <a:pt x="1228" y="1433"/>
                </a:cubicBezTo>
                <a:cubicBezTo>
                  <a:pt x="1233" y="1429"/>
                  <a:pt x="1239" y="1427"/>
                  <a:pt x="1245" y="1426"/>
                </a:cubicBezTo>
                <a:cubicBezTo>
                  <a:pt x="1246" y="1426"/>
                  <a:pt x="1246" y="1426"/>
                  <a:pt x="1247" y="1426"/>
                </a:cubicBezTo>
                <a:cubicBezTo>
                  <a:pt x="1251" y="1425"/>
                  <a:pt x="1257" y="1424"/>
                  <a:pt x="1262" y="1424"/>
                </a:cubicBezTo>
                <a:cubicBezTo>
                  <a:pt x="1269" y="1424"/>
                  <a:pt x="1269" y="1424"/>
                  <a:pt x="1269" y="1424"/>
                </a:cubicBezTo>
                <a:cubicBezTo>
                  <a:pt x="1271" y="1424"/>
                  <a:pt x="1274" y="1424"/>
                  <a:pt x="1276" y="1424"/>
                </a:cubicBezTo>
                <a:cubicBezTo>
                  <a:pt x="1291" y="1424"/>
                  <a:pt x="1307" y="1424"/>
                  <a:pt x="1322" y="1424"/>
                </a:cubicBezTo>
                <a:cubicBezTo>
                  <a:pt x="1324" y="1424"/>
                  <a:pt x="1326" y="1424"/>
                  <a:pt x="1329" y="1424"/>
                </a:cubicBezTo>
                <a:cubicBezTo>
                  <a:pt x="1331" y="1424"/>
                  <a:pt x="1331" y="1424"/>
                  <a:pt x="1331" y="1424"/>
                </a:cubicBezTo>
                <a:cubicBezTo>
                  <a:pt x="1332" y="1424"/>
                  <a:pt x="1332" y="1424"/>
                  <a:pt x="1333" y="1424"/>
                </a:cubicBezTo>
                <a:cubicBezTo>
                  <a:pt x="1335" y="1424"/>
                  <a:pt x="1337" y="1424"/>
                  <a:pt x="1339" y="1425"/>
                </a:cubicBezTo>
                <a:cubicBezTo>
                  <a:pt x="1339" y="1425"/>
                  <a:pt x="1339" y="1425"/>
                  <a:pt x="1339" y="1425"/>
                </a:cubicBezTo>
                <a:cubicBezTo>
                  <a:pt x="1351" y="1426"/>
                  <a:pt x="1364" y="1429"/>
                  <a:pt x="1366" y="1439"/>
                </a:cubicBezTo>
                <a:cubicBezTo>
                  <a:pt x="1366" y="1439"/>
                  <a:pt x="1366" y="1440"/>
                  <a:pt x="1366" y="1440"/>
                </a:cubicBezTo>
                <a:cubicBezTo>
                  <a:pt x="1366" y="1440"/>
                  <a:pt x="1366" y="1440"/>
                  <a:pt x="1366" y="1441"/>
                </a:cubicBezTo>
                <a:cubicBezTo>
                  <a:pt x="1367" y="1452"/>
                  <a:pt x="1362" y="1467"/>
                  <a:pt x="1360" y="1478"/>
                </a:cubicBezTo>
                <a:cubicBezTo>
                  <a:pt x="1360" y="1478"/>
                  <a:pt x="1360" y="1478"/>
                  <a:pt x="1360" y="1478"/>
                </a:cubicBezTo>
                <a:cubicBezTo>
                  <a:pt x="1359" y="1481"/>
                  <a:pt x="1359" y="1481"/>
                  <a:pt x="1359" y="1481"/>
                </a:cubicBezTo>
                <a:cubicBezTo>
                  <a:pt x="1359" y="1483"/>
                  <a:pt x="1358" y="1485"/>
                  <a:pt x="1356" y="1487"/>
                </a:cubicBezTo>
                <a:cubicBezTo>
                  <a:pt x="1356" y="1488"/>
                  <a:pt x="1355" y="1488"/>
                  <a:pt x="1355" y="1489"/>
                </a:cubicBezTo>
                <a:cubicBezTo>
                  <a:pt x="1355" y="1489"/>
                  <a:pt x="1355" y="1489"/>
                  <a:pt x="1355" y="1489"/>
                </a:cubicBezTo>
                <a:cubicBezTo>
                  <a:pt x="1355" y="1489"/>
                  <a:pt x="1355" y="1489"/>
                  <a:pt x="1354" y="1489"/>
                </a:cubicBezTo>
                <a:cubicBezTo>
                  <a:pt x="1339" y="1507"/>
                  <a:pt x="1298" y="1502"/>
                  <a:pt x="1278" y="1502"/>
                </a:cubicBezTo>
                <a:close/>
                <a:moveTo>
                  <a:pt x="911" y="1620"/>
                </a:moveTo>
                <a:cubicBezTo>
                  <a:pt x="911" y="1619"/>
                  <a:pt x="911" y="1618"/>
                  <a:pt x="911" y="1618"/>
                </a:cubicBezTo>
                <a:cubicBezTo>
                  <a:pt x="912" y="1616"/>
                  <a:pt x="912" y="1615"/>
                  <a:pt x="913" y="1614"/>
                </a:cubicBezTo>
                <a:cubicBezTo>
                  <a:pt x="913" y="1614"/>
                  <a:pt x="913" y="1614"/>
                  <a:pt x="913" y="1613"/>
                </a:cubicBezTo>
                <a:cubicBezTo>
                  <a:pt x="913" y="1612"/>
                  <a:pt x="913" y="1612"/>
                  <a:pt x="913" y="1612"/>
                </a:cubicBezTo>
                <a:cubicBezTo>
                  <a:pt x="914" y="1611"/>
                  <a:pt x="915" y="1609"/>
                  <a:pt x="916" y="1607"/>
                </a:cubicBezTo>
                <a:cubicBezTo>
                  <a:pt x="922" y="1594"/>
                  <a:pt x="928" y="1582"/>
                  <a:pt x="935" y="1569"/>
                </a:cubicBezTo>
                <a:cubicBezTo>
                  <a:pt x="935" y="1569"/>
                  <a:pt x="935" y="1569"/>
                  <a:pt x="935" y="1569"/>
                </a:cubicBezTo>
                <a:cubicBezTo>
                  <a:pt x="935" y="1568"/>
                  <a:pt x="935" y="1568"/>
                  <a:pt x="935" y="1568"/>
                </a:cubicBezTo>
                <a:cubicBezTo>
                  <a:pt x="936" y="1567"/>
                  <a:pt x="936" y="1566"/>
                  <a:pt x="937" y="1566"/>
                </a:cubicBezTo>
                <a:cubicBezTo>
                  <a:pt x="937" y="1565"/>
                  <a:pt x="938" y="1564"/>
                  <a:pt x="938" y="1563"/>
                </a:cubicBezTo>
                <a:cubicBezTo>
                  <a:pt x="938" y="1563"/>
                  <a:pt x="938" y="1563"/>
                  <a:pt x="939" y="1563"/>
                </a:cubicBezTo>
                <a:cubicBezTo>
                  <a:pt x="956" y="1539"/>
                  <a:pt x="997" y="1544"/>
                  <a:pt x="1023" y="1544"/>
                </a:cubicBezTo>
                <a:cubicBezTo>
                  <a:pt x="1023" y="1544"/>
                  <a:pt x="1023" y="1544"/>
                  <a:pt x="1023" y="1544"/>
                </a:cubicBezTo>
                <a:cubicBezTo>
                  <a:pt x="1030" y="1544"/>
                  <a:pt x="1049" y="1542"/>
                  <a:pt x="1066" y="1544"/>
                </a:cubicBezTo>
                <a:cubicBezTo>
                  <a:pt x="1071" y="1544"/>
                  <a:pt x="1077" y="1544"/>
                  <a:pt x="1081" y="1545"/>
                </a:cubicBezTo>
                <a:cubicBezTo>
                  <a:pt x="1084" y="1546"/>
                  <a:pt x="1087" y="1547"/>
                  <a:pt x="1089" y="1548"/>
                </a:cubicBezTo>
                <a:cubicBezTo>
                  <a:pt x="1095" y="1551"/>
                  <a:pt x="1099" y="1556"/>
                  <a:pt x="1099" y="1562"/>
                </a:cubicBezTo>
                <a:cubicBezTo>
                  <a:pt x="1099" y="1562"/>
                  <a:pt x="1099" y="1562"/>
                  <a:pt x="1099" y="1562"/>
                </a:cubicBezTo>
                <a:cubicBezTo>
                  <a:pt x="1099" y="1563"/>
                  <a:pt x="1099" y="1563"/>
                  <a:pt x="1099" y="1564"/>
                </a:cubicBezTo>
                <a:cubicBezTo>
                  <a:pt x="1099" y="1565"/>
                  <a:pt x="1099" y="1566"/>
                  <a:pt x="1099" y="1567"/>
                </a:cubicBezTo>
                <a:cubicBezTo>
                  <a:pt x="1082" y="1613"/>
                  <a:pt x="1082" y="1613"/>
                  <a:pt x="1082" y="1613"/>
                </a:cubicBezTo>
                <a:cubicBezTo>
                  <a:pt x="1081" y="1617"/>
                  <a:pt x="1078" y="1620"/>
                  <a:pt x="1075" y="1623"/>
                </a:cubicBezTo>
                <a:cubicBezTo>
                  <a:pt x="1071" y="1626"/>
                  <a:pt x="1067" y="1629"/>
                  <a:pt x="1062" y="1631"/>
                </a:cubicBezTo>
                <a:cubicBezTo>
                  <a:pt x="1062" y="1632"/>
                  <a:pt x="1061" y="1632"/>
                  <a:pt x="1061" y="1632"/>
                </a:cubicBezTo>
                <a:cubicBezTo>
                  <a:pt x="1054" y="1635"/>
                  <a:pt x="1047" y="1637"/>
                  <a:pt x="1039" y="1639"/>
                </a:cubicBezTo>
                <a:cubicBezTo>
                  <a:pt x="1038" y="1639"/>
                  <a:pt x="1038" y="1639"/>
                  <a:pt x="1038" y="1639"/>
                </a:cubicBezTo>
                <a:cubicBezTo>
                  <a:pt x="1036" y="1639"/>
                  <a:pt x="1035" y="1639"/>
                  <a:pt x="1034" y="1639"/>
                </a:cubicBezTo>
                <a:cubicBezTo>
                  <a:pt x="1020" y="1640"/>
                  <a:pt x="1005" y="1639"/>
                  <a:pt x="990" y="1639"/>
                </a:cubicBezTo>
                <a:cubicBezTo>
                  <a:pt x="975" y="1639"/>
                  <a:pt x="960" y="1640"/>
                  <a:pt x="945" y="1640"/>
                </a:cubicBezTo>
                <a:cubicBezTo>
                  <a:pt x="935" y="1640"/>
                  <a:pt x="920" y="1638"/>
                  <a:pt x="914" y="1628"/>
                </a:cubicBezTo>
                <a:cubicBezTo>
                  <a:pt x="913" y="1628"/>
                  <a:pt x="913" y="1628"/>
                  <a:pt x="913" y="1627"/>
                </a:cubicBezTo>
                <a:cubicBezTo>
                  <a:pt x="913" y="1627"/>
                  <a:pt x="912" y="1626"/>
                  <a:pt x="912" y="1626"/>
                </a:cubicBezTo>
                <a:cubicBezTo>
                  <a:pt x="912" y="1625"/>
                  <a:pt x="912" y="1624"/>
                  <a:pt x="911" y="1624"/>
                </a:cubicBezTo>
                <a:cubicBezTo>
                  <a:pt x="911" y="1624"/>
                  <a:pt x="911" y="1624"/>
                  <a:pt x="911" y="1624"/>
                </a:cubicBezTo>
                <a:cubicBezTo>
                  <a:pt x="911" y="1623"/>
                  <a:pt x="911" y="1623"/>
                  <a:pt x="911" y="1623"/>
                </a:cubicBezTo>
                <a:cubicBezTo>
                  <a:pt x="911" y="1622"/>
                  <a:pt x="911" y="1621"/>
                  <a:pt x="911" y="1620"/>
                </a:cubicBezTo>
                <a:close/>
                <a:moveTo>
                  <a:pt x="910" y="1465"/>
                </a:moveTo>
                <a:cubicBezTo>
                  <a:pt x="910" y="1465"/>
                  <a:pt x="910" y="1465"/>
                  <a:pt x="910" y="1465"/>
                </a:cubicBezTo>
                <a:cubicBezTo>
                  <a:pt x="900" y="1482"/>
                  <a:pt x="900" y="1482"/>
                  <a:pt x="900" y="1482"/>
                </a:cubicBezTo>
                <a:cubicBezTo>
                  <a:pt x="899" y="1485"/>
                  <a:pt x="896" y="1488"/>
                  <a:pt x="893" y="1490"/>
                </a:cubicBezTo>
                <a:cubicBezTo>
                  <a:pt x="889" y="1493"/>
                  <a:pt x="885" y="1495"/>
                  <a:pt x="880" y="1497"/>
                </a:cubicBezTo>
                <a:cubicBezTo>
                  <a:pt x="879" y="1497"/>
                  <a:pt x="878" y="1498"/>
                  <a:pt x="876" y="1498"/>
                </a:cubicBezTo>
                <a:cubicBezTo>
                  <a:pt x="876" y="1499"/>
                  <a:pt x="875" y="1499"/>
                  <a:pt x="874" y="1499"/>
                </a:cubicBezTo>
                <a:cubicBezTo>
                  <a:pt x="874" y="1499"/>
                  <a:pt x="874" y="1499"/>
                  <a:pt x="874" y="1499"/>
                </a:cubicBezTo>
                <a:cubicBezTo>
                  <a:pt x="871" y="1500"/>
                  <a:pt x="868" y="1501"/>
                  <a:pt x="865" y="1502"/>
                </a:cubicBezTo>
                <a:cubicBezTo>
                  <a:pt x="859" y="1503"/>
                  <a:pt x="854" y="1503"/>
                  <a:pt x="848" y="1503"/>
                </a:cubicBezTo>
                <a:cubicBezTo>
                  <a:pt x="832" y="1503"/>
                  <a:pt x="832" y="1503"/>
                  <a:pt x="832" y="1503"/>
                </a:cubicBezTo>
                <a:cubicBezTo>
                  <a:pt x="832" y="1503"/>
                  <a:pt x="832" y="1503"/>
                  <a:pt x="832" y="1503"/>
                </a:cubicBezTo>
                <a:cubicBezTo>
                  <a:pt x="812" y="1503"/>
                  <a:pt x="793" y="1504"/>
                  <a:pt x="774" y="1504"/>
                </a:cubicBezTo>
                <a:cubicBezTo>
                  <a:pt x="765" y="1504"/>
                  <a:pt x="747" y="1502"/>
                  <a:pt x="745" y="1491"/>
                </a:cubicBezTo>
                <a:cubicBezTo>
                  <a:pt x="745" y="1489"/>
                  <a:pt x="745" y="1488"/>
                  <a:pt x="746" y="1486"/>
                </a:cubicBezTo>
                <a:cubicBezTo>
                  <a:pt x="747" y="1482"/>
                  <a:pt x="751" y="1478"/>
                  <a:pt x="753" y="1475"/>
                </a:cubicBezTo>
                <a:cubicBezTo>
                  <a:pt x="760" y="1464"/>
                  <a:pt x="766" y="1452"/>
                  <a:pt x="775" y="1443"/>
                </a:cubicBezTo>
                <a:cubicBezTo>
                  <a:pt x="775" y="1442"/>
                  <a:pt x="776" y="1442"/>
                  <a:pt x="776" y="1441"/>
                </a:cubicBezTo>
                <a:cubicBezTo>
                  <a:pt x="776" y="1441"/>
                  <a:pt x="777" y="1441"/>
                  <a:pt x="777" y="1441"/>
                </a:cubicBezTo>
                <a:cubicBezTo>
                  <a:pt x="799" y="1419"/>
                  <a:pt x="845" y="1425"/>
                  <a:pt x="873" y="1425"/>
                </a:cubicBezTo>
                <a:cubicBezTo>
                  <a:pt x="886" y="1425"/>
                  <a:pt x="901" y="1423"/>
                  <a:pt x="913" y="1428"/>
                </a:cubicBezTo>
                <a:cubicBezTo>
                  <a:pt x="913" y="1428"/>
                  <a:pt x="913" y="1428"/>
                  <a:pt x="913" y="1428"/>
                </a:cubicBezTo>
                <a:cubicBezTo>
                  <a:pt x="915" y="1429"/>
                  <a:pt x="916" y="1430"/>
                  <a:pt x="917" y="1430"/>
                </a:cubicBezTo>
                <a:cubicBezTo>
                  <a:pt x="917" y="1430"/>
                  <a:pt x="917" y="1431"/>
                  <a:pt x="918" y="1431"/>
                </a:cubicBezTo>
                <a:cubicBezTo>
                  <a:pt x="920" y="1432"/>
                  <a:pt x="922" y="1435"/>
                  <a:pt x="922" y="1437"/>
                </a:cubicBezTo>
                <a:cubicBezTo>
                  <a:pt x="923" y="1439"/>
                  <a:pt x="923" y="1442"/>
                  <a:pt x="921" y="1444"/>
                </a:cubicBezTo>
                <a:cubicBezTo>
                  <a:pt x="920" y="1446"/>
                  <a:pt x="920" y="1446"/>
                  <a:pt x="920" y="1446"/>
                </a:cubicBezTo>
                <a:cubicBezTo>
                  <a:pt x="918" y="1452"/>
                  <a:pt x="913" y="1460"/>
                  <a:pt x="910" y="1465"/>
                </a:cubicBezTo>
                <a:close/>
                <a:moveTo>
                  <a:pt x="1095" y="1502"/>
                </a:moveTo>
                <a:cubicBezTo>
                  <a:pt x="1093" y="1502"/>
                  <a:pt x="1091" y="1502"/>
                  <a:pt x="1089" y="1502"/>
                </a:cubicBezTo>
                <a:cubicBezTo>
                  <a:pt x="1089" y="1502"/>
                  <a:pt x="1089" y="1503"/>
                  <a:pt x="1088" y="1503"/>
                </a:cubicBezTo>
                <a:cubicBezTo>
                  <a:pt x="1077" y="1504"/>
                  <a:pt x="1066" y="1503"/>
                  <a:pt x="1054" y="1503"/>
                </a:cubicBezTo>
                <a:cubicBezTo>
                  <a:pt x="1007" y="1503"/>
                  <a:pt x="1007" y="1503"/>
                  <a:pt x="1007" y="1503"/>
                </a:cubicBezTo>
                <a:cubicBezTo>
                  <a:pt x="997" y="1503"/>
                  <a:pt x="980" y="1501"/>
                  <a:pt x="976" y="1490"/>
                </a:cubicBezTo>
                <a:cubicBezTo>
                  <a:pt x="976" y="1489"/>
                  <a:pt x="976" y="1488"/>
                  <a:pt x="976" y="1487"/>
                </a:cubicBezTo>
                <a:cubicBezTo>
                  <a:pt x="976" y="1486"/>
                  <a:pt x="976" y="1486"/>
                  <a:pt x="976" y="1485"/>
                </a:cubicBezTo>
                <a:cubicBezTo>
                  <a:pt x="977" y="1481"/>
                  <a:pt x="980" y="1477"/>
                  <a:pt x="982" y="1473"/>
                </a:cubicBezTo>
                <a:cubicBezTo>
                  <a:pt x="986" y="1463"/>
                  <a:pt x="990" y="1449"/>
                  <a:pt x="998" y="1441"/>
                </a:cubicBezTo>
                <a:cubicBezTo>
                  <a:pt x="998" y="1440"/>
                  <a:pt x="999" y="1440"/>
                  <a:pt x="999" y="1440"/>
                </a:cubicBezTo>
                <a:cubicBezTo>
                  <a:pt x="1000" y="1439"/>
                  <a:pt x="1000" y="1439"/>
                  <a:pt x="1000" y="1438"/>
                </a:cubicBezTo>
                <a:cubicBezTo>
                  <a:pt x="1001" y="1438"/>
                  <a:pt x="1001" y="1438"/>
                  <a:pt x="1001" y="1438"/>
                </a:cubicBezTo>
                <a:cubicBezTo>
                  <a:pt x="1002" y="1437"/>
                  <a:pt x="1002" y="1437"/>
                  <a:pt x="1002" y="1437"/>
                </a:cubicBezTo>
                <a:cubicBezTo>
                  <a:pt x="1003" y="1436"/>
                  <a:pt x="1003" y="1436"/>
                  <a:pt x="1003" y="1436"/>
                </a:cubicBezTo>
                <a:cubicBezTo>
                  <a:pt x="1010" y="1431"/>
                  <a:pt x="1018" y="1428"/>
                  <a:pt x="1027" y="1427"/>
                </a:cubicBezTo>
                <a:cubicBezTo>
                  <a:pt x="1027" y="1427"/>
                  <a:pt x="1027" y="1426"/>
                  <a:pt x="1028" y="1426"/>
                </a:cubicBezTo>
                <a:cubicBezTo>
                  <a:pt x="1033" y="1425"/>
                  <a:pt x="1038" y="1425"/>
                  <a:pt x="1043" y="1425"/>
                </a:cubicBezTo>
                <a:cubicBezTo>
                  <a:pt x="1072" y="1425"/>
                  <a:pt x="1072" y="1425"/>
                  <a:pt x="1072" y="1425"/>
                </a:cubicBezTo>
                <a:cubicBezTo>
                  <a:pt x="1081" y="1425"/>
                  <a:pt x="1090" y="1425"/>
                  <a:pt x="1099" y="1425"/>
                </a:cubicBezTo>
                <a:cubicBezTo>
                  <a:pt x="1112" y="1425"/>
                  <a:pt x="1130" y="1423"/>
                  <a:pt x="1140" y="1432"/>
                </a:cubicBezTo>
                <a:cubicBezTo>
                  <a:pt x="1140" y="1433"/>
                  <a:pt x="1141" y="1433"/>
                  <a:pt x="1141" y="1434"/>
                </a:cubicBezTo>
                <a:cubicBezTo>
                  <a:pt x="1142" y="1434"/>
                  <a:pt x="1142" y="1434"/>
                  <a:pt x="1142" y="1434"/>
                </a:cubicBezTo>
                <a:cubicBezTo>
                  <a:pt x="1142" y="1434"/>
                  <a:pt x="1142" y="1435"/>
                  <a:pt x="1142" y="1435"/>
                </a:cubicBezTo>
                <a:cubicBezTo>
                  <a:pt x="1143" y="1435"/>
                  <a:pt x="1143" y="1436"/>
                  <a:pt x="1143" y="1436"/>
                </a:cubicBezTo>
                <a:cubicBezTo>
                  <a:pt x="1144" y="1438"/>
                  <a:pt x="1144" y="1440"/>
                  <a:pt x="1144" y="1442"/>
                </a:cubicBezTo>
                <a:cubicBezTo>
                  <a:pt x="1143" y="1452"/>
                  <a:pt x="1135" y="1467"/>
                  <a:pt x="1133" y="1473"/>
                </a:cubicBezTo>
                <a:cubicBezTo>
                  <a:pt x="1133" y="1474"/>
                  <a:pt x="1133" y="1474"/>
                  <a:pt x="1133" y="1474"/>
                </a:cubicBezTo>
                <a:cubicBezTo>
                  <a:pt x="1132" y="1476"/>
                  <a:pt x="1131" y="1478"/>
                  <a:pt x="1130" y="1480"/>
                </a:cubicBezTo>
                <a:cubicBezTo>
                  <a:pt x="1130" y="1481"/>
                  <a:pt x="1130" y="1481"/>
                  <a:pt x="1130" y="1481"/>
                </a:cubicBezTo>
                <a:cubicBezTo>
                  <a:pt x="1130" y="1482"/>
                  <a:pt x="1129" y="1483"/>
                  <a:pt x="1129" y="1483"/>
                </a:cubicBezTo>
                <a:cubicBezTo>
                  <a:pt x="1129" y="1484"/>
                  <a:pt x="1128" y="1484"/>
                  <a:pt x="1128" y="1485"/>
                </a:cubicBezTo>
                <a:cubicBezTo>
                  <a:pt x="1128" y="1485"/>
                  <a:pt x="1127" y="1486"/>
                  <a:pt x="1127" y="1487"/>
                </a:cubicBezTo>
                <a:cubicBezTo>
                  <a:pt x="1126" y="1487"/>
                  <a:pt x="1126" y="1487"/>
                  <a:pt x="1126" y="1488"/>
                </a:cubicBezTo>
                <a:cubicBezTo>
                  <a:pt x="1125" y="1488"/>
                  <a:pt x="1125" y="1488"/>
                  <a:pt x="1125" y="1488"/>
                </a:cubicBezTo>
                <a:cubicBezTo>
                  <a:pt x="1124" y="1489"/>
                  <a:pt x="1124" y="1489"/>
                  <a:pt x="1124" y="1490"/>
                </a:cubicBezTo>
                <a:cubicBezTo>
                  <a:pt x="1122" y="1491"/>
                  <a:pt x="1121" y="1492"/>
                  <a:pt x="1119" y="1493"/>
                </a:cubicBezTo>
                <a:cubicBezTo>
                  <a:pt x="1117" y="1494"/>
                  <a:pt x="1115" y="1495"/>
                  <a:pt x="1114" y="1496"/>
                </a:cubicBezTo>
                <a:cubicBezTo>
                  <a:pt x="1113" y="1496"/>
                  <a:pt x="1113" y="1496"/>
                  <a:pt x="1113" y="1496"/>
                </a:cubicBezTo>
                <a:cubicBezTo>
                  <a:pt x="1112" y="1497"/>
                  <a:pt x="1112" y="1497"/>
                  <a:pt x="1112" y="1497"/>
                </a:cubicBezTo>
                <a:cubicBezTo>
                  <a:pt x="1106" y="1499"/>
                  <a:pt x="1100" y="1501"/>
                  <a:pt x="1095" y="1502"/>
                </a:cubicBezTo>
                <a:close/>
                <a:moveTo>
                  <a:pt x="773" y="1710"/>
                </a:moveTo>
                <a:cubicBezTo>
                  <a:pt x="773" y="1710"/>
                  <a:pt x="773" y="1710"/>
                  <a:pt x="773" y="1710"/>
                </a:cubicBezTo>
                <a:cubicBezTo>
                  <a:pt x="771" y="1721"/>
                  <a:pt x="762" y="1732"/>
                  <a:pt x="756" y="1742"/>
                </a:cubicBezTo>
                <a:cubicBezTo>
                  <a:pt x="756" y="1742"/>
                  <a:pt x="756" y="1742"/>
                  <a:pt x="756" y="1742"/>
                </a:cubicBezTo>
                <a:cubicBezTo>
                  <a:pt x="750" y="1753"/>
                  <a:pt x="744" y="1767"/>
                  <a:pt x="736" y="1777"/>
                </a:cubicBezTo>
                <a:cubicBezTo>
                  <a:pt x="735" y="1778"/>
                  <a:pt x="735" y="1779"/>
                  <a:pt x="734" y="1781"/>
                </a:cubicBezTo>
                <a:cubicBezTo>
                  <a:pt x="734" y="1781"/>
                  <a:pt x="733" y="1781"/>
                  <a:pt x="733" y="1781"/>
                </a:cubicBezTo>
                <a:cubicBezTo>
                  <a:pt x="732" y="1782"/>
                  <a:pt x="731" y="1783"/>
                  <a:pt x="730" y="1784"/>
                </a:cubicBezTo>
                <a:cubicBezTo>
                  <a:pt x="729" y="1785"/>
                  <a:pt x="729" y="1785"/>
                  <a:pt x="728" y="1786"/>
                </a:cubicBezTo>
                <a:cubicBezTo>
                  <a:pt x="728" y="1786"/>
                  <a:pt x="728" y="1786"/>
                  <a:pt x="728" y="1786"/>
                </a:cubicBezTo>
                <a:cubicBezTo>
                  <a:pt x="719" y="1794"/>
                  <a:pt x="708" y="1799"/>
                  <a:pt x="696" y="1802"/>
                </a:cubicBezTo>
                <a:cubicBezTo>
                  <a:pt x="695" y="1803"/>
                  <a:pt x="693" y="1803"/>
                  <a:pt x="692" y="1804"/>
                </a:cubicBezTo>
                <a:cubicBezTo>
                  <a:pt x="685" y="1805"/>
                  <a:pt x="678" y="1806"/>
                  <a:pt x="671" y="1806"/>
                </a:cubicBezTo>
                <a:cubicBezTo>
                  <a:pt x="665" y="1806"/>
                  <a:pt x="665" y="1806"/>
                  <a:pt x="665" y="1806"/>
                </a:cubicBezTo>
                <a:cubicBezTo>
                  <a:pt x="665" y="1806"/>
                  <a:pt x="665" y="1806"/>
                  <a:pt x="665" y="1806"/>
                </a:cubicBezTo>
                <a:cubicBezTo>
                  <a:pt x="636" y="1806"/>
                  <a:pt x="607" y="1807"/>
                  <a:pt x="578" y="1807"/>
                </a:cubicBezTo>
                <a:cubicBezTo>
                  <a:pt x="575" y="1807"/>
                  <a:pt x="573" y="1806"/>
                  <a:pt x="571" y="1806"/>
                </a:cubicBezTo>
                <a:cubicBezTo>
                  <a:pt x="567" y="1806"/>
                  <a:pt x="563" y="1805"/>
                  <a:pt x="560" y="1804"/>
                </a:cubicBezTo>
                <a:cubicBezTo>
                  <a:pt x="555" y="1802"/>
                  <a:pt x="551" y="1800"/>
                  <a:pt x="549" y="1797"/>
                </a:cubicBezTo>
                <a:cubicBezTo>
                  <a:pt x="546" y="1794"/>
                  <a:pt x="545" y="1790"/>
                  <a:pt x="545" y="1786"/>
                </a:cubicBezTo>
                <a:cubicBezTo>
                  <a:pt x="545" y="1783"/>
                  <a:pt x="546" y="1780"/>
                  <a:pt x="548" y="1777"/>
                </a:cubicBezTo>
                <a:cubicBezTo>
                  <a:pt x="548" y="1776"/>
                  <a:pt x="549" y="1776"/>
                  <a:pt x="549" y="1776"/>
                </a:cubicBezTo>
                <a:cubicBezTo>
                  <a:pt x="549" y="1775"/>
                  <a:pt x="549" y="1774"/>
                  <a:pt x="550" y="1774"/>
                </a:cubicBezTo>
                <a:cubicBezTo>
                  <a:pt x="551" y="1772"/>
                  <a:pt x="551" y="1772"/>
                  <a:pt x="551" y="1772"/>
                </a:cubicBezTo>
                <a:cubicBezTo>
                  <a:pt x="551" y="1772"/>
                  <a:pt x="551" y="1772"/>
                  <a:pt x="551" y="1772"/>
                </a:cubicBezTo>
                <a:cubicBezTo>
                  <a:pt x="558" y="1761"/>
                  <a:pt x="566" y="1750"/>
                  <a:pt x="574" y="1739"/>
                </a:cubicBezTo>
                <a:cubicBezTo>
                  <a:pt x="579" y="1730"/>
                  <a:pt x="585" y="1720"/>
                  <a:pt x="592" y="1713"/>
                </a:cubicBezTo>
                <a:cubicBezTo>
                  <a:pt x="593" y="1712"/>
                  <a:pt x="593" y="1711"/>
                  <a:pt x="594" y="1710"/>
                </a:cubicBezTo>
                <a:cubicBezTo>
                  <a:pt x="594" y="1710"/>
                  <a:pt x="595" y="1710"/>
                  <a:pt x="595" y="1710"/>
                </a:cubicBezTo>
                <a:cubicBezTo>
                  <a:pt x="596" y="1708"/>
                  <a:pt x="598" y="1707"/>
                  <a:pt x="600" y="1705"/>
                </a:cubicBezTo>
                <a:cubicBezTo>
                  <a:pt x="600" y="1705"/>
                  <a:pt x="600" y="1705"/>
                  <a:pt x="600" y="1705"/>
                </a:cubicBezTo>
                <a:cubicBezTo>
                  <a:pt x="600" y="1705"/>
                  <a:pt x="600" y="1705"/>
                  <a:pt x="600" y="1705"/>
                </a:cubicBezTo>
                <a:cubicBezTo>
                  <a:pt x="610" y="1697"/>
                  <a:pt x="622" y="1692"/>
                  <a:pt x="635" y="1690"/>
                </a:cubicBezTo>
                <a:cubicBezTo>
                  <a:pt x="635" y="1690"/>
                  <a:pt x="635" y="1690"/>
                  <a:pt x="635" y="1690"/>
                </a:cubicBezTo>
                <a:cubicBezTo>
                  <a:pt x="636" y="1690"/>
                  <a:pt x="636" y="1690"/>
                  <a:pt x="636" y="1690"/>
                </a:cubicBezTo>
                <a:cubicBezTo>
                  <a:pt x="638" y="1689"/>
                  <a:pt x="640" y="1689"/>
                  <a:pt x="643" y="1688"/>
                </a:cubicBezTo>
                <a:cubicBezTo>
                  <a:pt x="644" y="1688"/>
                  <a:pt x="646" y="1688"/>
                  <a:pt x="647" y="1688"/>
                </a:cubicBezTo>
                <a:cubicBezTo>
                  <a:pt x="649" y="1688"/>
                  <a:pt x="650" y="1688"/>
                  <a:pt x="652" y="1688"/>
                </a:cubicBezTo>
                <a:cubicBezTo>
                  <a:pt x="653" y="1687"/>
                  <a:pt x="654" y="1687"/>
                  <a:pt x="655" y="1687"/>
                </a:cubicBezTo>
                <a:cubicBezTo>
                  <a:pt x="656" y="1687"/>
                  <a:pt x="656" y="1687"/>
                  <a:pt x="656" y="1687"/>
                </a:cubicBezTo>
                <a:cubicBezTo>
                  <a:pt x="656" y="1687"/>
                  <a:pt x="656" y="1687"/>
                  <a:pt x="656" y="1687"/>
                </a:cubicBezTo>
                <a:cubicBezTo>
                  <a:pt x="683" y="1687"/>
                  <a:pt x="709" y="1687"/>
                  <a:pt x="736" y="1687"/>
                </a:cubicBezTo>
                <a:cubicBezTo>
                  <a:pt x="736" y="1687"/>
                  <a:pt x="736" y="1687"/>
                  <a:pt x="736" y="1687"/>
                </a:cubicBezTo>
                <a:cubicBezTo>
                  <a:pt x="740" y="1687"/>
                  <a:pt x="740" y="1687"/>
                  <a:pt x="740" y="1687"/>
                </a:cubicBezTo>
                <a:cubicBezTo>
                  <a:pt x="747" y="1687"/>
                  <a:pt x="753" y="1688"/>
                  <a:pt x="757" y="1689"/>
                </a:cubicBezTo>
                <a:cubicBezTo>
                  <a:pt x="759" y="1690"/>
                  <a:pt x="760" y="1690"/>
                  <a:pt x="761" y="1691"/>
                </a:cubicBezTo>
                <a:cubicBezTo>
                  <a:pt x="761" y="1691"/>
                  <a:pt x="762" y="1691"/>
                  <a:pt x="763" y="1691"/>
                </a:cubicBezTo>
                <a:cubicBezTo>
                  <a:pt x="763" y="1692"/>
                  <a:pt x="763" y="1692"/>
                  <a:pt x="764" y="1692"/>
                </a:cubicBezTo>
                <a:cubicBezTo>
                  <a:pt x="771" y="1695"/>
                  <a:pt x="775" y="1701"/>
                  <a:pt x="773" y="1710"/>
                </a:cubicBezTo>
                <a:close/>
                <a:moveTo>
                  <a:pt x="828" y="1613"/>
                </a:moveTo>
                <a:cubicBezTo>
                  <a:pt x="827" y="1614"/>
                  <a:pt x="827" y="1614"/>
                  <a:pt x="827" y="1614"/>
                </a:cubicBezTo>
                <a:cubicBezTo>
                  <a:pt x="827" y="1614"/>
                  <a:pt x="827" y="1614"/>
                  <a:pt x="827" y="1614"/>
                </a:cubicBezTo>
                <a:cubicBezTo>
                  <a:pt x="826" y="1616"/>
                  <a:pt x="825" y="1617"/>
                  <a:pt x="824" y="1619"/>
                </a:cubicBezTo>
                <a:cubicBezTo>
                  <a:pt x="824" y="1619"/>
                  <a:pt x="824" y="1619"/>
                  <a:pt x="823" y="1619"/>
                </a:cubicBezTo>
                <a:cubicBezTo>
                  <a:pt x="817" y="1627"/>
                  <a:pt x="807" y="1632"/>
                  <a:pt x="797" y="1635"/>
                </a:cubicBezTo>
                <a:cubicBezTo>
                  <a:pt x="797" y="1635"/>
                  <a:pt x="797" y="1635"/>
                  <a:pt x="797" y="1635"/>
                </a:cubicBezTo>
                <a:cubicBezTo>
                  <a:pt x="795" y="1636"/>
                  <a:pt x="794" y="1636"/>
                  <a:pt x="792" y="1636"/>
                </a:cubicBezTo>
                <a:cubicBezTo>
                  <a:pt x="791" y="1637"/>
                  <a:pt x="790" y="1637"/>
                  <a:pt x="789" y="1637"/>
                </a:cubicBezTo>
                <a:cubicBezTo>
                  <a:pt x="788" y="1637"/>
                  <a:pt x="788" y="1638"/>
                  <a:pt x="787" y="1638"/>
                </a:cubicBezTo>
                <a:cubicBezTo>
                  <a:pt x="781" y="1639"/>
                  <a:pt x="774" y="1640"/>
                  <a:pt x="768" y="1640"/>
                </a:cubicBezTo>
                <a:cubicBezTo>
                  <a:pt x="767" y="1640"/>
                  <a:pt x="767" y="1640"/>
                  <a:pt x="767" y="1640"/>
                </a:cubicBezTo>
                <a:cubicBezTo>
                  <a:pt x="756" y="1641"/>
                  <a:pt x="745" y="1640"/>
                  <a:pt x="735" y="1640"/>
                </a:cubicBezTo>
                <a:cubicBezTo>
                  <a:pt x="718" y="1640"/>
                  <a:pt x="702" y="1640"/>
                  <a:pt x="685" y="1640"/>
                </a:cubicBezTo>
                <a:cubicBezTo>
                  <a:pt x="683" y="1640"/>
                  <a:pt x="680" y="1640"/>
                  <a:pt x="677" y="1640"/>
                </a:cubicBezTo>
                <a:cubicBezTo>
                  <a:pt x="677" y="1640"/>
                  <a:pt x="677" y="1640"/>
                  <a:pt x="676" y="1640"/>
                </a:cubicBezTo>
                <a:cubicBezTo>
                  <a:pt x="674" y="1639"/>
                  <a:pt x="672" y="1639"/>
                  <a:pt x="669" y="1638"/>
                </a:cubicBezTo>
                <a:cubicBezTo>
                  <a:pt x="669" y="1638"/>
                  <a:pt x="669" y="1638"/>
                  <a:pt x="669" y="1638"/>
                </a:cubicBezTo>
                <a:cubicBezTo>
                  <a:pt x="669" y="1638"/>
                  <a:pt x="669" y="1638"/>
                  <a:pt x="669" y="1638"/>
                </a:cubicBezTo>
                <a:cubicBezTo>
                  <a:pt x="662" y="1636"/>
                  <a:pt x="655" y="1632"/>
                  <a:pt x="655" y="1624"/>
                </a:cubicBezTo>
                <a:cubicBezTo>
                  <a:pt x="655" y="1623"/>
                  <a:pt x="655" y="1621"/>
                  <a:pt x="656" y="1620"/>
                </a:cubicBezTo>
                <a:cubicBezTo>
                  <a:pt x="656" y="1619"/>
                  <a:pt x="656" y="1619"/>
                  <a:pt x="656" y="1618"/>
                </a:cubicBezTo>
                <a:cubicBezTo>
                  <a:pt x="657" y="1617"/>
                  <a:pt x="657" y="1616"/>
                  <a:pt x="658" y="1614"/>
                </a:cubicBezTo>
                <a:cubicBezTo>
                  <a:pt x="658" y="1614"/>
                  <a:pt x="658" y="1614"/>
                  <a:pt x="658" y="1614"/>
                </a:cubicBezTo>
                <a:cubicBezTo>
                  <a:pt x="659" y="1613"/>
                  <a:pt x="659" y="1613"/>
                  <a:pt x="659" y="1613"/>
                </a:cubicBezTo>
                <a:cubicBezTo>
                  <a:pt x="660" y="1612"/>
                  <a:pt x="661" y="1610"/>
                  <a:pt x="662" y="1609"/>
                </a:cubicBezTo>
                <a:cubicBezTo>
                  <a:pt x="670" y="1597"/>
                  <a:pt x="678" y="1585"/>
                  <a:pt x="686" y="1572"/>
                </a:cubicBezTo>
                <a:cubicBezTo>
                  <a:pt x="687" y="1572"/>
                  <a:pt x="687" y="1572"/>
                  <a:pt x="687" y="1572"/>
                </a:cubicBezTo>
                <a:cubicBezTo>
                  <a:pt x="689" y="1568"/>
                  <a:pt x="689" y="1568"/>
                  <a:pt x="689" y="1568"/>
                </a:cubicBezTo>
                <a:cubicBezTo>
                  <a:pt x="692" y="1565"/>
                  <a:pt x="695" y="1562"/>
                  <a:pt x="699" y="1559"/>
                </a:cubicBezTo>
                <a:cubicBezTo>
                  <a:pt x="702" y="1557"/>
                  <a:pt x="705" y="1555"/>
                  <a:pt x="708" y="1554"/>
                </a:cubicBezTo>
                <a:cubicBezTo>
                  <a:pt x="709" y="1553"/>
                  <a:pt x="710" y="1553"/>
                  <a:pt x="711" y="1552"/>
                </a:cubicBezTo>
                <a:cubicBezTo>
                  <a:pt x="712" y="1552"/>
                  <a:pt x="712" y="1552"/>
                  <a:pt x="713" y="1551"/>
                </a:cubicBezTo>
                <a:cubicBezTo>
                  <a:pt x="713" y="1551"/>
                  <a:pt x="714" y="1551"/>
                  <a:pt x="714" y="1551"/>
                </a:cubicBezTo>
                <a:cubicBezTo>
                  <a:pt x="715" y="1551"/>
                  <a:pt x="715" y="1551"/>
                  <a:pt x="716" y="1550"/>
                </a:cubicBezTo>
                <a:cubicBezTo>
                  <a:pt x="720" y="1549"/>
                  <a:pt x="725" y="1547"/>
                  <a:pt x="730" y="1546"/>
                </a:cubicBezTo>
                <a:cubicBezTo>
                  <a:pt x="735" y="1545"/>
                  <a:pt x="741" y="1544"/>
                  <a:pt x="747" y="1544"/>
                </a:cubicBezTo>
                <a:cubicBezTo>
                  <a:pt x="763" y="1544"/>
                  <a:pt x="763" y="1544"/>
                  <a:pt x="763" y="1544"/>
                </a:cubicBezTo>
                <a:cubicBezTo>
                  <a:pt x="767" y="1544"/>
                  <a:pt x="770" y="1544"/>
                  <a:pt x="774" y="1544"/>
                </a:cubicBezTo>
                <a:cubicBezTo>
                  <a:pt x="789" y="1544"/>
                  <a:pt x="803" y="1544"/>
                  <a:pt x="818" y="1544"/>
                </a:cubicBezTo>
                <a:cubicBezTo>
                  <a:pt x="818" y="1544"/>
                  <a:pt x="818" y="1544"/>
                  <a:pt x="818" y="1544"/>
                </a:cubicBezTo>
                <a:cubicBezTo>
                  <a:pt x="824" y="1544"/>
                  <a:pt x="824" y="1544"/>
                  <a:pt x="824" y="1544"/>
                </a:cubicBezTo>
                <a:cubicBezTo>
                  <a:pt x="830" y="1544"/>
                  <a:pt x="835" y="1545"/>
                  <a:pt x="839" y="1546"/>
                </a:cubicBezTo>
                <a:cubicBezTo>
                  <a:pt x="843" y="1547"/>
                  <a:pt x="845" y="1548"/>
                  <a:pt x="847" y="1549"/>
                </a:cubicBezTo>
                <a:cubicBezTo>
                  <a:pt x="854" y="1553"/>
                  <a:pt x="858" y="1559"/>
                  <a:pt x="853" y="1568"/>
                </a:cubicBezTo>
                <a:cubicBezTo>
                  <a:pt x="848" y="1579"/>
                  <a:pt x="841" y="1590"/>
                  <a:pt x="835" y="1600"/>
                </a:cubicBezTo>
                <a:cubicBezTo>
                  <a:pt x="828" y="1613"/>
                  <a:pt x="828" y="1613"/>
                  <a:pt x="828" y="1613"/>
                </a:cubicBezTo>
                <a:cubicBezTo>
                  <a:pt x="828" y="1613"/>
                  <a:pt x="828" y="1613"/>
                  <a:pt x="828" y="1613"/>
                </a:cubicBezTo>
                <a:close/>
                <a:moveTo>
                  <a:pt x="1592" y="1771"/>
                </a:moveTo>
                <a:cubicBezTo>
                  <a:pt x="1592" y="1773"/>
                  <a:pt x="1592" y="1775"/>
                  <a:pt x="1591" y="1777"/>
                </a:cubicBezTo>
                <a:cubicBezTo>
                  <a:pt x="1591" y="1778"/>
                  <a:pt x="1591" y="1778"/>
                  <a:pt x="1591" y="1778"/>
                </a:cubicBezTo>
                <a:cubicBezTo>
                  <a:pt x="1590" y="1780"/>
                  <a:pt x="1590" y="1782"/>
                  <a:pt x="1589" y="1783"/>
                </a:cubicBezTo>
                <a:cubicBezTo>
                  <a:pt x="1589" y="1783"/>
                  <a:pt x="1589" y="1783"/>
                  <a:pt x="1589" y="1784"/>
                </a:cubicBezTo>
                <a:cubicBezTo>
                  <a:pt x="1588" y="1784"/>
                  <a:pt x="1588" y="1784"/>
                  <a:pt x="1588" y="1784"/>
                </a:cubicBezTo>
                <a:cubicBezTo>
                  <a:pt x="1587" y="1786"/>
                  <a:pt x="1586" y="1788"/>
                  <a:pt x="1584" y="1789"/>
                </a:cubicBezTo>
                <a:cubicBezTo>
                  <a:pt x="1584" y="1789"/>
                  <a:pt x="1584" y="1789"/>
                  <a:pt x="1584" y="1789"/>
                </a:cubicBezTo>
                <a:cubicBezTo>
                  <a:pt x="1582" y="1791"/>
                  <a:pt x="1581" y="1792"/>
                  <a:pt x="1579" y="1794"/>
                </a:cubicBezTo>
                <a:cubicBezTo>
                  <a:pt x="1578" y="1794"/>
                  <a:pt x="1578" y="1794"/>
                  <a:pt x="1578" y="1794"/>
                </a:cubicBezTo>
                <a:cubicBezTo>
                  <a:pt x="1578" y="1794"/>
                  <a:pt x="1577" y="1795"/>
                  <a:pt x="1577" y="1795"/>
                </a:cubicBezTo>
                <a:cubicBezTo>
                  <a:pt x="1575" y="1796"/>
                  <a:pt x="1573" y="1797"/>
                  <a:pt x="1571" y="1798"/>
                </a:cubicBezTo>
                <a:cubicBezTo>
                  <a:pt x="1571" y="1798"/>
                  <a:pt x="1571" y="1798"/>
                  <a:pt x="1570" y="1798"/>
                </a:cubicBezTo>
                <a:cubicBezTo>
                  <a:pt x="1569" y="1799"/>
                  <a:pt x="1567" y="1800"/>
                  <a:pt x="1566" y="1800"/>
                </a:cubicBezTo>
                <a:cubicBezTo>
                  <a:pt x="1565" y="1800"/>
                  <a:pt x="1564" y="1801"/>
                  <a:pt x="1563" y="1801"/>
                </a:cubicBezTo>
                <a:cubicBezTo>
                  <a:pt x="1563" y="1801"/>
                  <a:pt x="1563" y="1801"/>
                  <a:pt x="1562" y="1801"/>
                </a:cubicBezTo>
                <a:cubicBezTo>
                  <a:pt x="1562" y="1801"/>
                  <a:pt x="1561" y="1801"/>
                  <a:pt x="1561" y="1802"/>
                </a:cubicBezTo>
                <a:cubicBezTo>
                  <a:pt x="1559" y="1802"/>
                  <a:pt x="1557" y="1802"/>
                  <a:pt x="1555" y="1803"/>
                </a:cubicBezTo>
                <a:cubicBezTo>
                  <a:pt x="1553" y="1803"/>
                  <a:pt x="1551" y="1803"/>
                  <a:pt x="1550" y="1803"/>
                </a:cubicBezTo>
                <a:cubicBezTo>
                  <a:pt x="1548" y="1804"/>
                  <a:pt x="1546" y="1804"/>
                  <a:pt x="1544" y="1804"/>
                </a:cubicBezTo>
                <a:cubicBezTo>
                  <a:pt x="1544" y="1804"/>
                  <a:pt x="1543" y="1804"/>
                  <a:pt x="1542" y="1804"/>
                </a:cubicBezTo>
                <a:cubicBezTo>
                  <a:pt x="1540" y="1804"/>
                  <a:pt x="1540" y="1804"/>
                  <a:pt x="1540" y="1804"/>
                </a:cubicBezTo>
                <a:cubicBezTo>
                  <a:pt x="1540" y="1804"/>
                  <a:pt x="1540" y="1804"/>
                  <a:pt x="1540" y="1804"/>
                </a:cubicBezTo>
                <a:cubicBezTo>
                  <a:pt x="1530" y="1804"/>
                  <a:pt x="1519" y="1804"/>
                  <a:pt x="1509" y="1804"/>
                </a:cubicBezTo>
                <a:cubicBezTo>
                  <a:pt x="1461" y="1804"/>
                  <a:pt x="908" y="1806"/>
                  <a:pt x="869" y="1806"/>
                </a:cubicBezTo>
                <a:cubicBezTo>
                  <a:pt x="866" y="1806"/>
                  <a:pt x="863" y="1806"/>
                  <a:pt x="861" y="1805"/>
                </a:cubicBezTo>
                <a:cubicBezTo>
                  <a:pt x="857" y="1805"/>
                  <a:pt x="853" y="1804"/>
                  <a:pt x="850" y="1803"/>
                </a:cubicBezTo>
                <a:cubicBezTo>
                  <a:pt x="845" y="1802"/>
                  <a:pt x="841" y="1799"/>
                  <a:pt x="838" y="1796"/>
                </a:cubicBezTo>
                <a:cubicBezTo>
                  <a:pt x="835" y="1793"/>
                  <a:pt x="833" y="1790"/>
                  <a:pt x="832" y="1786"/>
                </a:cubicBezTo>
                <a:cubicBezTo>
                  <a:pt x="832" y="1782"/>
                  <a:pt x="832" y="1778"/>
                  <a:pt x="834" y="1773"/>
                </a:cubicBezTo>
                <a:cubicBezTo>
                  <a:pt x="836" y="1771"/>
                  <a:pt x="836" y="1771"/>
                  <a:pt x="836" y="1771"/>
                </a:cubicBezTo>
                <a:cubicBezTo>
                  <a:pt x="836" y="1771"/>
                  <a:pt x="836" y="1771"/>
                  <a:pt x="836" y="1771"/>
                </a:cubicBezTo>
                <a:cubicBezTo>
                  <a:pt x="842" y="1758"/>
                  <a:pt x="848" y="1745"/>
                  <a:pt x="854" y="1732"/>
                </a:cubicBezTo>
                <a:cubicBezTo>
                  <a:pt x="856" y="1730"/>
                  <a:pt x="857" y="1728"/>
                  <a:pt x="858" y="1726"/>
                </a:cubicBezTo>
                <a:cubicBezTo>
                  <a:pt x="862" y="1716"/>
                  <a:pt x="862" y="1716"/>
                  <a:pt x="862" y="1716"/>
                </a:cubicBezTo>
                <a:cubicBezTo>
                  <a:pt x="864" y="1712"/>
                  <a:pt x="868" y="1708"/>
                  <a:pt x="872" y="1704"/>
                </a:cubicBezTo>
                <a:cubicBezTo>
                  <a:pt x="873" y="1704"/>
                  <a:pt x="874" y="1703"/>
                  <a:pt x="875" y="1702"/>
                </a:cubicBezTo>
                <a:cubicBezTo>
                  <a:pt x="875" y="1702"/>
                  <a:pt x="876" y="1701"/>
                  <a:pt x="877" y="1701"/>
                </a:cubicBezTo>
                <a:cubicBezTo>
                  <a:pt x="878" y="1700"/>
                  <a:pt x="878" y="1700"/>
                  <a:pt x="879" y="1699"/>
                </a:cubicBezTo>
                <a:cubicBezTo>
                  <a:pt x="880" y="1699"/>
                  <a:pt x="880" y="1699"/>
                  <a:pt x="880" y="1699"/>
                </a:cubicBezTo>
                <a:cubicBezTo>
                  <a:pt x="881" y="1698"/>
                  <a:pt x="881" y="1698"/>
                  <a:pt x="882" y="1698"/>
                </a:cubicBezTo>
                <a:cubicBezTo>
                  <a:pt x="883" y="1697"/>
                  <a:pt x="885" y="1696"/>
                  <a:pt x="886" y="1695"/>
                </a:cubicBezTo>
                <a:cubicBezTo>
                  <a:pt x="887" y="1695"/>
                  <a:pt x="888" y="1695"/>
                  <a:pt x="889" y="1694"/>
                </a:cubicBezTo>
                <a:cubicBezTo>
                  <a:pt x="890" y="1694"/>
                  <a:pt x="891" y="1693"/>
                  <a:pt x="893" y="1693"/>
                </a:cubicBezTo>
                <a:cubicBezTo>
                  <a:pt x="895" y="1692"/>
                  <a:pt x="897" y="1691"/>
                  <a:pt x="899" y="1690"/>
                </a:cubicBezTo>
                <a:cubicBezTo>
                  <a:pt x="900" y="1690"/>
                  <a:pt x="901" y="1690"/>
                  <a:pt x="903" y="1689"/>
                </a:cubicBezTo>
                <a:cubicBezTo>
                  <a:pt x="903" y="1689"/>
                  <a:pt x="904" y="1689"/>
                  <a:pt x="904" y="1689"/>
                </a:cubicBezTo>
                <a:cubicBezTo>
                  <a:pt x="910" y="1687"/>
                  <a:pt x="917" y="1687"/>
                  <a:pt x="923" y="1687"/>
                </a:cubicBezTo>
                <a:cubicBezTo>
                  <a:pt x="923" y="1687"/>
                  <a:pt x="1503" y="1685"/>
                  <a:pt x="1525" y="1685"/>
                </a:cubicBezTo>
                <a:cubicBezTo>
                  <a:pt x="1531" y="1685"/>
                  <a:pt x="1538" y="1685"/>
                  <a:pt x="1545" y="1685"/>
                </a:cubicBezTo>
                <a:cubicBezTo>
                  <a:pt x="1548" y="1685"/>
                  <a:pt x="1551" y="1685"/>
                  <a:pt x="1554" y="1686"/>
                </a:cubicBezTo>
                <a:cubicBezTo>
                  <a:pt x="1554" y="1686"/>
                  <a:pt x="1555" y="1686"/>
                  <a:pt x="1555" y="1686"/>
                </a:cubicBezTo>
                <a:cubicBezTo>
                  <a:pt x="1557" y="1686"/>
                  <a:pt x="1560" y="1686"/>
                  <a:pt x="1562" y="1687"/>
                </a:cubicBezTo>
                <a:cubicBezTo>
                  <a:pt x="1562" y="1687"/>
                  <a:pt x="1563" y="1687"/>
                  <a:pt x="1563" y="1687"/>
                </a:cubicBezTo>
                <a:cubicBezTo>
                  <a:pt x="1563" y="1687"/>
                  <a:pt x="1563" y="1687"/>
                  <a:pt x="1563" y="1687"/>
                </a:cubicBezTo>
                <a:cubicBezTo>
                  <a:pt x="1566" y="1688"/>
                  <a:pt x="1568" y="1689"/>
                  <a:pt x="1570" y="1690"/>
                </a:cubicBezTo>
                <a:cubicBezTo>
                  <a:pt x="1570" y="1690"/>
                  <a:pt x="1571" y="1690"/>
                  <a:pt x="1571" y="1690"/>
                </a:cubicBezTo>
                <a:cubicBezTo>
                  <a:pt x="1573" y="1691"/>
                  <a:pt x="1575" y="1692"/>
                  <a:pt x="1577" y="1693"/>
                </a:cubicBezTo>
                <a:cubicBezTo>
                  <a:pt x="1577" y="1693"/>
                  <a:pt x="1577" y="1693"/>
                  <a:pt x="1578" y="1693"/>
                </a:cubicBezTo>
                <a:cubicBezTo>
                  <a:pt x="1578" y="1694"/>
                  <a:pt x="1578" y="1694"/>
                  <a:pt x="1578" y="1694"/>
                </a:cubicBezTo>
                <a:cubicBezTo>
                  <a:pt x="1580" y="1695"/>
                  <a:pt x="1581" y="1696"/>
                  <a:pt x="1582" y="1697"/>
                </a:cubicBezTo>
                <a:cubicBezTo>
                  <a:pt x="1584" y="1698"/>
                  <a:pt x="1586" y="1700"/>
                  <a:pt x="1588" y="1703"/>
                </a:cubicBezTo>
                <a:cubicBezTo>
                  <a:pt x="1590" y="1706"/>
                  <a:pt x="1592" y="1710"/>
                  <a:pt x="1592" y="1714"/>
                </a:cubicBezTo>
                <a:cubicBezTo>
                  <a:pt x="1592" y="1717"/>
                  <a:pt x="1592" y="1717"/>
                  <a:pt x="1592" y="1717"/>
                </a:cubicBezTo>
                <a:cubicBezTo>
                  <a:pt x="1592" y="1717"/>
                  <a:pt x="1592" y="1717"/>
                  <a:pt x="1592" y="1717"/>
                </a:cubicBezTo>
                <a:cubicBezTo>
                  <a:pt x="1592" y="1731"/>
                  <a:pt x="1592" y="1746"/>
                  <a:pt x="1592" y="1760"/>
                </a:cubicBezTo>
                <a:cubicBezTo>
                  <a:pt x="1592" y="1764"/>
                  <a:pt x="1593" y="1767"/>
                  <a:pt x="1592" y="1771"/>
                </a:cubicBezTo>
                <a:close/>
                <a:moveTo>
                  <a:pt x="1671" y="1490"/>
                </a:moveTo>
                <a:cubicBezTo>
                  <a:pt x="1671" y="1490"/>
                  <a:pt x="1670" y="1489"/>
                  <a:pt x="1670" y="1489"/>
                </a:cubicBezTo>
                <a:cubicBezTo>
                  <a:pt x="1670" y="1489"/>
                  <a:pt x="1669" y="1489"/>
                  <a:pt x="1669" y="1488"/>
                </a:cubicBezTo>
                <a:cubicBezTo>
                  <a:pt x="1667" y="1486"/>
                  <a:pt x="1666" y="1483"/>
                  <a:pt x="1665" y="1480"/>
                </a:cubicBezTo>
                <a:cubicBezTo>
                  <a:pt x="1665" y="1477"/>
                  <a:pt x="1665" y="1477"/>
                  <a:pt x="1665" y="1477"/>
                </a:cubicBezTo>
                <a:cubicBezTo>
                  <a:pt x="1665" y="1475"/>
                  <a:pt x="1665" y="1473"/>
                  <a:pt x="1665" y="1471"/>
                </a:cubicBezTo>
                <a:cubicBezTo>
                  <a:pt x="1665" y="1471"/>
                  <a:pt x="1665" y="1471"/>
                  <a:pt x="1665" y="1471"/>
                </a:cubicBezTo>
                <a:cubicBezTo>
                  <a:pt x="1664" y="1463"/>
                  <a:pt x="1662" y="1454"/>
                  <a:pt x="1663" y="1445"/>
                </a:cubicBezTo>
                <a:cubicBezTo>
                  <a:pt x="1663" y="1443"/>
                  <a:pt x="1663" y="1443"/>
                  <a:pt x="1663" y="1443"/>
                </a:cubicBezTo>
                <a:cubicBezTo>
                  <a:pt x="1662" y="1440"/>
                  <a:pt x="1663" y="1437"/>
                  <a:pt x="1665" y="1435"/>
                </a:cubicBezTo>
                <a:cubicBezTo>
                  <a:pt x="1667" y="1433"/>
                  <a:pt x="1669" y="1431"/>
                  <a:pt x="1673" y="1429"/>
                </a:cubicBezTo>
                <a:cubicBezTo>
                  <a:pt x="1676" y="1427"/>
                  <a:pt x="1680" y="1426"/>
                  <a:pt x="1684" y="1425"/>
                </a:cubicBezTo>
                <a:cubicBezTo>
                  <a:pt x="1684" y="1425"/>
                  <a:pt x="1684" y="1425"/>
                  <a:pt x="1684" y="1425"/>
                </a:cubicBezTo>
                <a:cubicBezTo>
                  <a:pt x="1685" y="1425"/>
                  <a:pt x="1685" y="1425"/>
                  <a:pt x="1685" y="1425"/>
                </a:cubicBezTo>
                <a:cubicBezTo>
                  <a:pt x="1687" y="1424"/>
                  <a:pt x="1689" y="1424"/>
                  <a:pt x="1690" y="1424"/>
                </a:cubicBezTo>
                <a:cubicBezTo>
                  <a:pt x="1691" y="1424"/>
                  <a:pt x="1692" y="1424"/>
                  <a:pt x="1693" y="1424"/>
                </a:cubicBezTo>
                <a:cubicBezTo>
                  <a:pt x="1700" y="1423"/>
                  <a:pt x="1708" y="1423"/>
                  <a:pt x="1716" y="1423"/>
                </a:cubicBezTo>
                <a:cubicBezTo>
                  <a:pt x="1769" y="1423"/>
                  <a:pt x="1769" y="1423"/>
                  <a:pt x="1769" y="1423"/>
                </a:cubicBezTo>
                <a:cubicBezTo>
                  <a:pt x="1772" y="1423"/>
                  <a:pt x="1775" y="1423"/>
                  <a:pt x="1778" y="1424"/>
                </a:cubicBezTo>
                <a:cubicBezTo>
                  <a:pt x="1792" y="1425"/>
                  <a:pt x="1808" y="1429"/>
                  <a:pt x="1810" y="1442"/>
                </a:cubicBezTo>
                <a:cubicBezTo>
                  <a:pt x="1814" y="1454"/>
                  <a:pt x="1815" y="1466"/>
                  <a:pt x="1817" y="1478"/>
                </a:cubicBezTo>
                <a:cubicBezTo>
                  <a:pt x="1818" y="1480"/>
                  <a:pt x="1818" y="1480"/>
                  <a:pt x="1818" y="1480"/>
                </a:cubicBezTo>
                <a:cubicBezTo>
                  <a:pt x="1818" y="1482"/>
                  <a:pt x="1818" y="1485"/>
                  <a:pt x="1817" y="1487"/>
                </a:cubicBezTo>
                <a:cubicBezTo>
                  <a:pt x="1817" y="1487"/>
                  <a:pt x="1817" y="1488"/>
                  <a:pt x="1816" y="1488"/>
                </a:cubicBezTo>
                <a:cubicBezTo>
                  <a:pt x="1816" y="1488"/>
                  <a:pt x="1816" y="1488"/>
                  <a:pt x="1816" y="1488"/>
                </a:cubicBezTo>
                <a:cubicBezTo>
                  <a:pt x="1816" y="1488"/>
                  <a:pt x="1816" y="1488"/>
                  <a:pt x="1816" y="1488"/>
                </a:cubicBezTo>
                <a:cubicBezTo>
                  <a:pt x="1813" y="1494"/>
                  <a:pt x="1807" y="1497"/>
                  <a:pt x="1799" y="1499"/>
                </a:cubicBezTo>
                <a:cubicBezTo>
                  <a:pt x="1798" y="1499"/>
                  <a:pt x="1798" y="1499"/>
                  <a:pt x="1797" y="1499"/>
                </a:cubicBezTo>
                <a:cubicBezTo>
                  <a:pt x="1796" y="1500"/>
                  <a:pt x="1796" y="1500"/>
                  <a:pt x="1795" y="1500"/>
                </a:cubicBezTo>
                <a:cubicBezTo>
                  <a:pt x="1794" y="1500"/>
                  <a:pt x="1794" y="1500"/>
                  <a:pt x="1793" y="1500"/>
                </a:cubicBezTo>
                <a:cubicBezTo>
                  <a:pt x="1792" y="1500"/>
                  <a:pt x="1790" y="1501"/>
                  <a:pt x="1789" y="1501"/>
                </a:cubicBezTo>
                <a:cubicBezTo>
                  <a:pt x="1771" y="1503"/>
                  <a:pt x="1750" y="1501"/>
                  <a:pt x="1741" y="1501"/>
                </a:cubicBezTo>
                <a:cubicBezTo>
                  <a:pt x="1707" y="1501"/>
                  <a:pt x="1707" y="1501"/>
                  <a:pt x="1707" y="1501"/>
                </a:cubicBezTo>
                <a:cubicBezTo>
                  <a:pt x="1704" y="1501"/>
                  <a:pt x="1702" y="1501"/>
                  <a:pt x="1699" y="1501"/>
                </a:cubicBezTo>
                <a:cubicBezTo>
                  <a:pt x="1697" y="1501"/>
                  <a:pt x="1695" y="1500"/>
                  <a:pt x="1693" y="1500"/>
                </a:cubicBezTo>
                <a:cubicBezTo>
                  <a:pt x="1693" y="1500"/>
                  <a:pt x="1692" y="1500"/>
                  <a:pt x="1692" y="1500"/>
                </a:cubicBezTo>
                <a:cubicBezTo>
                  <a:pt x="1691" y="1500"/>
                  <a:pt x="1691" y="1500"/>
                  <a:pt x="1691" y="1500"/>
                </a:cubicBezTo>
                <a:cubicBezTo>
                  <a:pt x="1689" y="1499"/>
                  <a:pt x="1687" y="1499"/>
                  <a:pt x="1685" y="1498"/>
                </a:cubicBezTo>
                <a:cubicBezTo>
                  <a:pt x="1684" y="1498"/>
                  <a:pt x="1684" y="1497"/>
                  <a:pt x="1683" y="1497"/>
                </a:cubicBezTo>
                <a:cubicBezTo>
                  <a:pt x="1681" y="1496"/>
                  <a:pt x="1680" y="1496"/>
                  <a:pt x="1678" y="1495"/>
                </a:cubicBezTo>
                <a:cubicBezTo>
                  <a:pt x="1676" y="1494"/>
                  <a:pt x="1674" y="1492"/>
                  <a:pt x="1672" y="1491"/>
                </a:cubicBezTo>
                <a:cubicBezTo>
                  <a:pt x="1672" y="1491"/>
                  <a:pt x="1671" y="1490"/>
                  <a:pt x="1671" y="1490"/>
                </a:cubicBezTo>
                <a:close/>
                <a:moveTo>
                  <a:pt x="1680" y="1622"/>
                </a:moveTo>
                <a:cubicBezTo>
                  <a:pt x="1677" y="1618"/>
                  <a:pt x="1676" y="1615"/>
                  <a:pt x="1675" y="1612"/>
                </a:cubicBezTo>
                <a:cubicBezTo>
                  <a:pt x="1675" y="1607"/>
                  <a:pt x="1675" y="1607"/>
                  <a:pt x="1675" y="1607"/>
                </a:cubicBezTo>
                <a:cubicBezTo>
                  <a:pt x="1675" y="1607"/>
                  <a:pt x="1675" y="1607"/>
                  <a:pt x="1675" y="1607"/>
                </a:cubicBezTo>
                <a:cubicBezTo>
                  <a:pt x="1674" y="1593"/>
                  <a:pt x="1673" y="1580"/>
                  <a:pt x="1672" y="1567"/>
                </a:cubicBezTo>
                <a:cubicBezTo>
                  <a:pt x="1672" y="1567"/>
                  <a:pt x="1672" y="1567"/>
                  <a:pt x="1672" y="1567"/>
                </a:cubicBezTo>
                <a:cubicBezTo>
                  <a:pt x="1672" y="1566"/>
                  <a:pt x="1672" y="1566"/>
                  <a:pt x="1672" y="1566"/>
                </a:cubicBezTo>
                <a:cubicBezTo>
                  <a:pt x="1672" y="1565"/>
                  <a:pt x="1672" y="1564"/>
                  <a:pt x="1672" y="1563"/>
                </a:cubicBezTo>
                <a:cubicBezTo>
                  <a:pt x="1675" y="1535"/>
                  <a:pt x="1735" y="1542"/>
                  <a:pt x="1754" y="1542"/>
                </a:cubicBezTo>
                <a:cubicBezTo>
                  <a:pt x="1776" y="1542"/>
                  <a:pt x="1819" y="1537"/>
                  <a:pt x="1832" y="1559"/>
                </a:cubicBezTo>
                <a:cubicBezTo>
                  <a:pt x="1833" y="1561"/>
                  <a:pt x="1835" y="1563"/>
                  <a:pt x="1835" y="1565"/>
                </a:cubicBezTo>
                <a:cubicBezTo>
                  <a:pt x="1836" y="1568"/>
                  <a:pt x="1836" y="1568"/>
                  <a:pt x="1836" y="1568"/>
                </a:cubicBezTo>
                <a:cubicBezTo>
                  <a:pt x="1836" y="1568"/>
                  <a:pt x="1836" y="1568"/>
                  <a:pt x="1836" y="1568"/>
                </a:cubicBezTo>
                <a:cubicBezTo>
                  <a:pt x="1837" y="1575"/>
                  <a:pt x="1838" y="1581"/>
                  <a:pt x="1840" y="1588"/>
                </a:cubicBezTo>
                <a:cubicBezTo>
                  <a:pt x="1844" y="1611"/>
                  <a:pt x="1844" y="1611"/>
                  <a:pt x="1844" y="1611"/>
                </a:cubicBezTo>
                <a:cubicBezTo>
                  <a:pt x="1845" y="1615"/>
                  <a:pt x="1844" y="1618"/>
                  <a:pt x="1843" y="1621"/>
                </a:cubicBezTo>
                <a:cubicBezTo>
                  <a:pt x="1842" y="1623"/>
                  <a:pt x="1840" y="1625"/>
                  <a:pt x="1838" y="1627"/>
                </a:cubicBezTo>
                <a:cubicBezTo>
                  <a:pt x="1838" y="1627"/>
                  <a:pt x="1837" y="1628"/>
                  <a:pt x="1836" y="1629"/>
                </a:cubicBezTo>
                <a:cubicBezTo>
                  <a:pt x="1836" y="1629"/>
                  <a:pt x="1835" y="1629"/>
                  <a:pt x="1835" y="1630"/>
                </a:cubicBezTo>
                <a:cubicBezTo>
                  <a:pt x="1835" y="1630"/>
                  <a:pt x="1834" y="1630"/>
                  <a:pt x="1834" y="1630"/>
                </a:cubicBezTo>
                <a:cubicBezTo>
                  <a:pt x="1833" y="1631"/>
                  <a:pt x="1832" y="1631"/>
                  <a:pt x="1830" y="1632"/>
                </a:cubicBezTo>
                <a:cubicBezTo>
                  <a:pt x="1829" y="1633"/>
                  <a:pt x="1828" y="1633"/>
                  <a:pt x="1827" y="1634"/>
                </a:cubicBezTo>
                <a:cubicBezTo>
                  <a:pt x="1826" y="1634"/>
                  <a:pt x="1825" y="1634"/>
                  <a:pt x="1825" y="1634"/>
                </a:cubicBezTo>
                <a:cubicBezTo>
                  <a:pt x="1824" y="1635"/>
                  <a:pt x="1823" y="1635"/>
                  <a:pt x="1822" y="1635"/>
                </a:cubicBezTo>
                <a:cubicBezTo>
                  <a:pt x="1821" y="1635"/>
                  <a:pt x="1820" y="1636"/>
                  <a:pt x="1819" y="1636"/>
                </a:cubicBezTo>
                <a:cubicBezTo>
                  <a:pt x="1818" y="1636"/>
                  <a:pt x="1818" y="1636"/>
                  <a:pt x="1818" y="1636"/>
                </a:cubicBezTo>
                <a:cubicBezTo>
                  <a:pt x="1816" y="1636"/>
                  <a:pt x="1814" y="1637"/>
                  <a:pt x="1812" y="1637"/>
                </a:cubicBezTo>
                <a:cubicBezTo>
                  <a:pt x="1809" y="1637"/>
                  <a:pt x="1807" y="1637"/>
                  <a:pt x="1805" y="1637"/>
                </a:cubicBezTo>
                <a:cubicBezTo>
                  <a:pt x="1805" y="1637"/>
                  <a:pt x="1805" y="1637"/>
                  <a:pt x="1805" y="1637"/>
                </a:cubicBezTo>
                <a:cubicBezTo>
                  <a:pt x="1804" y="1637"/>
                  <a:pt x="1804" y="1637"/>
                  <a:pt x="1804" y="1637"/>
                </a:cubicBezTo>
                <a:cubicBezTo>
                  <a:pt x="1804" y="1637"/>
                  <a:pt x="1804" y="1637"/>
                  <a:pt x="1804" y="1637"/>
                </a:cubicBezTo>
                <a:cubicBezTo>
                  <a:pt x="1777" y="1637"/>
                  <a:pt x="1750" y="1637"/>
                  <a:pt x="1722" y="1638"/>
                </a:cubicBezTo>
                <a:cubicBezTo>
                  <a:pt x="1719" y="1638"/>
                  <a:pt x="1716" y="1637"/>
                  <a:pt x="1714" y="1637"/>
                </a:cubicBezTo>
                <a:cubicBezTo>
                  <a:pt x="1713" y="1637"/>
                  <a:pt x="1712" y="1637"/>
                  <a:pt x="1712" y="1637"/>
                </a:cubicBezTo>
                <a:cubicBezTo>
                  <a:pt x="1709" y="1636"/>
                  <a:pt x="1707" y="1636"/>
                  <a:pt x="1705" y="1636"/>
                </a:cubicBezTo>
                <a:cubicBezTo>
                  <a:pt x="1705" y="1636"/>
                  <a:pt x="1705" y="1636"/>
                  <a:pt x="1705" y="1636"/>
                </a:cubicBezTo>
                <a:cubicBezTo>
                  <a:pt x="1704" y="1635"/>
                  <a:pt x="1704" y="1635"/>
                  <a:pt x="1704" y="1635"/>
                </a:cubicBezTo>
                <a:cubicBezTo>
                  <a:pt x="1701" y="1635"/>
                  <a:pt x="1699" y="1634"/>
                  <a:pt x="1697" y="1633"/>
                </a:cubicBezTo>
                <a:cubicBezTo>
                  <a:pt x="1696" y="1633"/>
                  <a:pt x="1695" y="1632"/>
                  <a:pt x="1695" y="1632"/>
                </a:cubicBezTo>
                <a:cubicBezTo>
                  <a:pt x="1693" y="1632"/>
                  <a:pt x="1692" y="1631"/>
                  <a:pt x="1691" y="1630"/>
                </a:cubicBezTo>
                <a:cubicBezTo>
                  <a:pt x="1691" y="1630"/>
                  <a:pt x="1690" y="1630"/>
                  <a:pt x="1690" y="1630"/>
                </a:cubicBezTo>
                <a:cubicBezTo>
                  <a:pt x="1686" y="1628"/>
                  <a:pt x="1682" y="1625"/>
                  <a:pt x="1680" y="1622"/>
                </a:cubicBezTo>
                <a:close/>
                <a:moveTo>
                  <a:pt x="1875" y="1783"/>
                </a:moveTo>
                <a:cubicBezTo>
                  <a:pt x="1873" y="1787"/>
                  <a:pt x="1870" y="1790"/>
                  <a:pt x="1866" y="1793"/>
                </a:cubicBezTo>
                <a:cubicBezTo>
                  <a:pt x="1862" y="1796"/>
                  <a:pt x="1858" y="1799"/>
                  <a:pt x="1852" y="1800"/>
                </a:cubicBezTo>
                <a:cubicBezTo>
                  <a:pt x="1846" y="1802"/>
                  <a:pt x="1840" y="1803"/>
                  <a:pt x="1833" y="1803"/>
                </a:cubicBezTo>
                <a:cubicBezTo>
                  <a:pt x="1815" y="1803"/>
                  <a:pt x="1815" y="1803"/>
                  <a:pt x="1815" y="1803"/>
                </a:cubicBezTo>
                <a:cubicBezTo>
                  <a:pt x="1814" y="1803"/>
                  <a:pt x="1814" y="1803"/>
                  <a:pt x="1814" y="1803"/>
                </a:cubicBezTo>
                <a:cubicBezTo>
                  <a:pt x="1789" y="1803"/>
                  <a:pt x="1765" y="1803"/>
                  <a:pt x="1740" y="1803"/>
                </a:cubicBezTo>
                <a:cubicBezTo>
                  <a:pt x="1737" y="1803"/>
                  <a:pt x="1734" y="1803"/>
                  <a:pt x="1731" y="1803"/>
                </a:cubicBezTo>
                <a:cubicBezTo>
                  <a:pt x="1730" y="1803"/>
                  <a:pt x="1730" y="1803"/>
                  <a:pt x="1729" y="1803"/>
                </a:cubicBezTo>
                <a:cubicBezTo>
                  <a:pt x="1726" y="1802"/>
                  <a:pt x="1724" y="1802"/>
                  <a:pt x="1721" y="1801"/>
                </a:cubicBezTo>
                <a:cubicBezTo>
                  <a:pt x="1721" y="1801"/>
                  <a:pt x="1721" y="1801"/>
                  <a:pt x="1720" y="1801"/>
                </a:cubicBezTo>
                <a:cubicBezTo>
                  <a:pt x="1720" y="1801"/>
                  <a:pt x="1720" y="1801"/>
                  <a:pt x="1720" y="1801"/>
                </a:cubicBezTo>
                <a:cubicBezTo>
                  <a:pt x="1709" y="1798"/>
                  <a:pt x="1698" y="1792"/>
                  <a:pt x="1692" y="1783"/>
                </a:cubicBezTo>
                <a:cubicBezTo>
                  <a:pt x="1692" y="1783"/>
                  <a:pt x="1692" y="1783"/>
                  <a:pt x="1692" y="1783"/>
                </a:cubicBezTo>
                <a:cubicBezTo>
                  <a:pt x="1692" y="1783"/>
                  <a:pt x="1692" y="1783"/>
                  <a:pt x="1692" y="1783"/>
                </a:cubicBezTo>
                <a:cubicBezTo>
                  <a:pt x="1691" y="1782"/>
                  <a:pt x="1690" y="1780"/>
                  <a:pt x="1690" y="1778"/>
                </a:cubicBezTo>
                <a:cubicBezTo>
                  <a:pt x="1689" y="1777"/>
                  <a:pt x="1689" y="1776"/>
                  <a:pt x="1689" y="1775"/>
                </a:cubicBezTo>
                <a:cubicBezTo>
                  <a:pt x="1688" y="1774"/>
                  <a:pt x="1688" y="1773"/>
                  <a:pt x="1688" y="1772"/>
                </a:cubicBezTo>
                <a:cubicBezTo>
                  <a:pt x="1688" y="1772"/>
                  <a:pt x="1688" y="1771"/>
                  <a:pt x="1688" y="1771"/>
                </a:cubicBezTo>
                <a:cubicBezTo>
                  <a:pt x="1687" y="1769"/>
                  <a:pt x="1687" y="1769"/>
                  <a:pt x="1687" y="1769"/>
                </a:cubicBezTo>
                <a:cubicBezTo>
                  <a:pt x="1687" y="1769"/>
                  <a:pt x="1687" y="1769"/>
                  <a:pt x="1687" y="1769"/>
                </a:cubicBezTo>
                <a:cubicBezTo>
                  <a:pt x="1686" y="1756"/>
                  <a:pt x="1685" y="1742"/>
                  <a:pt x="1684" y="1728"/>
                </a:cubicBezTo>
                <a:cubicBezTo>
                  <a:pt x="1684" y="1725"/>
                  <a:pt x="1684" y="1723"/>
                  <a:pt x="1684" y="1721"/>
                </a:cubicBezTo>
                <a:cubicBezTo>
                  <a:pt x="1683" y="1714"/>
                  <a:pt x="1683" y="1714"/>
                  <a:pt x="1683" y="1714"/>
                </a:cubicBezTo>
                <a:cubicBezTo>
                  <a:pt x="1683" y="1713"/>
                  <a:pt x="1683" y="1713"/>
                  <a:pt x="1683" y="1713"/>
                </a:cubicBezTo>
                <a:cubicBezTo>
                  <a:pt x="1683" y="1711"/>
                  <a:pt x="1683" y="1710"/>
                  <a:pt x="1684" y="1709"/>
                </a:cubicBezTo>
                <a:cubicBezTo>
                  <a:pt x="1684" y="1708"/>
                  <a:pt x="1684" y="1707"/>
                  <a:pt x="1684" y="1707"/>
                </a:cubicBezTo>
                <a:cubicBezTo>
                  <a:pt x="1685" y="1706"/>
                  <a:pt x="1685" y="1705"/>
                  <a:pt x="1685" y="1704"/>
                </a:cubicBezTo>
                <a:cubicBezTo>
                  <a:pt x="1686" y="1703"/>
                  <a:pt x="1686" y="1703"/>
                  <a:pt x="1686" y="1702"/>
                </a:cubicBezTo>
                <a:cubicBezTo>
                  <a:pt x="1686" y="1702"/>
                  <a:pt x="1686" y="1702"/>
                  <a:pt x="1686" y="1702"/>
                </a:cubicBezTo>
                <a:cubicBezTo>
                  <a:pt x="1687" y="1700"/>
                  <a:pt x="1688" y="1699"/>
                  <a:pt x="1689" y="1698"/>
                </a:cubicBezTo>
                <a:cubicBezTo>
                  <a:pt x="1690" y="1697"/>
                  <a:pt x="1691" y="1697"/>
                  <a:pt x="1691" y="1696"/>
                </a:cubicBezTo>
                <a:cubicBezTo>
                  <a:pt x="1692" y="1695"/>
                  <a:pt x="1693" y="1695"/>
                  <a:pt x="1694" y="1694"/>
                </a:cubicBezTo>
                <a:cubicBezTo>
                  <a:pt x="1695" y="1694"/>
                  <a:pt x="1695" y="1693"/>
                  <a:pt x="1695" y="1693"/>
                </a:cubicBezTo>
                <a:cubicBezTo>
                  <a:pt x="1695" y="1693"/>
                  <a:pt x="1696" y="1693"/>
                  <a:pt x="1696" y="1693"/>
                </a:cubicBezTo>
                <a:cubicBezTo>
                  <a:pt x="1698" y="1692"/>
                  <a:pt x="1699" y="1691"/>
                  <a:pt x="1701" y="1690"/>
                </a:cubicBezTo>
                <a:cubicBezTo>
                  <a:pt x="1702" y="1690"/>
                  <a:pt x="1702" y="1689"/>
                  <a:pt x="1702" y="1689"/>
                </a:cubicBezTo>
                <a:cubicBezTo>
                  <a:pt x="1703" y="1689"/>
                  <a:pt x="1703" y="1689"/>
                  <a:pt x="1703" y="1689"/>
                </a:cubicBezTo>
                <a:cubicBezTo>
                  <a:pt x="1704" y="1689"/>
                  <a:pt x="1704" y="1689"/>
                  <a:pt x="1705" y="1688"/>
                </a:cubicBezTo>
                <a:cubicBezTo>
                  <a:pt x="1706" y="1688"/>
                  <a:pt x="1708" y="1687"/>
                  <a:pt x="1709" y="1687"/>
                </a:cubicBezTo>
                <a:cubicBezTo>
                  <a:pt x="1710" y="1687"/>
                  <a:pt x="1711" y="1686"/>
                  <a:pt x="1712" y="1686"/>
                </a:cubicBezTo>
                <a:cubicBezTo>
                  <a:pt x="1713" y="1686"/>
                  <a:pt x="1714" y="1686"/>
                  <a:pt x="1714" y="1686"/>
                </a:cubicBezTo>
                <a:cubicBezTo>
                  <a:pt x="1717" y="1685"/>
                  <a:pt x="1720" y="1685"/>
                  <a:pt x="1723" y="1685"/>
                </a:cubicBezTo>
                <a:cubicBezTo>
                  <a:pt x="1723" y="1685"/>
                  <a:pt x="1724" y="1685"/>
                  <a:pt x="1724" y="1685"/>
                </a:cubicBezTo>
                <a:cubicBezTo>
                  <a:pt x="1725" y="1685"/>
                  <a:pt x="1726" y="1685"/>
                  <a:pt x="1727" y="1685"/>
                </a:cubicBezTo>
                <a:cubicBezTo>
                  <a:pt x="1731" y="1685"/>
                  <a:pt x="1731" y="1685"/>
                  <a:pt x="1731" y="1685"/>
                </a:cubicBezTo>
                <a:cubicBezTo>
                  <a:pt x="1736" y="1684"/>
                  <a:pt x="1740" y="1684"/>
                  <a:pt x="1744" y="1684"/>
                </a:cubicBezTo>
                <a:cubicBezTo>
                  <a:pt x="1748" y="1684"/>
                  <a:pt x="1752" y="1684"/>
                  <a:pt x="1755" y="1684"/>
                </a:cubicBezTo>
                <a:cubicBezTo>
                  <a:pt x="1791" y="1684"/>
                  <a:pt x="1791" y="1684"/>
                  <a:pt x="1791" y="1684"/>
                </a:cubicBezTo>
                <a:cubicBezTo>
                  <a:pt x="1801" y="1684"/>
                  <a:pt x="1811" y="1684"/>
                  <a:pt x="1820" y="1685"/>
                </a:cubicBezTo>
                <a:cubicBezTo>
                  <a:pt x="1822" y="1685"/>
                  <a:pt x="1823" y="1685"/>
                  <a:pt x="1825" y="1685"/>
                </a:cubicBezTo>
                <a:cubicBezTo>
                  <a:pt x="1826" y="1686"/>
                  <a:pt x="1827" y="1686"/>
                  <a:pt x="1828" y="1686"/>
                </a:cubicBezTo>
                <a:cubicBezTo>
                  <a:pt x="1828" y="1686"/>
                  <a:pt x="1829" y="1686"/>
                  <a:pt x="1830" y="1686"/>
                </a:cubicBezTo>
                <a:cubicBezTo>
                  <a:pt x="1830" y="1686"/>
                  <a:pt x="1831" y="1686"/>
                  <a:pt x="1831" y="1687"/>
                </a:cubicBezTo>
                <a:cubicBezTo>
                  <a:pt x="1832" y="1687"/>
                  <a:pt x="1832" y="1687"/>
                  <a:pt x="1833" y="1687"/>
                </a:cubicBezTo>
                <a:cubicBezTo>
                  <a:pt x="1834" y="1687"/>
                  <a:pt x="1836" y="1688"/>
                  <a:pt x="1838" y="1689"/>
                </a:cubicBezTo>
                <a:cubicBezTo>
                  <a:pt x="1839" y="1689"/>
                  <a:pt x="1840" y="1689"/>
                  <a:pt x="1841" y="1690"/>
                </a:cubicBezTo>
                <a:cubicBezTo>
                  <a:pt x="1842" y="1690"/>
                  <a:pt x="1842" y="1690"/>
                  <a:pt x="1843" y="1691"/>
                </a:cubicBezTo>
                <a:cubicBezTo>
                  <a:pt x="1845" y="1691"/>
                  <a:pt x="1846" y="1692"/>
                  <a:pt x="1847" y="1693"/>
                </a:cubicBezTo>
                <a:cubicBezTo>
                  <a:pt x="1852" y="1695"/>
                  <a:pt x="1856" y="1698"/>
                  <a:pt x="1859" y="1702"/>
                </a:cubicBezTo>
                <a:cubicBezTo>
                  <a:pt x="1862" y="1705"/>
                  <a:pt x="1864" y="1709"/>
                  <a:pt x="1865" y="1713"/>
                </a:cubicBezTo>
                <a:cubicBezTo>
                  <a:pt x="1870" y="1736"/>
                  <a:pt x="1870" y="1736"/>
                  <a:pt x="1870" y="1736"/>
                </a:cubicBezTo>
                <a:cubicBezTo>
                  <a:pt x="1871" y="1746"/>
                  <a:pt x="1873" y="1755"/>
                  <a:pt x="1875" y="1764"/>
                </a:cubicBezTo>
                <a:cubicBezTo>
                  <a:pt x="1875" y="1764"/>
                  <a:pt x="1875" y="1764"/>
                  <a:pt x="1875" y="1764"/>
                </a:cubicBezTo>
                <a:cubicBezTo>
                  <a:pt x="1876" y="1770"/>
                  <a:pt x="1876" y="1770"/>
                  <a:pt x="1876" y="1770"/>
                </a:cubicBezTo>
                <a:cubicBezTo>
                  <a:pt x="1877" y="1775"/>
                  <a:pt x="1877" y="1779"/>
                  <a:pt x="1875" y="1783"/>
                </a:cubicBezTo>
                <a:close/>
                <a:moveTo>
                  <a:pt x="2041" y="1494"/>
                </a:moveTo>
                <a:cubicBezTo>
                  <a:pt x="2036" y="1492"/>
                  <a:pt x="2032" y="1490"/>
                  <a:pt x="2030" y="1487"/>
                </a:cubicBezTo>
                <a:cubicBezTo>
                  <a:pt x="2027" y="1485"/>
                  <a:pt x="2024" y="1482"/>
                  <a:pt x="2023" y="1479"/>
                </a:cubicBezTo>
                <a:cubicBezTo>
                  <a:pt x="2021" y="1474"/>
                  <a:pt x="2021" y="1474"/>
                  <a:pt x="2021" y="1474"/>
                </a:cubicBezTo>
                <a:cubicBezTo>
                  <a:pt x="2019" y="1467"/>
                  <a:pt x="2016" y="1460"/>
                  <a:pt x="2014" y="1453"/>
                </a:cubicBezTo>
                <a:cubicBezTo>
                  <a:pt x="2012" y="1449"/>
                  <a:pt x="2009" y="1444"/>
                  <a:pt x="2009" y="1439"/>
                </a:cubicBezTo>
                <a:cubicBezTo>
                  <a:pt x="2009" y="1439"/>
                  <a:pt x="2009" y="1438"/>
                  <a:pt x="2009" y="1437"/>
                </a:cubicBezTo>
                <a:cubicBezTo>
                  <a:pt x="2009" y="1437"/>
                  <a:pt x="2009" y="1437"/>
                  <a:pt x="2009" y="1437"/>
                </a:cubicBezTo>
                <a:cubicBezTo>
                  <a:pt x="2009" y="1436"/>
                  <a:pt x="2009" y="1436"/>
                  <a:pt x="2009" y="1436"/>
                </a:cubicBezTo>
                <a:cubicBezTo>
                  <a:pt x="2010" y="1435"/>
                  <a:pt x="2009" y="1435"/>
                  <a:pt x="2010" y="1434"/>
                </a:cubicBezTo>
                <a:cubicBezTo>
                  <a:pt x="2010" y="1434"/>
                  <a:pt x="2010" y="1434"/>
                  <a:pt x="2010" y="1434"/>
                </a:cubicBezTo>
                <a:cubicBezTo>
                  <a:pt x="2016" y="1421"/>
                  <a:pt x="2039" y="1423"/>
                  <a:pt x="2051" y="1423"/>
                </a:cubicBezTo>
                <a:cubicBezTo>
                  <a:pt x="2110" y="1422"/>
                  <a:pt x="2110" y="1422"/>
                  <a:pt x="2110" y="1422"/>
                </a:cubicBezTo>
                <a:cubicBezTo>
                  <a:pt x="2115" y="1422"/>
                  <a:pt x="2120" y="1423"/>
                  <a:pt x="2125" y="1424"/>
                </a:cubicBezTo>
                <a:cubicBezTo>
                  <a:pt x="2126" y="1424"/>
                  <a:pt x="2128" y="1424"/>
                  <a:pt x="2129" y="1425"/>
                </a:cubicBezTo>
                <a:cubicBezTo>
                  <a:pt x="2129" y="1425"/>
                  <a:pt x="2130" y="1425"/>
                  <a:pt x="2131" y="1425"/>
                </a:cubicBezTo>
                <a:cubicBezTo>
                  <a:pt x="2132" y="1425"/>
                  <a:pt x="2133" y="1426"/>
                  <a:pt x="2133" y="1426"/>
                </a:cubicBezTo>
                <a:cubicBezTo>
                  <a:pt x="2135" y="1426"/>
                  <a:pt x="2137" y="1427"/>
                  <a:pt x="2138" y="1428"/>
                </a:cubicBezTo>
                <a:cubicBezTo>
                  <a:pt x="2139" y="1428"/>
                  <a:pt x="2139" y="1428"/>
                  <a:pt x="2139" y="1428"/>
                </a:cubicBezTo>
                <a:cubicBezTo>
                  <a:pt x="2139" y="1428"/>
                  <a:pt x="2139" y="1428"/>
                  <a:pt x="2140" y="1428"/>
                </a:cubicBezTo>
                <a:cubicBezTo>
                  <a:pt x="2141" y="1429"/>
                  <a:pt x="2142" y="1429"/>
                  <a:pt x="2144" y="1430"/>
                </a:cubicBezTo>
                <a:cubicBezTo>
                  <a:pt x="2145" y="1431"/>
                  <a:pt x="2146" y="1431"/>
                  <a:pt x="2146" y="1431"/>
                </a:cubicBezTo>
                <a:cubicBezTo>
                  <a:pt x="2147" y="1432"/>
                  <a:pt x="2147" y="1432"/>
                  <a:pt x="2148" y="1432"/>
                </a:cubicBezTo>
                <a:cubicBezTo>
                  <a:pt x="2148" y="1433"/>
                  <a:pt x="2148" y="1433"/>
                  <a:pt x="2149" y="1433"/>
                </a:cubicBezTo>
                <a:cubicBezTo>
                  <a:pt x="2149" y="1433"/>
                  <a:pt x="2150" y="1434"/>
                  <a:pt x="2150" y="1434"/>
                </a:cubicBezTo>
                <a:cubicBezTo>
                  <a:pt x="2153" y="1436"/>
                  <a:pt x="2156" y="1439"/>
                  <a:pt x="2157" y="1442"/>
                </a:cubicBezTo>
                <a:cubicBezTo>
                  <a:pt x="2157" y="1442"/>
                  <a:pt x="2157" y="1442"/>
                  <a:pt x="2157" y="1442"/>
                </a:cubicBezTo>
                <a:cubicBezTo>
                  <a:pt x="2163" y="1450"/>
                  <a:pt x="2166" y="1460"/>
                  <a:pt x="2170" y="1468"/>
                </a:cubicBezTo>
                <a:cubicBezTo>
                  <a:pt x="2170" y="1468"/>
                  <a:pt x="2170" y="1468"/>
                  <a:pt x="2170" y="1468"/>
                </a:cubicBezTo>
                <a:cubicBezTo>
                  <a:pt x="2172" y="1473"/>
                  <a:pt x="2176" y="1477"/>
                  <a:pt x="2177" y="1482"/>
                </a:cubicBezTo>
                <a:cubicBezTo>
                  <a:pt x="2177" y="1482"/>
                  <a:pt x="2177" y="1483"/>
                  <a:pt x="2177" y="1483"/>
                </a:cubicBezTo>
                <a:cubicBezTo>
                  <a:pt x="2177" y="1483"/>
                  <a:pt x="2177" y="1483"/>
                  <a:pt x="2177" y="1483"/>
                </a:cubicBezTo>
                <a:cubicBezTo>
                  <a:pt x="2178" y="1492"/>
                  <a:pt x="2170" y="1496"/>
                  <a:pt x="2162" y="1498"/>
                </a:cubicBezTo>
                <a:cubicBezTo>
                  <a:pt x="2161" y="1498"/>
                  <a:pt x="2161" y="1498"/>
                  <a:pt x="2161" y="1499"/>
                </a:cubicBezTo>
                <a:cubicBezTo>
                  <a:pt x="2160" y="1499"/>
                  <a:pt x="2160" y="1499"/>
                  <a:pt x="2159" y="1499"/>
                </a:cubicBezTo>
                <a:cubicBezTo>
                  <a:pt x="2158" y="1499"/>
                  <a:pt x="2156" y="1499"/>
                  <a:pt x="2155" y="1500"/>
                </a:cubicBezTo>
                <a:cubicBezTo>
                  <a:pt x="2154" y="1500"/>
                  <a:pt x="2154" y="1500"/>
                  <a:pt x="2153" y="1500"/>
                </a:cubicBezTo>
                <a:cubicBezTo>
                  <a:pt x="2152" y="1500"/>
                  <a:pt x="2150" y="1500"/>
                  <a:pt x="2149" y="1500"/>
                </a:cubicBezTo>
                <a:cubicBezTo>
                  <a:pt x="2148" y="1500"/>
                  <a:pt x="2147" y="1500"/>
                  <a:pt x="2146" y="1500"/>
                </a:cubicBezTo>
                <a:cubicBezTo>
                  <a:pt x="2146" y="1500"/>
                  <a:pt x="2146" y="1500"/>
                  <a:pt x="2146" y="1500"/>
                </a:cubicBezTo>
                <a:cubicBezTo>
                  <a:pt x="2144" y="1500"/>
                  <a:pt x="2144" y="1500"/>
                  <a:pt x="2144" y="1500"/>
                </a:cubicBezTo>
                <a:cubicBezTo>
                  <a:pt x="2135" y="1500"/>
                  <a:pt x="2126" y="1500"/>
                  <a:pt x="2117" y="1500"/>
                </a:cubicBezTo>
                <a:cubicBezTo>
                  <a:pt x="2102" y="1500"/>
                  <a:pt x="2087" y="1500"/>
                  <a:pt x="2072" y="1500"/>
                </a:cubicBezTo>
                <a:cubicBezTo>
                  <a:pt x="2061" y="1500"/>
                  <a:pt x="2050" y="1499"/>
                  <a:pt x="2041" y="1494"/>
                </a:cubicBezTo>
                <a:cubicBezTo>
                  <a:pt x="2041" y="1494"/>
                  <a:pt x="2041" y="1494"/>
                  <a:pt x="2041" y="1494"/>
                </a:cubicBezTo>
                <a:close/>
                <a:moveTo>
                  <a:pt x="2079" y="1621"/>
                </a:moveTo>
                <a:cubicBezTo>
                  <a:pt x="2076" y="1617"/>
                  <a:pt x="2073" y="1614"/>
                  <a:pt x="2072" y="1611"/>
                </a:cubicBezTo>
                <a:cubicBezTo>
                  <a:pt x="2064" y="1588"/>
                  <a:pt x="2064" y="1588"/>
                  <a:pt x="2064" y="1588"/>
                </a:cubicBezTo>
                <a:cubicBezTo>
                  <a:pt x="2061" y="1581"/>
                  <a:pt x="2059" y="1575"/>
                  <a:pt x="2056" y="1568"/>
                </a:cubicBezTo>
                <a:cubicBezTo>
                  <a:pt x="2056" y="1568"/>
                  <a:pt x="2056" y="1568"/>
                  <a:pt x="2056" y="1568"/>
                </a:cubicBezTo>
                <a:cubicBezTo>
                  <a:pt x="2055" y="1565"/>
                  <a:pt x="2055" y="1565"/>
                  <a:pt x="2055" y="1565"/>
                </a:cubicBezTo>
                <a:cubicBezTo>
                  <a:pt x="2054" y="1561"/>
                  <a:pt x="2054" y="1558"/>
                  <a:pt x="2055" y="1555"/>
                </a:cubicBezTo>
                <a:cubicBezTo>
                  <a:pt x="2056" y="1553"/>
                  <a:pt x="2057" y="1552"/>
                  <a:pt x="2059" y="1550"/>
                </a:cubicBezTo>
                <a:cubicBezTo>
                  <a:pt x="2059" y="1550"/>
                  <a:pt x="2059" y="1550"/>
                  <a:pt x="2060" y="1549"/>
                </a:cubicBezTo>
                <a:cubicBezTo>
                  <a:pt x="2060" y="1549"/>
                  <a:pt x="2061" y="1548"/>
                  <a:pt x="2061" y="1548"/>
                </a:cubicBezTo>
                <a:cubicBezTo>
                  <a:pt x="2064" y="1546"/>
                  <a:pt x="2068" y="1544"/>
                  <a:pt x="2072" y="1543"/>
                </a:cubicBezTo>
                <a:cubicBezTo>
                  <a:pt x="2076" y="1542"/>
                  <a:pt x="2080" y="1542"/>
                  <a:pt x="2084" y="1541"/>
                </a:cubicBezTo>
                <a:cubicBezTo>
                  <a:pt x="2100" y="1540"/>
                  <a:pt x="2117" y="1541"/>
                  <a:pt x="2125" y="1541"/>
                </a:cubicBezTo>
                <a:cubicBezTo>
                  <a:pt x="2153" y="1541"/>
                  <a:pt x="2202" y="1535"/>
                  <a:pt x="2218" y="1564"/>
                </a:cubicBezTo>
                <a:cubicBezTo>
                  <a:pt x="2218" y="1564"/>
                  <a:pt x="2218" y="1564"/>
                  <a:pt x="2218" y="1564"/>
                </a:cubicBezTo>
                <a:cubicBezTo>
                  <a:pt x="2218" y="1565"/>
                  <a:pt x="2218" y="1565"/>
                  <a:pt x="2218" y="1565"/>
                </a:cubicBezTo>
                <a:cubicBezTo>
                  <a:pt x="2218" y="1565"/>
                  <a:pt x="2218" y="1565"/>
                  <a:pt x="2218" y="1565"/>
                </a:cubicBezTo>
                <a:cubicBezTo>
                  <a:pt x="2224" y="1577"/>
                  <a:pt x="2230" y="1589"/>
                  <a:pt x="2236" y="1601"/>
                </a:cubicBezTo>
                <a:cubicBezTo>
                  <a:pt x="2238" y="1605"/>
                  <a:pt x="2241" y="1609"/>
                  <a:pt x="2242" y="1614"/>
                </a:cubicBezTo>
                <a:cubicBezTo>
                  <a:pt x="2242" y="1614"/>
                  <a:pt x="2242" y="1614"/>
                  <a:pt x="2242" y="1614"/>
                </a:cubicBezTo>
                <a:cubicBezTo>
                  <a:pt x="2242" y="1615"/>
                  <a:pt x="2242" y="1616"/>
                  <a:pt x="2242" y="1617"/>
                </a:cubicBezTo>
                <a:cubicBezTo>
                  <a:pt x="2242" y="1618"/>
                  <a:pt x="2242" y="1619"/>
                  <a:pt x="2242" y="1620"/>
                </a:cubicBezTo>
                <a:cubicBezTo>
                  <a:pt x="2242" y="1620"/>
                  <a:pt x="2242" y="1620"/>
                  <a:pt x="2242" y="1620"/>
                </a:cubicBezTo>
                <a:cubicBezTo>
                  <a:pt x="2242" y="1620"/>
                  <a:pt x="2242" y="1621"/>
                  <a:pt x="2242" y="1621"/>
                </a:cubicBezTo>
                <a:cubicBezTo>
                  <a:pt x="2242" y="1622"/>
                  <a:pt x="2241" y="1623"/>
                  <a:pt x="2240" y="1624"/>
                </a:cubicBezTo>
                <a:cubicBezTo>
                  <a:pt x="2240" y="1625"/>
                  <a:pt x="2240" y="1625"/>
                  <a:pt x="2240" y="1625"/>
                </a:cubicBezTo>
                <a:cubicBezTo>
                  <a:pt x="2239" y="1626"/>
                  <a:pt x="2238" y="1627"/>
                  <a:pt x="2237" y="1628"/>
                </a:cubicBezTo>
                <a:cubicBezTo>
                  <a:pt x="2237" y="1628"/>
                  <a:pt x="2237" y="1628"/>
                  <a:pt x="2237" y="1628"/>
                </a:cubicBezTo>
                <a:cubicBezTo>
                  <a:pt x="2236" y="1629"/>
                  <a:pt x="2236" y="1629"/>
                  <a:pt x="2236" y="1629"/>
                </a:cubicBezTo>
                <a:cubicBezTo>
                  <a:pt x="2235" y="1630"/>
                  <a:pt x="2234" y="1630"/>
                  <a:pt x="2234" y="1630"/>
                </a:cubicBezTo>
                <a:cubicBezTo>
                  <a:pt x="2231" y="1632"/>
                  <a:pt x="2229" y="1633"/>
                  <a:pt x="2225" y="1634"/>
                </a:cubicBezTo>
                <a:cubicBezTo>
                  <a:pt x="2225" y="1634"/>
                  <a:pt x="2224" y="1635"/>
                  <a:pt x="2223" y="1635"/>
                </a:cubicBezTo>
                <a:cubicBezTo>
                  <a:pt x="2221" y="1635"/>
                  <a:pt x="2220" y="1635"/>
                  <a:pt x="2219" y="1636"/>
                </a:cubicBezTo>
                <a:cubicBezTo>
                  <a:pt x="2218" y="1636"/>
                  <a:pt x="2218" y="1636"/>
                  <a:pt x="2217" y="1636"/>
                </a:cubicBezTo>
                <a:cubicBezTo>
                  <a:pt x="2217" y="1636"/>
                  <a:pt x="2216" y="1636"/>
                  <a:pt x="2216" y="1636"/>
                </a:cubicBezTo>
                <a:cubicBezTo>
                  <a:pt x="2187" y="1639"/>
                  <a:pt x="2156" y="1636"/>
                  <a:pt x="2126" y="1637"/>
                </a:cubicBezTo>
                <a:cubicBezTo>
                  <a:pt x="2123" y="1637"/>
                  <a:pt x="2120" y="1636"/>
                  <a:pt x="2117" y="1636"/>
                </a:cubicBezTo>
                <a:cubicBezTo>
                  <a:pt x="2117" y="1636"/>
                  <a:pt x="2117" y="1636"/>
                  <a:pt x="2117" y="1636"/>
                </a:cubicBezTo>
                <a:cubicBezTo>
                  <a:pt x="2106" y="1635"/>
                  <a:pt x="2095" y="1631"/>
                  <a:pt x="2086" y="1625"/>
                </a:cubicBezTo>
                <a:cubicBezTo>
                  <a:pt x="2083" y="1624"/>
                  <a:pt x="2081" y="1622"/>
                  <a:pt x="2079" y="1621"/>
                </a:cubicBezTo>
                <a:close/>
                <a:moveTo>
                  <a:pt x="2322" y="1782"/>
                </a:moveTo>
                <a:cubicBezTo>
                  <a:pt x="2322" y="1783"/>
                  <a:pt x="2321" y="1783"/>
                  <a:pt x="2321" y="1784"/>
                </a:cubicBezTo>
                <a:cubicBezTo>
                  <a:pt x="2321" y="1785"/>
                  <a:pt x="2321" y="1785"/>
                  <a:pt x="2321" y="1786"/>
                </a:cubicBezTo>
                <a:cubicBezTo>
                  <a:pt x="2320" y="1787"/>
                  <a:pt x="2320" y="1788"/>
                  <a:pt x="2319" y="1789"/>
                </a:cubicBezTo>
                <a:cubicBezTo>
                  <a:pt x="2319" y="1789"/>
                  <a:pt x="2319" y="1789"/>
                  <a:pt x="2319" y="1790"/>
                </a:cubicBezTo>
                <a:cubicBezTo>
                  <a:pt x="2318" y="1790"/>
                  <a:pt x="2318" y="1791"/>
                  <a:pt x="2317" y="1791"/>
                </a:cubicBezTo>
                <a:cubicBezTo>
                  <a:pt x="2317" y="1791"/>
                  <a:pt x="2317" y="1792"/>
                  <a:pt x="2316" y="1792"/>
                </a:cubicBezTo>
                <a:cubicBezTo>
                  <a:pt x="2316" y="1792"/>
                  <a:pt x="2316" y="1792"/>
                  <a:pt x="2316" y="1793"/>
                </a:cubicBezTo>
                <a:cubicBezTo>
                  <a:pt x="2310" y="1798"/>
                  <a:pt x="2303" y="1800"/>
                  <a:pt x="2296" y="1801"/>
                </a:cubicBezTo>
                <a:cubicBezTo>
                  <a:pt x="2296" y="1801"/>
                  <a:pt x="2295" y="1801"/>
                  <a:pt x="2295" y="1801"/>
                </a:cubicBezTo>
                <a:cubicBezTo>
                  <a:pt x="2292" y="1802"/>
                  <a:pt x="2289" y="1802"/>
                  <a:pt x="2286" y="1802"/>
                </a:cubicBezTo>
                <a:cubicBezTo>
                  <a:pt x="2286" y="1802"/>
                  <a:pt x="2286" y="1802"/>
                  <a:pt x="2286" y="1802"/>
                </a:cubicBezTo>
                <a:cubicBezTo>
                  <a:pt x="2283" y="1802"/>
                  <a:pt x="2283" y="1802"/>
                  <a:pt x="2283" y="1802"/>
                </a:cubicBezTo>
                <a:cubicBezTo>
                  <a:pt x="2280" y="1802"/>
                  <a:pt x="2277" y="1802"/>
                  <a:pt x="2275" y="1802"/>
                </a:cubicBezTo>
                <a:cubicBezTo>
                  <a:pt x="2193" y="1802"/>
                  <a:pt x="2193" y="1802"/>
                  <a:pt x="2193" y="1802"/>
                </a:cubicBezTo>
                <a:cubicBezTo>
                  <a:pt x="2190" y="1802"/>
                  <a:pt x="2187" y="1802"/>
                  <a:pt x="2184" y="1802"/>
                </a:cubicBezTo>
                <a:cubicBezTo>
                  <a:pt x="2183" y="1801"/>
                  <a:pt x="2182" y="1801"/>
                  <a:pt x="2181" y="1801"/>
                </a:cubicBezTo>
                <a:cubicBezTo>
                  <a:pt x="2164" y="1799"/>
                  <a:pt x="2144" y="1791"/>
                  <a:pt x="2135" y="1776"/>
                </a:cubicBezTo>
                <a:cubicBezTo>
                  <a:pt x="2133" y="1774"/>
                  <a:pt x="2132" y="1772"/>
                  <a:pt x="2131" y="1770"/>
                </a:cubicBezTo>
                <a:cubicBezTo>
                  <a:pt x="2131" y="1769"/>
                  <a:pt x="2131" y="1769"/>
                  <a:pt x="2131" y="1769"/>
                </a:cubicBezTo>
                <a:cubicBezTo>
                  <a:pt x="2131" y="1769"/>
                  <a:pt x="2131" y="1769"/>
                  <a:pt x="2131" y="1769"/>
                </a:cubicBezTo>
                <a:cubicBezTo>
                  <a:pt x="2127" y="1757"/>
                  <a:pt x="2122" y="1746"/>
                  <a:pt x="2118" y="1734"/>
                </a:cubicBezTo>
                <a:cubicBezTo>
                  <a:pt x="2116" y="1728"/>
                  <a:pt x="2112" y="1720"/>
                  <a:pt x="2110" y="1713"/>
                </a:cubicBezTo>
                <a:cubicBezTo>
                  <a:pt x="2110" y="1713"/>
                  <a:pt x="2110" y="1713"/>
                  <a:pt x="2110" y="1713"/>
                </a:cubicBezTo>
                <a:cubicBezTo>
                  <a:pt x="2110" y="1713"/>
                  <a:pt x="2110" y="1712"/>
                  <a:pt x="2110" y="1712"/>
                </a:cubicBezTo>
                <a:cubicBezTo>
                  <a:pt x="2110" y="1712"/>
                  <a:pt x="2109" y="1711"/>
                  <a:pt x="2109" y="1710"/>
                </a:cubicBezTo>
                <a:cubicBezTo>
                  <a:pt x="2109" y="1707"/>
                  <a:pt x="2109" y="1704"/>
                  <a:pt x="2109" y="1701"/>
                </a:cubicBezTo>
                <a:cubicBezTo>
                  <a:pt x="2110" y="1699"/>
                  <a:pt x="2111" y="1698"/>
                  <a:pt x="2112" y="1696"/>
                </a:cubicBezTo>
                <a:cubicBezTo>
                  <a:pt x="2112" y="1696"/>
                  <a:pt x="2112" y="1696"/>
                  <a:pt x="2112" y="1696"/>
                </a:cubicBezTo>
                <a:cubicBezTo>
                  <a:pt x="2117" y="1688"/>
                  <a:pt x="2126" y="1685"/>
                  <a:pt x="2136" y="1684"/>
                </a:cubicBezTo>
                <a:cubicBezTo>
                  <a:pt x="2136" y="1684"/>
                  <a:pt x="2136" y="1684"/>
                  <a:pt x="2137" y="1684"/>
                </a:cubicBezTo>
                <a:cubicBezTo>
                  <a:pt x="2139" y="1684"/>
                  <a:pt x="2141" y="1684"/>
                  <a:pt x="2144" y="1684"/>
                </a:cubicBezTo>
                <a:cubicBezTo>
                  <a:pt x="2144" y="1684"/>
                  <a:pt x="2145" y="1683"/>
                  <a:pt x="2145" y="1683"/>
                </a:cubicBezTo>
                <a:cubicBezTo>
                  <a:pt x="2151" y="1683"/>
                  <a:pt x="2151" y="1683"/>
                  <a:pt x="2151" y="1683"/>
                </a:cubicBezTo>
                <a:cubicBezTo>
                  <a:pt x="2152" y="1683"/>
                  <a:pt x="2153" y="1683"/>
                  <a:pt x="2155" y="1683"/>
                </a:cubicBezTo>
                <a:cubicBezTo>
                  <a:pt x="2180" y="1683"/>
                  <a:pt x="2205" y="1683"/>
                  <a:pt x="2231" y="1683"/>
                </a:cubicBezTo>
                <a:cubicBezTo>
                  <a:pt x="2231" y="1683"/>
                  <a:pt x="2231" y="1683"/>
                  <a:pt x="2231" y="1683"/>
                </a:cubicBezTo>
                <a:cubicBezTo>
                  <a:pt x="2231" y="1683"/>
                  <a:pt x="2231" y="1683"/>
                  <a:pt x="2231" y="1683"/>
                </a:cubicBezTo>
                <a:cubicBezTo>
                  <a:pt x="2234" y="1683"/>
                  <a:pt x="2237" y="1683"/>
                  <a:pt x="2240" y="1684"/>
                </a:cubicBezTo>
                <a:cubicBezTo>
                  <a:pt x="2240" y="1684"/>
                  <a:pt x="2241" y="1684"/>
                  <a:pt x="2241" y="1684"/>
                </a:cubicBezTo>
                <a:cubicBezTo>
                  <a:pt x="2258" y="1686"/>
                  <a:pt x="2277" y="1693"/>
                  <a:pt x="2287" y="1706"/>
                </a:cubicBezTo>
                <a:cubicBezTo>
                  <a:pt x="2289" y="1708"/>
                  <a:pt x="2290" y="1710"/>
                  <a:pt x="2291" y="1712"/>
                </a:cubicBezTo>
                <a:cubicBezTo>
                  <a:pt x="2294" y="1717"/>
                  <a:pt x="2294" y="1717"/>
                  <a:pt x="2294" y="1717"/>
                </a:cubicBezTo>
                <a:cubicBezTo>
                  <a:pt x="2299" y="1727"/>
                  <a:pt x="2304" y="1737"/>
                  <a:pt x="2309" y="1748"/>
                </a:cubicBezTo>
                <a:cubicBezTo>
                  <a:pt x="2312" y="1754"/>
                  <a:pt x="2318" y="1762"/>
                  <a:pt x="2320" y="1771"/>
                </a:cubicBezTo>
                <a:cubicBezTo>
                  <a:pt x="2322" y="1775"/>
                  <a:pt x="2323" y="1778"/>
                  <a:pt x="2322" y="1782"/>
                </a:cubicBezTo>
                <a:close/>
                <a:moveTo>
                  <a:pt x="2340" y="1624"/>
                </a:moveTo>
                <a:cubicBezTo>
                  <a:pt x="2338" y="1622"/>
                  <a:pt x="2337" y="1621"/>
                  <a:pt x="2335" y="1620"/>
                </a:cubicBezTo>
                <a:cubicBezTo>
                  <a:pt x="2331" y="1617"/>
                  <a:pt x="2328" y="1613"/>
                  <a:pt x="2326" y="1610"/>
                </a:cubicBezTo>
                <a:cubicBezTo>
                  <a:pt x="2324" y="1607"/>
                  <a:pt x="2324" y="1607"/>
                  <a:pt x="2324" y="1607"/>
                </a:cubicBezTo>
                <a:cubicBezTo>
                  <a:pt x="2324" y="1607"/>
                  <a:pt x="2324" y="1607"/>
                  <a:pt x="2324" y="1607"/>
                </a:cubicBezTo>
                <a:cubicBezTo>
                  <a:pt x="2317" y="1594"/>
                  <a:pt x="2310" y="1582"/>
                  <a:pt x="2303" y="1569"/>
                </a:cubicBezTo>
                <a:cubicBezTo>
                  <a:pt x="2303" y="1569"/>
                  <a:pt x="2303" y="1569"/>
                  <a:pt x="2303" y="1569"/>
                </a:cubicBezTo>
                <a:cubicBezTo>
                  <a:pt x="2300" y="1564"/>
                  <a:pt x="2300" y="1564"/>
                  <a:pt x="2300" y="1564"/>
                </a:cubicBezTo>
                <a:cubicBezTo>
                  <a:pt x="2298" y="1561"/>
                  <a:pt x="2298" y="1558"/>
                  <a:pt x="2298" y="1555"/>
                </a:cubicBezTo>
                <a:cubicBezTo>
                  <a:pt x="2299" y="1552"/>
                  <a:pt x="2300" y="1550"/>
                  <a:pt x="2303" y="1547"/>
                </a:cubicBezTo>
                <a:cubicBezTo>
                  <a:pt x="2306" y="1545"/>
                  <a:pt x="2309" y="1544"/>
                  <a:pt x="2313" y="1542"/>
                </a:cubicBezTo>
                <a:cubicBezTo>
                  <a:pt x="2318" y="1541"/>
                  <a:pt x="2323" y="1541"/>
                  <a:pt x="2329" y="1541"/>
                </a:cubicBezTo>
                <a:cubicBezTo>
                  <a:pt x="2330" y="1541"/>
                  <a:pt x="2330" y="1541"/>
                  <a:pt x="2330" y="1541"/>
                </a:cubicBezTo>
                <a:cubicBezTo>
                  <a:pt x="2342" y="1540"/>
                  <a:pt x="2356" y="1540"/>
                  <a:pt x="2363" y="1540"/>
                </a:cubicBezTo>
                <a:cubicBezTo>
                  <a:pt x="2394" y="1540"/>
                  <a:pt x="2443" y="1534"/>
                  <a:pt x="2463" y="1564"/>
                </a:cubicBezTo>
                <a:cubicBezTo>
                  <a:pt x="2470" y="1573"/>
                  <a:pt x="2476" y="1583"/>
                  <a:pt x="2483" y="1593"/>
                </a:cubicBezTo>
                <a:cubicBezTo>
                  <a:pt x="2486" y="1598"/>
                  <a:pt x="2492" y="1605"/>
                  <a:pt x="2495" y="1611"/>
                </a:cubicBezTo>
                <a:cubicBezTo>
                  <a:pt x="2497" y="1614"/>
                  <a:pt x="2498" y="1617"/>
                  <a:pt x="2498" y="1620"/>
                </a:cubicBezTo>
                <a:cubicBezTo>
                  <a:pt x="2498" y="1621"/>
                  <a:pt x="2497" y="1623"/>
                  <a:pt x="2496" y="1625"/>
                </a:cubicBezTo>
                <a:cubicBezTo>
                  <a:pt x="2496" y="1626"/>
                  <a:pt x="2495" y="1627"/>
                  <a:pt x="2494" y="1628"/>
                </a:cubicBezTo>
                <a:cubicBezTo>
                  <a:pt x="2494" y="1628"/>
                  <a:pt x="2494" y="1628"/>
                  <a:pt x="2494" y="1628"/>
                </a:cubicBezTo>
                <a:cubicBezTo>
                  <a:pt x="2494" y="1628"/>
                  <a:pt x="2494" y="1628"/>
                  <a:pt x="2494" y="1628"/>
                </a:cubicBezTo>
                <a:cubicBezTo>
                  <a:pt x="2493" y="1629"/>
                  <a:pt x="2493" y="1629"/>
                  <a:pt x="2492" y="1630"/>
                </a:cubicBezTo>
                <a:cubicBezTo>
                  <a:pt x="2492" y="1630"/>
                  <a:pt x="2491" y="1630"/>
                  <a:pt x="2491" y="1630"/>
                </a:cubicBezTo>
                <a:cubicBezTo>
                  <a:pt x="2490" y="1631"/>
                  <a:pt x="2489" y="1631"/>
                  <a:pt x="2488" y="1632"/>
                </a:cubicBezTo>
                <a:cubicBezTo>
                  <a:pt x="2487" y="1632"/>
                  <a:pt x="2485" y="1633"/>
                  <a:pt x="2484" y="1633"/>
                </a:cubicBezTo>
                <a:cubicBezTo>
                  <a:pt x="2484" y="1633"/>
                  <a:pt x="2484" y="1634"/>
                  <a:pt x="2484" y="1634"/>
                </a:cubicBezTo>
                <a:cubicBezTo>
                  <a:pt x="2484" y="1634"/>
                  <a:pt x="2483" y="1634"/>
                  <a:pt x="2483" y="1634"/>
                </a:cubicBezTo>
                <a:cubicBezTo>
                  <a:pt x="2469" y="1638"/>
                  <a:pt x="2448" y="1636"/>
                  <a:pt x="2434" y="1636"/>
                </a:cubicBezTo>
                <a:cubicBezTo>
                  <a:pt x="2418" y="1636"/>
                  <a:pt x="2401" y="1636"/>
                  <a:pt x="2385" y="1636"/>
                </a:cubicBezTo>
                <a:cubicBezTo>
                  <a:pt x="2370" y="1636"/>
                  <a:pt x="2353" y="1632"/>
                  <a:pt x="2340" y="1624"/>
                </a:cubicBezTo>
                <a:close/>
                <a:moveTo>
                  <a:pt x="2605" y="1791"/>
                </a:moveTo>
                <a:cubicBezTo>
                  <a:pt x="2605" y="1791"/>
                  <a:pt x="2605" y="1791"/>
                  <a:pt x="2604" y="1791"/>
                </a:cubicBezTo>
                <a:cubicBezTo>
                  <a:pt x="2602" y="1794"/>
                  <a:pt x="2598" y="1797"/>
                  <a:pt x="2593" y="1798"/>
                </a:cubicBezTo>
                <a:cubicBezTo>
                  <a:pt x="2589" y="1800"/>
                  <a:pt x="2583" y="1801"/>
                  <a:pt x="2576" y="1801"/>
                </a:cubicBezTo>
                <a:cubicBezTo>
                  <a:pt x="2569" y="1801"/>
                  <a:pt x="2569" y="1801"/>
                  <a:pt x="2569" y="1801"/>
                </a:cubicBezTo>
                <a:cubicBezTo>
                  <a:pt x="2569" y="1801"/>
                  <a:pt x="2569" y="1801"/>
                  <a:pt x="2569" y="1801"/>
                </a:cubicBezTo>
                <a:cubicBezTo>
                  <a:pt x="2541" y="1801"/>
                  <a:pt x="2512" y="1801"/>
                  <a:pt x="2483" y="1801"/>
                </a:cubicBezTo>
                <a:cubicBezTo>
                  <a:pt x="2480" y="1801"/>
                  <a:pt x="2476" y="1801"/>
                  <a:pt x="2473" y="1801"/>
                </a:cubicBezTo>
                <a:cubicBezTo>
                  <a:pt x="2473" y="1801"/>
                  <a:pt x="2473" y="1801"/>
                  <a:pt x="2473" y="1801"/>
                </a:cubicBezTo>
                <a:cubicBezTo>
                  <a:pt x="2453" y="1799"/>
                  <a:pt x="2432" y="1790"/>
                  <a:pt x="2419" y="1775"/>
                </a:cubicBezTo>
                <a:cubicBezTo>
                  <a:pt x="2418" y="1773"/>
                  <a:pt x="2416" y="1771"/>
                  <a:pt x="2415" y="1769"/>
                </a:cubicBezTo>
                <a:cubicBezTo>
                  <a:pt x="2415" y="1769"/>
                  <a:pt x="2415" y="1769"/>
                  <a:pt x="2415" y="1769"/>
                </a:cubicBezTo>
                <a:cubicBezTo>
                  <a:pt x="2415" y="1769"/>
                  <a:pt x="2415" y="1769"/>
                  <a:pt x="2415" y="1769"/>
                </a:cubicBezTo>
                <a:cubicBezTo>
                  <a:pt x="2409" y="1758"/>
                  <a:pt x="2402" y="1747"/>
                  <a:pt x="2396" y="1736"/>
                </a:cubicBezTo>
                <a:cubicBezTo>
                  <a:pt x="2392" y="1728"/>
                  <a:pt x="2383" y="1716"/>
                  <a:pt x="2381" y="1706"/>
                </a:cubicBezTo>
                <a:cubicBezTo>
                  <a:pt x="2381" y="1706"/>
                  <a:pt x="2381" y="1706"/>
                  <a:pt x="2381" y="1706"/>
                </a:cubicBezTo>
                <a:cubicBezTo>
                  <a:pt x="2380" y="1705"/>
                  <a:pt x="2380" y="1704"/>
                  <a:pt x="2380" y="1703"/>
                </a:cubicBezTo>
                <a:cubicBezTo>
                  <a:pt x="2379" y="1693"/>
                  <a:pt x="2387" y="1688"/>
                  <a:pt x="2396" y="1685"/>
                </a:cubicBezTo>
                <a:cubicBezTo>
                  <a:pt x="2396" y="1685"/>
                  <a:pt x="2396" y="1685"/>
                  <a:pt x="2396" y="1685"/>
                </a:cubicBezTo>
                <a:cubicBezTo>
                  <a:pt x="2396" y="1685"/>
                  <a:pt x="2397" y="1685"/>
                  <a:pt x="2397" y="1685"/>
                </a:cubicBezTo>
                <a:cubicBezTo>
                  <a:pt x="2398" y="1685"/>
                  <a:pt x="2398" y="1685"/>
                  <a:pt x="2399" y="1684"/>
                </a:cubicBezTo>
                <a:cubicBezTo>
                  <a:pt x="2403" y="1683"/>
                  <a:pt x="2408" y="1683"/>
                  <a:pt x="2413" y="1683"/>
                </a:cubicBezTo>
                <a:cubicBezTo>
                  <a:pt x="2470" y="1683"/>
                  <a:pt x="2470" y="1683"/>
                  <a:pt x="2470" y="1683"/>
                </a:cubicBezTo>
                <a:cubicBezTo>
                  <a:pt x="2479" y="1683"/>
                  <a:pt x="2489" y="1683"/>
                  <a:pt x="2498" y="1683"/>
                </a:cubicBezTo>
                <a:cubicBezTo>
                  <a:pt x="2498" y="1683"/>
                  <a:pt x="2498" y="1683"/>
                  <a:pt x="2498" y="1683"/>
                </a:cubicBezTo>
                <a:cubicBezTo>
                  <a:pt x="2499" y="1683"/>
                  <a:pt x="2499" y="1683"/>
                  <a:pt x="2500" y="1683"/>
                </a:cubicBezTo>
                <a:cubicBezTo>
                  <a:pt x="2502" y="1683"/>
                  <a:pt x="2505" y="1683"/>
                  <a:pt x="2507" y="1683"/>
                </a:cubicBezTo>
                <a:cubicBezTo>
                  <a:pt x="2508" y="1683"/>
                  <a:pt x="2508" y="1683"/>
                  <a:pt x="2509" y="1683"/>
                </a:cubicBezTo>
                <a:cubicBezTo>
                  <a:pt x="2527" y="1685"/>
                  <a:pt x="2546" y="1692"/>
                  <a:pt x="2558" y="1705"/>
                </a:cubicBezTo>
                <a:cubicBezTo>
                  <a:pt x="2559" y="1705"/>
                  <a:pt x="2560" y="1706"/>
                  <a:pt x="2561" y="1707"/>
                </a:cubicBezTo>
                <a:cubicBezTo>
                  <a:pt x="2561" y="1708"/>
                  <a:pt x="2562" y="1708"/>
                  <a:pt x="2562" y="1709"/>
                </a:cubicBezTo>
                <a:cubicBezTo>
                  <a:pt x="2563" y="1710"/>
                  <a:pt x="2563" y="1710"/>
                  <a:pt x="2564" y="1711"/>
                </a:cubicBezTo>
                <a:cubicBezTo>
                  <a:pt x="2564" y="1711"/>
                  <a:pt x="2564" y="1711"/>
                  <a:pt x="2564" y="1711"/>
                </a:cubicBezTo>
                <a:cubicBezTo>
                  <a:pt x="2566" y="1713"/>
                  <a:pt x="2566" y="1713"/>
                  <a:pt x="2566" y="1713"/>
                </a:cubicBezTo>
                <a:cubicBezTo>
                  <a:pt x="2571" y="1721"/>
                  <a:pt x="2576" y="1729"/>
                  <a:pt x="2582" y="1737"/>
                </a:cubicBezTo>
                <a:cubicBezTo>
                  <a:pt x="2582" y="1737"/>
                  <a:pt x="2582" y="1737"/>
                  <a:pt x="2582" y="1737"/>
                </a:cubicBezTo>
                <a:cubicBezTo>
                  <a:pt x="2589" y="1748"/>
                  <a:pt x="2599" y="1759"/>
                  <a:pt x="2605" y="1772"/>
                </a:cubicBezTo>
                <a:cubicBezTo>
                  <a:pt x="2606" y="1773"/>
                  <a:pt x="2606" y="1773"/>
                  <a:pt x="2606" y="1774"/>
                </a:cubicBezTo>
                <a:cubicBezTo>
                  <a:pt x="2607" y="1775"/>
                  <a:pt x="2607" y="1775"/>
                  <a:pt x="2607" y="1775"/>
                </a:cubicBezTo>
                <a:cubicBezTo>
                  <a:pt x="2609" y="1782"/>
                  <a:pt x="2608" y="1787"/>
                  <a:pt x="2605" y="1791"/>
                </a:cubicBezTo>
                <a:close/>
                <a:moveTo>
                  <a:pt x="2937" y="318"/>
                </a:moveTo>
                <a:cubicBezTo>
                  <a:pt x="3034" y="414"/>
                  <a:pt x="3089" y="549"/>
                  <a:pt x="3089" y="685"/>
                </a:cubicBezTo>
                <a:cubicBezTo>
                  <a:pt x="3089" y="821"/>
                  <a:pt x="3034" y="955"/>
                  <a:pt x="2937" y="1051"/>
                </a:cubicBezTo>
                <a:cubicBezTo>
                  <a:pt x="3050" y="999"/>
                  <a:pt x="3153" y="855"/>
                  <a:pt x="3152" y="685"/>
                </a:cubicBezTo>
                <a:cubicBezTo>
                  <a:pt x="3153" y="514"/>
                  <a:pt x="3050" y="371"/>
                  <a:pt x="2937" y="318"/>
                </a:cubicBezTo>
                <a:close/>
                <a:moveTo>
                  <a:pt x="216" y="318"/>
                </a:moveTo>
                <a:cubicBezTo>
                  <a:pt x="104" y="371"/>
                  <a:pt x="0" y="514"/>
                  <a:pt x="2" y="685"/>
                </a:cubicBezTo>
                <a:cubicBezTo>
                  <a:pt x="0" y="855"/>
                  <a:pt x="104" y="999"/>
                  <a:pt x="216" y="1051"/>
                </a:cubicBezTo>
                <a:cubicBezTo>
                  <a:pt x="120" y="955"/>
                  <a:pt x="64" y="821"/>
                  <a:pt x="65" y="685"/>
                </a:cubicBezTo>
                <a:cubicBezTo>
                  <a:pt x="64" y="549"/>
                  <a:pt x="120" y="414"/>
                  <a:pt x="216" y="31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560" rIns="61560" tIns="30600" bIns="30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等腰三角形 73"/>
          <p:cNvSpPr/>
          <p:nvPr/>
        </p:nvSpPr>
        <p:spPr>
          <a:xfrm rot="5400000">
            <a:off x="5706000" y="1315080"/>
            <a:ext cx="261720" cy="225720"/>
          </a:xfrm>
          <a:prstGeom prst="triangle">
            <a:avLst>
              <a:gd name="adj" fmla="val 50000"/>
            </a:avLst>
          </a:prstGeom>
          <a:solidFill>
            <a:srgbClr val="8fa2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440" bIns="2844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等腰三角形 74"/>
          <p:cNvSpPr/>
          <p:nvPr/>
        </p:nvSpPr>
        <p:spPr>
          <a:xfrm rot="5400000">
            <a:off x="5706720" y="2038320"/>
            <a:ext cx="260280" cy="225720"/>
          </a:xfrm>
          <a:prstGeom prst="triangle">
            <a:avLst>
              <a:gd name="adj" fmla="val 50000"/>
            </a:avLst>
          </a:prstGeom>
          <a:solidFill>
            <a:srgbClr val="f76d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440" bIns="2844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等腰三角形 75"/>
          <p:cNvSpPr/>
          <p:nvPr/>
        </p:nvSpPr>
        <p:spPr>
          <a:xfrm rot="5400000">
            <a:off x="5705640" y="2757960"/>
            <a:ext cx="262080" cy="225720"/>
          </a:xfrm>
          <a:prstGeom prst="triangle">
            <a:avLst>
              <a:gd name="adj" fmla="val 50000"/>
            </a:avLst>
          </a:prstGeom>
          <a:solidFill>
            <a:srgbClr val="0b9b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440" bIns="2844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9" name="等腰三角形 76"/>
          <p:cNvSpPr/>
          <p:nvPr/>
        </p:nvSpPr>
        <p:spPr>
          <a:xfrm rot="5400000">
            <a:off x="5706000" y="3485160"/>
            <a:ext cx="261720" cy="225720"/>
          </a:xfrm>
          <a:prstGeom prst="triangle">
            <a:avLst>
              <a:gd name="adj" fmla="val 50000"/>
            </a:avLst>
          </a:prstGeom>
          <a:solidFill>
            <a:srgbClr val="2b45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440" bIns="2844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TextBox 77"/>
          <p:cNvSpPr/>
          <p:nvPr/>
        </p:nvSpPr>
        <p:spPr>
          <a:xfrm>
            <a:off x="6084720" y="1042920"/>
            <a:ext cx="201636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e46c0a"/>
                </a:solidFill>
                <a:latin typeface="Calibri"/>
              </a:rPr>
              <a:t>Your tex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Click here to add your text or Copy Your text and past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it her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1" name="TextBox 78"/>
          <p:cNvSpPr/>
          <p:nvPr/>
        </p:nvSpPr>
        <p:spPr>
          <a:xfrm>
            <a:off x="6084720" y="1730520"/>
            <a:ext cx="201636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e46c0a"/>
                </a:solidFill>
                <a:latin typeface="Calibri"/>
              </a:rPr>
              <a:t>Your tex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Click here to add your text or Copy Your text and past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it her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TextBox 79"/>
          <p:cNvSpPr/>
          <p:nvPr/>
        </p:nvSpPr>
        <p:spPr>
          <a:xfrm>
            <a:off x="6084720" y="2451240"/>
            <a:ext cx="201636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e46c0a"/>
                </a:solidFill>
                <a:latin typeface="Calibri"/>
              </a:rPr>
              <a:t>Your tex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Click here to add your text or Copy Your text and past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it her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TextBox 80"/>
          <p:cNvSpPr/>
          <p:nvPr/>
        </p:nvSpPr>
        <p:spPr>
          <a:xfrm>
            <a:off x="6084720" y="3170160"/>
            <a:ext cx="201636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e46c0a"/>
                </a:solidFill>
                <a:latin typeface="Calibri"/>
              </a:rPr>
              <a:t>Your tex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Click here to add your text or Copy Your text and past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it her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4" name="Picture 3" descr=""/>
          <p:cNvPicPr/>
          <p:nvPr/>
        </p:nvPicPr>
        <p:blipFill>
          <a:blip r:embed="rId1"/>
          <a:srcRect l="2775" t="0" r="7215" b="57688"/>
          <a:stretch/>
        </p:blipFill>
        <p:spPr>
          <a:xfrm flipH="1" rot="4726800">
            <a:off x="4944960" y="3780720"/>
            <a:ext cx="2198880" cy="240120"/>
          </a:xfrm>
          <a:prstGeom prst="rect">
            <a:avLst/>
          </a:prstGeom>
          <a:ln w="0">
            <a:noFill/>
          </a:ln>
        </p:spPr>
      </p:pic>
      <p:pic>
        <p:nvPicPr>
          <p:cNvPr id="1545" name="Picture 3" descr=""/>
          <p:cNvPicPr/>
          <p:nvPr/>
        </p:nvPicPr>
        <p:blipFill>
          <a:blip r:embed="rId2"/>
          <a:srcRect l="2775" t="0" r="7215" b="57688"/>
          <a:stretch/>
        </p:blipFill>
        <p:spPr>
          <a:xfrm flipH="1" rot="4726800">
            <a:off x="4260960" y="2276640"/>
            <a:ext cx="4343400" cy="239760"/>
          </a:xfrm>
          <a:prstGeom prst="rect">
            <a:avLst/>
          </a:prstGeom>
          <a:ln w="0">
            <a:noFill/>
          </a:ln>
        </p:spPr>
      </p:pic>
      <p:pic>
        <p:nvPicPr>
          <p:cNvPr id="1546" name="Picture 3" descr=""/>
          <p:cNvPicPr/>
          <p:nvPr/>
        </p:nvPicPr>
        <p:blipFill>
          <a:blip r:embed="rId3"/>
          <a:srcRect l="2775" t="0" r="7215" b="57688"/>
          <a:stretch/>
        </p:blipFill>
        <p:spPr>
          <a:xfrm flipH="1" rot="4726800">
            <a:off x="5285880" y="1698120"/>
            <a:ext cx="3322440" cy="239760"/>
          </a:xfrm>
          <a:prstGeom prst="rect">
            <a:avLst/>
          </a:prstGeom>
          <a:ln w="0">
            <a:noFill/>
          </a:ln>
        </p:spPr>
      </p:pic>
      <p:pic>
        <p:nvPicPr>
          <p:cNvPr id="1547" name="Picture 3" descr=""/>
          <p:cNvPicPr/>
          <p:nvPr/>
        </p:nvPicPr>
        <p:blipFill>
          <a:blip r:embed="rId4"/>
          <a:srcRect l="2775" t="0" r="7215" b="57688"/>
          <a:stretch/>
        </p:blipFill>
        <p:spPr>
          <a:xfrm flipH="1" rot="15466200">
            <a:off x="343080" y="3690360"/>
            <a:ext cx="2320920" cy="239760"/>
          </a:xfrm>
          <a:prstGeom prst="rect">
            <a:avLst/>
          </a:prstGeom>
          <a:ln w="0">
            <a:noFill/>
          </a:ln>
        </p:spPr>
      </p:pic>
      <p:pic>
        <p:nvPicPr>
          <p:cNvPr id="1548" name="Picture 3" descr=""/>
          <p:cNvPicPr/>
          <p:nvPr/>
        </p:nvPicPr>
        <p:blipFill>
          <a:blip r:embed="rId5"/>
          <a:srcRect l="2775" t="0" r="7215" b="57688"/>
          <a:stretch/>
        </p:blipFill>
        <p:spPr>
          <a:xfrm flipH="1" rot="15466200">
            <a:off x="377640" y="3105000"/>
            <a:ext cx="3408120" cy="239760"/>
          </a:xfrm>
          <a:prstGeom prst="rect">
            <a:avLst/>
          </a:prstGeom>
          <a:ln w="0">
            <a:noFill/>
          </a:ln>
        </p:spPr>
      </p:pic>
      <p:pic>
        <p:nvPicPr>
          <p:cNvPr id="1549" name="Picture 3" descr=""/>
          <p:cNvPicPr/>
          <p:nvPr/>
        </p:nvPicPr>
        <p:blipFill>
          <a:blip r:embed="rId6"/>
          <a:srcRect l="2775" t="0" r="7215" b="57688"/>
          <a:stretch/>
        </p:blipFill>
        <p:spPr>
          <a:xfrm flipH="1" rot="15466200">
            <a:off x="402480" y="2487600"/>
            <a:ext cx="4367520" cy="239760"/>
          </a:xfrm>
          <a:prstGeom prst="rect">
            <a:avLst/>
          </a:prstGeom>
          <a:ln w="0">
            <a:noFill/>
          </a:ln>
        </p:spPr>
      </p:pic>
      <p:pic>
        <p:nvPicPr>
          <p:cNvPr id="1550" name="Picture 3" descr=""/>
          <p:cNvPicPr/>
          <p:nvPr/>
        </p:nvPicPr>
        <p:blipFill>
          <a:blip r:embed="rId7"/>
          <a:srcRect l="2775" t="0" r="7215" b="57688"/>
          <a:stretch/>
        </p:blipFill>
        <p:spPr>
          <a:xfrm flipH="1" rot="4726800">
            <a:off x="6283800" y="1116000"/>
            <a:ext cx="2314800" cy="239760"/>
          </a:xfrm>
          <a:prstGeom prst="rect">
            <a:avLst/>
          </a:prstGeom>
          <a:ln w="0">
            <a:noFill/>
          </a:ln>
        </p:spPr>
      </p:pic>
      <p:pic>
        <p:nvPicPr>
          <p:cNvPr id="1551" name="Picture 3" descr=""/>
          <p:cNvPicPr/>
          <p:nvPr/>
        </p:nvPicPr>
        <p:blipFill>
          <a:blip r:embed="rId8"/>
          <a:srcRect l="2775" t="0" r="7215" b="57688"/>
          <a:stretch/>
        </p:blipFill>
        <p:spPr>
          <a:xfrm flipH="1" rot="15466200">
            <a:off x="2045160" y="644760"/>
            <a:ext cx="1521000" cy="239760"/>
          </a:xfrm>
          <a:prstGeom prst="rect">
            <a:avLst/>
          </a:prstGeom>
          <a:ln w="0">
            <a:noFill/>
          </a:ln>
        </p:spPr>
      </p:pic>
      <p:grpSp>
        <p:nvGrpSpPr>
          <p:cNvPr id="1552" name="组合 46"/>
          <p:cNvGrpSpPr/>
          <p:nvPr/>
        </p:nvGrpSpPr>
        <p:grpSpPr>
          <a:xfrm>
            <a:off x="2771640" y="492480"/>
            <a:ext cx="4740480" cy="1263240"/>
            <a:chOff x="2771640" y="492480"/>
            <a:chExt cx="4740480" cy="1263240"/>
          </a:xfrm>
        </p:grpSpPr>
        <p:grpSp>
          <p:nvGrpSpPr>
            <p:cNvPr id="1553" name="组合 36"/>
            <p:cNvGrpSpPr/>
            <p:nvPr/>
          </p:nvGrpSpPr>
          <p:grpSpPr>
            <a:xfrm>
              <a:off x="2771640" y="492480"/>
              <a:ext cx="322200" cy="1072080"/>
              <a:chOff x="2771640" y="492480"/>
              <a:chExt cx="322200" cy="1072080"/>
            </a:xfrm>
          </p:grpSpPr>
          <p:sp>
            <p:nvSpPr>
              <p:cNvPr id="1554" name="平行四边形 33"/>
              <p:cNvSpPr/>
              <p:nvPr/>
            </p:nvSpPr>
            <p:spPr>
              <a:xfrm flipH="1">
                <a:off x="2802240" y="615960"/>
                <a:ext cx="291240" cy="948600"/>
              </a:xfrm>
              <a:custGeom>
                <a:avLst/>
                <a:gdLst>
                  <a:gd name="textAreaLeft" fmla="*/ -360 w 291240"/>
                  <a:gd name="textAreaRight" fmla="*/ 291240 w 291240"/>
                  <a:gd name="textAreaTop" fmla="*/ 0 h 948600"/>
                  <a:gd name="textAreaBottom" fmla="*/ 948960 h 948600"/>
                </a:gdLst>
                <a:ahLst/>
                <a:rect l="textAreaLeft" t="textAreaTop" r="textAreaRight" b="textAreaBottom"/>
                <a:pathLst>
                  <a:path w="487387" h="1587146">
                    <a:moveTo>
                      <a:pt x="0" y="1587146"/>
                    </a:moveTo>
                    <a:lnTo>
                      <a:pt x="326044" y="80187"/>
                    </a:lnTo>
                    <a:cubicBezTo>
                      <a:pt x="431948" y="101618"/>
                      <a:pt x="448952" y="-1569"/>
                      <a:pt x="487387" y="18"/>
                    </a:cubicBezTo>
                    <a:lnTo>
                      <a:pt x="158168" y="1506183"/>
                    </a:lnTo>
                    <a:cubicBezTo>
                      <a:pt x="114970" y="1564127"/>
                      <a:pt x="71773" y="1583970"/>
                      <a:pt x="0" y="1587146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81300"/>
                  </a:gs>
                  <a:gs pos="100000">
                    <a:srgbClr val="ef9a93"/>
                  </a:gs>
                </a:gsLst>
                <a:lin ang="78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5" name="弦形 34"/>
              <p:cNvSpPr/>
              <p:nvPr/>
            </p:nvSpPr>
            <p:spPr>
              <a:xfrm rot="1800000">
                <a:off x="2796840" y="525240"/>
                <a:ext cx="172080" cy="148680"/>
              </a:xfrm>
              <a:custGeom>
                <a:avLst/>
                <a:gdLst>
                  <a:gd name="textAreaLeft" fmla="*/ 25200 w 172080"/>
                  <a:gd name="textAreaRight" fmla="*/ 146880 w 172080"/>
                  <a:gd name="textAreaTop" fmla="*/ 21600 h 148680"/>
                  <a:gd name="textAreaBottom" fmla="*/ 127080 h 148680"/>
                </a:gdLst>
                <a:ahLst/>
                <a:rect l="textAreaLeft" t="textAreaTop" r="textAreaRight" b="textAreaBottom"/>
                <a:pathLst>
                  <a:path w="288051" h="248795">
                    <a:moveTo>
                      <a:pt x="238169" y="218541"/>
                    </a:moveTo>
                    <a:lnTo>
                      <a:pt x="238169" y="218541"/>
                    </a:lnTo>
                    <a:cubicBezTo>
                      <a:pt x="212008" y="238057"/>
                      <a:pt x="178593" y="248796"/>
                      <a:pt x="144026" y="248796"/>
                    </a:cubicBezTo>
                    <a:cubicBezTo>
                      <a:pt x="64482" y="248796"/>
                      <a:pt x="0" y="193101"/>
                      <a:pt x="0" y="124398"/>
                    </a:cubicBezTo>
                    <a:cubicBezTo>
                      <a:pt x="0" y="83212"/>
                      <a:pt x="23600" y="44697"/>
                      <a:pt x="63028" y="21535"/>
                    </a:cubicBezTo>
                    <a:lnTo>
                      <a:pt x="238169" y="218541"/>
                    </a:lnTo>
                    <a:close/>
                  </a:path>
                </a:pathLst>
              </a:custGeom>
              <a:solidFill>
                <a:srgbClr val="7e0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56" name="平行四边形 35"/>
            <p:cNvSpPr/>
            <p:nvPr/>
          </p:nvSpPr>
          <p:spPr>
            <a:xfrm flipH="1" rot="10800000">
              <a:off x="2895840" y="683640"/>
              <a:ext cx="4503240" cy="879120"/>
            </a:xfrm>
            <a:prstGeom prst="parallelogram">
              <a:avLst>
                <a:gd name="adj" fmla="val 21628"/>
              </a:avLst>
            </a:prstGeom>
            <a:gradFill rotWithShape="0">
              <a:gsLst>
                <a:gs pos="0">
                  <a:srgbClr val="881300"/>
                </a:gs>
                <a:gs pos="100000">
                  <a:srgbClr val="880a00"/>
                </a:gs>
              </a:gsLst>
              <a:lin ang="78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57" name="组合 37"/>
            <p:cNvGrpSpPr/>
            <p:nvPr/>
          </p:nvGrpSpPr>
          <p:grpSpPr>
            <a:xfrm>
              <a:off x="7189560" y="683640"/>
              <a:ext cx="322560" cy="1072080"/>
              <a:chOff x="7189560" y="683640"/>
              <a:chExt cx="322560" cy="1072080"/>
            </a:xfrm>
          </p:grpSpPr>
          <p:sp>
            <p:nvSpPr>
              <p:cNvPr id="1558" name="平行四边形 33"/>
              <p:cNvSpPr/>
              <p:nvPr/>
            </p:nvSpPr>
            <p:spPr>
              <a:xfrm flipH="1" rot="10800000">
                <a:off x="7189200" y="683640"/>
                <a:ext cx="291240" cy="948600"/>
              </a:xfrm>
              <a:custGeom>
                <a:avLst/>
                <a:gdLst>
                  <a:gd name="textAreaLeft" fmla="*/ -360 w 291240"/>
                  <a:gd name="textAreaRight" fmla="*/ 291240 w 291240"/>
                  <a:gd name="textAreaTop" fmla="*/ 0 h 948600"/>
                  <a:gd name="textAreaBottom" fmla="*/ 948960 h 948600"/>
                </a:gdLst>
                <a:ahLst/>
                <a:rect l="textAreaLeft" t="textAreaTop" r="textAreaRight" b="textAreaBottom"/>
                <a:pathLst>
                  <a:path w="487387" h="1587146">
                    <a:moveTo>
                      <a:pt x="0" y="1587146"/>
                    </a:moveTo>
                    <a:lnTo>
                      <a:pt x="326044" y="80187"/>
                    </a:lnTo>
                    <a:cubicBezTo>
                      <a:pt x="431948" y="101618"/>
                      <a:pt x="448952" y="-1569"/>
                      <a:pt x="487387" y="18"/>
                    </a:cubicBezTo>
                    <a:lnTo>
                      <a:pt x="158168" y="1506183"/>
                    </a:lnTo>
                    <a:cubicBezTo>
                      <a:pt x="114970" y="1564127"/>
                      <a:pt x="71773" y="1583970"/>
                      <a:pt x="0" y="1587146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81300"/>
                  </a:gs>
                  <a:gs pos="100000">
                    <a:srgbClr val="ef9a93"/>
                  </a:gs>
                </a:gsLst>
                <a:lin ang="78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9" name="弦形 39"/>
              <p:cNvSpPr/>
              <p:nvPr/>
            </p:nvSpPr>
            <p:spPr>
              <a:xfrm rot="12600000">
                <a:off x="7314120" y="1573920"/>
                <a:ext cx="172080" cy="148680"/>
              </a:xfrm>
              <a:custGeom>
                <a:avLst/>
                <a:gdLst>
                  <a:gd name="textAreaLeft" fmla="*/ 25200 w 172080"/>
                  <a:gd name="textAreaRight" fmla="*/ 146880 w 172080"/>
                  <a:gd name="textAreaTop" fmla="*/ 21600 h 148680"/>
                  <a:gd name="textAreaBottom" fmla="*/ 127080 h 148680"/>
                </a:gdLst>
                <a:ahLst/>
                <a:rect l="textAreaLeft" t="textAreaTop" r="textAreaRight" b="textAreaBottom"/>
                <a:pathLst>
                  <a:path w="288051" h="248795">
                    <a:moveTo>
                      <a:pt x="238169" y="218541"/>
                    </a:moveTo>
                    <a:lnTo>
                      <a:pt x="238169" y="218541"/>
                    </a:lnTo>
                    <a:cubicBezTo>
                      <a:pt x="212008" y="238057"/>
                      <a:pt x="178593" y="248796"/>
                      <a:pt x="144026" y="248796"/>
                    </a:cubicBezTo>
                    <a:cubicBezTo>
                      <a:pt x="64482" y="248796"/>
                      <a:pt x="0" y="193101"/>
                      <a:pt x="0" y="124398"/>
                    </a:cubicBezTo>
                    <a:cubicBezTo>
                      <a:pt x="0" y="83212"/>
                      <a:pt x="23600" y="44697"/>
                      <a:pt x="63028" y="21535"/>
                    </a:cubicBezTo>
                    <a:lnTo>
                      <a:pt x="238169" y="218541"/>
                    </a:lnTo>
                    <a:close/>
                  </a:path>
                </a:pathLst>
              </a:custGeom>
              <a:solidFill>
                <a:srgbClr val="7e0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60" name="平行四边形 33"/>
          <p:cNvSpPr/>
          <p:nvPr/>
        </p:nvSpPr>
        <p:spPr>
          <a:xfrm flipH="1">
            <a:off x="2376360" y="1484280"/>
            <a:ext cx="292320" cy="947880"/>
          </a:xfrm>
          <a:custGeom>
            <a:avLst/>
            <a:gdLst>
              <a:gd name="textAreaLeft" fmla="*/ 360 w 292320"/>
              <a:gd name="textAreaRight" fmla="*/ 293040 w 292320"/>
              <a:gd name="textAreaTop" fmla="*/ 0 h 947880"/>
              <a:gd name="textAreaBottom" fmla="*/ 948240 h 947880"/>
            </a:gdLst>
            <a:ahLst/>
            <a:rect l="textAreaLeft" t="textAreaTop" r="textAreaRight" b="textAreaBottom"/>
            <a:pathLst>
              <a:path w="487387" h="1587146">
                <a:moveTo>
                  <a:pt x="0" y="1587146"/>
                </a:moveTo>
                <a:lnTo>
                  <a:pt x="326044" y="80187"/>
                </a:lnTo>
                <a:cubicBezTo>
                  <a:pt x="431948" y="101618"/>
                  <a:pt x="448952" y="-1569"/>
                  <a:pt x="487387" y="18"/>
                </a:cubicBezTo>
                <a:lnTo>
                  <a:pt x="158168" y="1506183"/>
                </a:lnTo>
                <a:cubicBezTo>
                  <a:pt x="114970" y="1564127"/>
                  <a:pt x="71773" y="1583970"/>
                  <a:pt x="0" y="1587146"/>
                </a:cubicBez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404040"/>
              </a:gs>
            </a:gsLst>
            <a:lin ang="7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弦形 54"/>
          <p:cNvSpPr/>
          <p:nvPr/>
        </p:nvSpPr>
        <p:spPr>
          <a:xfrm rot="1800000">
            <a:off x="2371320" y="1393560"/>
            <a:ext cx="171360" cy="147600"/>
          </a:xfrm>
          <a:custGeom>
            <a:avLst/>
            <a:gdLst>
              <a:gd name="textAreaLeft" fmla="*/ 24840 w 171360"/>
              <a:gd name="textAreaRight" fmla="*/ 146520 w 171360"/>
              <a:gd name="textAreaTop" fmla="*/ 21600 h 147600"/>
              <a:gd name="textAreaBottom" fmla="*/ 126000 h 147600"/>
            </a:gdLst>
            <a:ahLst/>
            <a:rect l="textAreaLeft" t="textAreaTop" r="textAreaRight" b="textAreaBottom"/>
            <a:pathLst>
              <a:path w="172120" h="148663">
                <a:moveTo>
                  <a:pt x="142314" y="130585"/>
                </a:moveTo>
                <a:lnTo>
                  <a:pt x="142313" y="130584"/>
                </a:lnTo>
                <a:cubicBezTo>
                  <a:pt x="126681" y="142246"/>
                  <a:pt x="106715" y="148663"/>
                  <a:pt x="86060" y="148663"/>
                </a:cubicBezTo>
                <a:cubicBezTo>
                  <a:pt x="38530" y="148663"/>
                  <a:pt x="0" y="115383"/>
                  <a:pt x="0" y="74331"/>
                </a:cubicBezTo>
                <a:cubicBezTo>
                  <a:pt x="0" y="49721"/>
                  <a:pt x="14101" y="26707"/>
                  <a:pt x="37661" y="12867"/>
                </a:cubicBezTo>
                <a:lnTo>
                  <a:pt x="142314" y="130585"/>
                </a:lnTo>
                <a:close/>
              </a:path>
            </a:pathLst>
          </a:cu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2" name="平行四边形 49"/>
          <p:cNvSpPr/>
          <p:nvPr/>
        </p:nvSpPr>
        <p:spPr>
          <a:xfrm flipH="1" rot="10800000">
            <a:off x="2471760" y="1552680"/>
            <a:ext cx="4503600" cy="877680"/>
          </a:xfrm>
          <a:prstGeom prst="parallelogram">
            <a:avLst>
              <a:gd name="adj" fmla="val 21665"/>
            </a:avLst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7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3" name="平行四边形 33"/>
          <p:cNvSpPr/>
          <p:nvPr/>
        </p:nvSpPr>
        <p:spPr>
          <a:xfrm flipH="1" rot="10800000">
            <a:off x="6763320" y="1552680"/>
            <a:ext cx="290520" cy="947520"/>
          </a:xfrm>
          <a:custGeom>
            <a:avLst/>
            <a:gdLst>
              <a:gd name="textAreaLeft" fmla="*/ -360 w 290520"/>
              <a:gd name="textAreaRight" fmla="*/ 290520 w 290520"/>
              <a:gd name="textAreaTop" fmla="*/ 0 h 947520"/>
              <a:gd name="textAreaBottom" fmla="*/ 947880 h 947520"/>
            </a:gdLst>
            <a:ahLst/>
            <a:rect l="textAreaLeft" t="textAreaTop" r="textAreaRight" b="textAreaBottom"/>
            <a:pathLst>
              <a:path w="487387" h="1587146">
                <a:moveTo>
                  <a:pt x="0" y="1587146"/>
                </a:moveTo>
                <a:lnTo>
                  <a:pt x="326044" y="80187"/>
                </a:lnTo>
                <a:cubicBezTo>
                  <a:pt x="431948" y="101618"/>
                  <a:pt x="448952" y="-1569"/>
                  <a:pt x="487387" y="18"/>
                </a:cubicBezTo>
                <a:lnTo>
                  <a:pt x="158168" y="1506183"/>
                </a:lnTo>
                <a:cubicBezTo>
                  <a:pt x="114970" y="1564127"/>
                  <a:pt x="71773" y="1583970"/>
                  <a:pt x="0" y="1587146"/>
                </a:cubicBezTo>
                <a:close/>
              </a:path>
            </a:pathLst>
          </a:custGeom>
          <a:gradFill rotWithShape="0">
            <a:gsLst>
              <a:gs pos="0">
                <a:srgbClr val="0d0d0d"/>
              </a:gs>
              <a:gs pos="100000">
                <a:srgbClr val="262626"/>
              </a:gs>
            </a:gsLst>
            <a:lin ang="7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弦形 52"/>
          <p:cNvSpPr/>
          <p:nvPr/>
        </p:nvSpPr>
        <p:spPr>
          <a:xfrm rot="12600000">
            <a:off x="6887880" y="2440800"/>
            <a:ext cx="172800" cy="149400"/>
          </a:xfrm>
          <a:custGeom>
            <a:avLst/>
            <a:gdLst>
              <a:gd name="textAreaLeft" fmla="*/ 25200 w 172800"/>
              <a:gd name="textAreaRight" fmla="*/ 147600 w 172800"/>
              <a:gd name="textAreaTop" fmla="*/ 21600 h 149400"/>
              <a:gd name="textAreaBottom" fmla="*/ 127800 h 149400"/>
            </a:gdLst>
            <a:ahLst/>
            <a:rect l="textAreaLeft" t="textAreaTop" r="textAreaRight" b="textAreaBottom"/>
            <a:pathLst>
              <a:path w="172120" h="148663">
                <a:moveTo>
                  <a:pt x="142314" y="130585"/>
                </a:moveTo>
                <a:lnTo>
                  <a:pt x="142313" y="130584"/>
                </a:lnTo>
                <a:cubicBezTo>
                  <a:pt x="126681" y="142246"/>
                  <a:pt x="106715" y="148663"/>
                  <a:pt x="86060" y="148663"/>
                </a:cubicBezTo>
                <a:cubicBezTo>
                  <a:pt x="38530" y="148663"/>
                  <a:pt x="0" y="115383"/>
                  <a:pt x="0" y="74331"/>
                </a:cubicBezTo>
                <a:cubicBezTo>
                  <a:pt x="0" y="49721"/>
                  <a:pt x="14101" y="26707"/>
                  <a:pt x="37661" y="12867"/>
                </a:cubicBezTo>
                <a:lnTo>
                  <a:pt x="142314" y="13058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5" name="平行四边形 33"/>
          <p:cNvSpPr/>
          <p:nvPr/>
        </p:nvSpPr>
        <p:spPr>
          <a:xfrm flipH="1">
            <a:off x="1912320" y="2365200"/>
            <a:ext cx="291960" cy="947880"/>
          </a:xfrm>
          <a:custGeom>
            <a:avLst/>
            <a:gdLst>
              <a:gd name="textAreaLeft" fmla="*/ -360 w 291960"/>
              <a:gd name="textAreaRight" fmla="*/ 291960 w 291960"/>
              <a:gd name="textAreaTop" fmla="*/ 0 h 947880"/>
              <a:gd name="textAreaBottom" fmla="*/ 948240 h 947880"/>
            </a:gdLst>
            <a:ahLst/>
            <a:rect l="textAreaLeft" t="textAreaTop" r="textAreaRight" b="textAreaBottom"/>
            <a:pathLst>
              <a:path w="487387" h="1587146">
                <a:moveTo>
                  <a:pt x="0" y="1587146"/>
                </a:moveTo>
                <a:lnTo>
                  <a:pt x="326044" y="80187"/>
                </a:lnTo>
                <a:cubicBezTo>
                  <a:pt x="431948" y="101618"/>
                  <a:pt x="448952" y="-1569"/>
                  <a:pt x="487387" y="18"/>
                </a:cubicBezTo>
                <a:lnTo>
                  <a:pt x="158168" y="1506183"/>
                </a:lnTo>
                <a:cubicBezTo>
                  <a:pt x="114970" y="1564127"/>
                  <a:pt x="71773" y="1583970"/>
                  <a:pt x="0" y="1587146"/>
                </a:cubicBezTo>
                <a:close/>
              </a:path>
            </a:pathLst>
          </a:custGeom>
          <a:gradFill rotWithShape="0">
            <a:gsLst>
              <a:gs pos="0">
                <a:srgbClr val="a88000"/>
              </a:gs>
              <a:gs pos="100000">
                <a:srgbClr val="f6bb00"/>
              </a:gs>
            </a:gsLst>
            <a:lin ang="7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6" name="弦形 62"/>
          <p:cNvSpPr/>
          <p:nvPr/>
        </p:nvSpPr>
        <p:spPr>
          <a:xfrm rot="1800000">
            <a:off x="1907640" y="2274480"/>
            <a:ext cx="171720" cy="147600"/>
          </a:xfrm>
          <a:custGeom>
            <a:avLst/>
            <a:gdLst>
              <a:gd name="textAreaLeft" fmla="*/ 25200 w 171720"/>
              <a:gd name="textAreaRight" fmla="*/ 146520 w 171720"/>
              <a:gd name="textAreaTop" fmla="*/ 21600 h 147600"/>
              <a:gd name="textAreaBottom" fmla="*/ 126000 h 147600"/>
            </a:gdLst>
            <a:ahLst/>
            <a:rect l="textAreaLeft" t="textAreaTop" r="textAreaRight" b="textAreaBottom"/>
            <a:pathLst>
              <a:path w="172120" h="148663">
                <a:moveTo>
                  <a:pt x="142314" y="130585"/>
                </a:moveTo>
                <a:lnTo>
                  <a:pt x="142313" y="130584"/>
                </a:lnTo>
                <a:cubicBezTo>
                  <a:pt x="126681" y="142246"/>
                  <a:pt x="106715" y="148663"/>
                  <a:pt x="86060" y="148663"/>
                </a:cubicBezTo>
                <a:cubicBezTo>
                  <a:pt x="38530" y="148663"/>
                  <a:pt x="0" y="115383"/>
                  <a:pt x="0" y="74331"/>
                </a:cubicBezTo>
                <a:cubicBezTo>
                  <a:pt x="0" y="49721"/>
                  <a:pt x="14101" y="26707"/>
                  <a:pt x="37661" y="12867"/>
                </a:cubicBezTo>
                <a:lnTo>
                  <a:pt x="142314" y="130585"/>
                </a:lnTo>
                <a:close/>
              </a:path>
            </a:pathLst>
          </a:custGeom>
          <a:solidFill>
            <a:srgbClr val="503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平行四边形 57"/>
          <p:cNvSpPr/>
          <p:nvPr/>
        </p:nvSpPr>
        <p:spPr>
          <a:xfrm flipH="1" rot="10800000">
            <a:off x="2007000" y="2431800"/>
            <a:ext cx="4503960" cy="879480"/>
          </a:xfrm>
          <a:prstGeom prst="parallelogram">
            <a:avLst>
              <a:gd name="adj" fmla="val 21623"/>
            </a:avLst>
          </a:prstGeom>
          <a:gradFill rotWithShape="0">
            <a:gsLst>
              <a:gs pos="0">
                <a:srgbClr val="a88000"/>
              </a:gs>
              <a:gs pos="100000">
                <a:srgbClr val="a88000"/>
              </a:gs>
            </a:gsLst>
            <a:lin ang="7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8" name="平行四边形 33"/>
          <p:cNvSpPr/>
          <p:nvPr/>
        </p:nvSpPr>
        <p:spPr>
          <a:xfrm flipH="1" rot="10800000">
            <a:off x="6299640" y="2431800"/>
            <a:ext cx="290520" cy="949320"/>
          </a:xfrm>
          <a:custGeom>
            <a:avLst/>
            <a:gdLst>
              <a:gd name="textAreaLeft" fmla="*/ -360 w 290520"/>
              <a:gd name="textAreaRight" fmla="*/ 290520 w 290520"/>
              <a:gd name="textAreaTop" fmla="*/ 0 h 949320"/>
              <a:gd name="textAreaBottom" fmla="*/ 949680 h 949320"/>
            </a:gdLst>
            <a:ahLst/>
            <a:rect l="textAreaLeft" t="textAreaTop" r="textAreaRight" b="textAreaBottom"/>
            <a:pathLst>
              <a:path w="487387" h="1587146">
                <a:moveTo>
                  <a:pt x="0" y="1587146"/>
                </a:moveTo>
                <a:lnTo>
                  <a:pt x="326044" y="80187"/>
                </a:lnTo>
                <a:cubicBezTo>
                  <a:pt x="431948" y="101618"/>
                  <a:pt x="448952" y="-1569"/>
                  <a:pt x="487387" y="18"/>
                </a:cubicBezTo>
                <a:lnTo>
                  <a:pt x="158168" y="1506183"/>
                </a:lnTo>
                <a:cubicBezTo>
                  <a:pt x="114970" y="1564127"/>
                  <a:pt x="71773" y="1583970"/>
                  <a:pt x="0" y="1587146"/>
                </a:cubicBezTo>
                <a:close/>
              </a:path>
            </a:pathLst>
          </a:custGeom>
          <a:gradFill rotWithShape="0">
            <a:gsLst>
              <a:gs pos="0">
                <a:srgbClr val="ac8300"/>
              </a:gs>
              <a:gs pos="100000">
                <a:srgbClr val="f6bb00"/>
              </a:gs>
            </a:gsLst>
            <a:lin ang="7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9" name="弦形 60"/>
          <p:cNvSpPr/>
          <p:nvPr/>
        </p:nvSpPr>
        <p:spPr>
          <a:xfrm rot="12600000">
            <a:off x="6423840" y="3322440"/>
            <a:ext cx="173160" cy="149040"/>
          </a:xfrm>
          <a:custGeom>
            <a:avLst/>
            <a:gdLst>
              <a:gd name="textAreaLeft" fmla="*/ 25200 w 173160"/>
              <a:gd name="textAreaRight" fmla="*/ 147960 w 173160"/>
              <a:gd name="textAreaTop" fmla="*/ 21600 h 149040"/>
              <a:gd name="textAreaBottom" fmla="*/ 127440 h 149040"/>
            </a:gdLst>
            <a:ahLst/>
            <a:rect l="textAreaLeft" t="textAreaTop" r="textAreaRight" b="textAreaBottom"/>
            <a:pathLst>
              <a:path w="172120" h="148663">
                <a:moveTo>
                  <a:pt x="142314" y="130585"/>
                </a:moveTo>
                <a:lnTo>
                  <a:pt x="142313" y="130584"/>
                </a:lnTo>
                <a:cubicBezTo>
                  <a:pt x="126681" y="142246"/>
                  <a:pt x="106715" y="148663"/>
                  <a:pt x="86060" y="148663"/>
                </a:cubicBezTo>
                <a:cubicBezTo>
                  <a:pt x="38530" y="148663"/>
                  <a:pt x="0" y="115383"/>
                  <a:pt x="0" y="74331"/>
                </a:cubicBezTo>
                <a:cubicBezTo>
                  <a:pt x="0" y="49721"/>
                  <a:pt x="14101" y="26707"/>
                  <a:pt x="37661" y="12867"/>
                </a:cubicBezTo>
                <a:lnTo>
                  <a:pt x="142314" y="130585"/>
                </a:lnTo>
                <a:close/>
              </a:path>
            </a:pathLst>
          </a:custGeom>
          <a:solidFill>
            <a:srgbClr val="503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平行四边形 33"/>
          <p:cNvSpPr/>
          <p:nvPr/>
        </p:nvSpPr>
        <p:spPr>
          <a:xfrm flipH="1">
            <a:off x="1409040" y="3238560"/>
            <a:ext cx="290520" cy="947520"/>
          </a:xfrm>
          <a:custGeom>
            <a:avLst/>
            <a:gdLst>
              <a:gd name="textAreaLeft" fmla="*/ -360 w 290520"/>
              <a:gd name="textAreaRight" fmla="*/ 290520 w 290520"/>
              <a:gd name="textAreaTop" fmla="*/ 0 h 947520"/>
              <a:gd name="textAreaBottom" fmla="*/ 947880 h 947520"/>
            </a:gdLst>
            <a:ahLst/>
            <a:rect l="textAreaLeft" t="textAreaTop" r="textAreaRight" b="textAreaBottom"/>
            <a:pathLst>
              <a:path w="487387" h="1587146">
                <a:moveTo>
                  <a:pt x="0" y="1587146"/>
                </a:moveTo>
                <a:lnTo>
                  <a:pt x="326044" y="80187"/>
                </a:lnTo>
                <a:cubicBezTo>
                  <a:pt x="431948" y="101618"/>
                  <a:pt x="448952" y="-1569"/>
                  <a:pt x="487387" y="18"/>
                </a:cubicBezTo>
                <a:lnTo>
                  <a:pt x="158168" y="1506183"/>
                </a:lnTo>
                <a:cubicBezTo>
                  <a:pt x="114970" y="1564127"/>
                  <a:pt x="71773" y="1583970"/>
                  <a:pt x="0" y="1587146"/>
                </a:cubicBezTo>
                <a:close/>
              </a:path>
            </a:pathLst>
          </a:custGeom>
          <a:gradFill rotWithShape="0">
            <a:gsLst>
              <a:gs pos="0">
                <a:srgbClr val="037283"/>
              </a:gs>
              <a:gs pos="100000">
                <a:srgbClr val="7cd2de"/>
              </a:gs>
            </a:gsLst>
            <a:lin ang="7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弦形 70"/>
          <p:cNvSpPr/>
          <p:nvPr/>
        </p:nvSpPr>
        <p:spPr>
          <a:xfrm rot="1800000">
            <a:off x="1403280" y="3147840"/>
            <a:ext cx="173160" cy="149400"/>
          </a:xfrm>
          <a:custGeom>
            <a:avLst/>
            <a:gdLst>
              <a:gd name="textAreaLeft" fmla="*/ 25200 w 173160"/>
              <a:gd name="textAreaRight" fmla="*/ 147960 w 173160"/>
              <a:gd name="textAreaTop" fmla="*/ 21600 h 149400"/>
              <a:gd name="textAreaBottom" fmla="*/ 127800 h 149400"/>
            </a:gdLst>
            <a:ahLst/>
            <a:rect l="textAreaLeft" t="textAreaTop" r="textAreaRight" b="textAreaBottom"/>
            <a:pathLst>
              <a:path w="172120" h="148663">
                <a:moveTo>
                  <a:pt x="142314" y="130585"/>
                </a:moveTo>
                <a:lnTo>
                  <a:pt x="142313" y="130584"/>
                </a:lnTo>
                <a:cubicBezTo>
                  <a:pt x="126681" y="142246"/>
                  <a:pt x="106715" y="148663"/>
                  <a:pt x="86060" y="148663"/>
                </a:cubicBezTo>
                <a:cubicBezTo>
                  <a:pt x="38530" y="148663"/>
                  <a:pt x="0" y="115383"/>
                  <a:pt x="0" y="74331"/>
                </a:cubicBezTo>
                <a:cubicBezTo>
                  <a:pt x="0" y="49721"/>
                  <a:pt x="14101" y="26707"/>
                  <a:pt x="37661" y="12867"/>
                </a:cubicBezTo>
                <a:lnTo>
                  <a:pt x="142314" y="130585"/>
                </a:lnTo>
                <a:close/>
              </a:path>
            </a:pathLst>
          </a:custGeom>
          <a:solidFill>
            <a:srgbClr val="013e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2" name="平行四边形 65"/>
          <p:cNvSpPr/>
          <p:nvPr/>
        </p:nvSpPr>
        <p:spPr>
          <a:xfrm flipH="1" rot="10800000">
            <a:off x="1503360" y="3306240"/>
            <a:ext cx="4503600" cy="878040"/>
          </a:xfrm>
          <a:prstGeom prst="parallelogram">
            <a:avLst>
              <a:gd name="adj" fmla="val 21656"/>
            </a:avLst>
          </a:prstGeom>
          <a:gradFill rotWithShape="0">
            <a:gsLst>
              <a:gs pos="0">
                <a:srgbClr val="037283"/>
              </a:gs>
              <a:gs pos="100000">
                <a:srgbClr val="037283"/>
              </a:gs>
            </a:gsLst>
            <a:lin ang="7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平行四边形 33"/>
          <p:cNvSpPr/>
          <p:nvPr/>
        </p:nvSpPr>
        <p:spPr>
          <a:xfrm flipH="1" rot="10800000">
            <a:off x="5794920" y="3306240"/>
            <a:ext cx="291960" cy="947880"/>
          </a:xfrm>
          <a:custGeom>
            <a:avLst/>
            <a:gdLst>
              <a:gd name="textAreaLeft" fmla="*/ -360 w 291960"/>
              <a:gd name="textAreaRight" fmla="*/ 291960 w 291960"/>
              <a:gd name="textAreaTop" fmla="*/ 0 h 947880"/>
              <a:gd name="textAreaBottom" fmla="*/ 948240 h 947880"/>
            </a:gdLst>
            <a:ahLst/>
            <a:rect l="textAreaLeft" t="textAreaTop" r="textAreaRight" b="textAreaBottom"/>
            <a:pathLst>
              <a:path w="487387" h="1587146">
                <a:moveTo>
                  <a:pt x="0" y="1587146"/>
                </a:moveTo>
                <a:lnTo>
                  <a:pt x="326044" y="80187"/>
                </a:lnTo>
                <a:cubicBezTo>
                  <a:pt x="431948" y="101618"/>
                  <a:pt x="448952" y="-1569"/>
                  <a:pt x="487387" y="18"/>
                </a:cubicBezTo>
                <a:lnTo>
                  <a:pt x="158168" y="1506183"/>
                </a:lnTo>
                <a:cubicBezTo>
                  <a:pt x="114970" y="1564127"/>
                  <a:pt x="71773" y="1583970"/>
                  <a:pt x="0" y="1587146"/>
                </a:cubicBezTo>
                <a:close/>
              </a:path>
            </a:pathLst>
          </a:custGeom>
          <a:gradFill rotWithShape="0">
            <a:gsLst>
              <a:gs pos="0">
                <a:srgbClr val="037283"/>
              </a:gs>
              <a:gs pos="100000">
                <a:srgbClr val="7cd2de"/>
              </a:gs>
            </a:gsLst>
            <a:lin ang="7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4" name="弦形 68"/>
          <p:cNvSpPr/>
          <p:nvPr/>
        </p:nvSpPr>
        <p:spPr>
          <a:xfrm rot="12600000">
            <a:off x="5920920" y="4195440"/>
            <a:ext cx="171720" cy="149040"/>
          </a:xfrm>
          <a:custGeom>
            <a:avLst/>
            <a:gdLst>
              <a:gd name="textAreaLeft" fmla="*/ 25200 w 171720"/>
              <a:gd name="textAreaRight" fmla="*/ 146520 w 171720"/>
              <a:gd name="textAreaTop" fmla="*/ 21600 h 149040"/>
              <a:gd name="textAreaBottom" fmla="*/ 127440 h 149040"/>
            </a:gdLst>
            <a:ahLst/>
            <a:rect l="textAreaLeft" t="textAreaTop" r="textAreaRight" b="textAreaBottom"/>
            <a:pathLst>
              <a:path w="172120" h="148663">
                <a:moveTo>
                  <a:pt x="142314" y="130585"/>
                </a:moveTo>
                <a:lnTo>
                  <a:pt x="142313" y="130584"/>
                </a:lnTo>
                <a:cubicBezTo>
                  <a:pt x="126681" y="142246"/>
                  <a:pt x="106715" y="148663"/>
                  <a:pt x="86060" y="148663"/>
                </a:cubicBezTo>
                <a:cubicBezTo>
                  <a:pt x="38530" y="148663"/>
                  <a:pt x="0" y="115383"/>
                  <a:pt x="0" y="74331"/>
                </a:cubicBezTo>
                <a:cubicBezTo>
                  <a:pt x="0" y="49721"/>
                  <a:pt x="14101" y="26707"/>
                  <a:pt x="37661" y="12867"/>
                </a:cubicBezTo>
                <a:lnTo>
                  <a:pt x="142314" y="130585"/>
                </a:lnTo>
                <a:close/>
              </a:path>
            </a:pathLst>
          </a:custGeom>
          <a:solidFill>
            <a:srgbClr val="013e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5" name="TextBox 77"/>
          <p:cNvSpPr/>
          <p:nvPr/>
        </p:nvSpPr>
        <p:spPr>
          <a:xfrm>
            <a:off x="4324320" y="819000"/>
            <a:ext cx="233532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Your tex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Click here to add your text or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Copy Your text and paste it her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TextBox 78"/>
          <p:cNvSpPr/>
          <p:nvPr/>
        </p:nvSpPr>
        <p:spPr>
          <a:xfrm>
            <a:off x="2992320" y="1058760"/>
            <a:ext cx="82080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1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Haettenschweiler"/>
              </a:rPr>
              <a:t>0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Haettenschweiler"/>
              </a:rPr>
              <a:t>STE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7" name="TextBox 79"/>
          <p:cNvSpPr/>
          <p:nvPr/>
        </p:nvSpPr>
        <p:spPr>
          <a:xfrm>
            <a:off x="3963960" y="1708200"/>
            <a:ext cx="233676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Your tex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Click here to add your text or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Copy Your text and paste it her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8" name="TextBox 80"/>
          <p:cNvSpPr/>
          <p:nvPr/>
        </p:nvSpPr>
        <p:spPr>
          <a:xfrm>
            <a:off x="2669400" y="1947960"/>
            <a:ext cx="82080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1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Haettenschweiler"/>
              </a:rPr>
              <a:t>0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Haettenschweiler"/>
              </a:rPr>
              <a:t>STE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TextBox 81"/>
          <p:cNvSpPr/>
          <p:nvPr/>
        </p:nvSpPr>
        <p:spPr>
          <a:xfrm>
            <a:off x="3489480" y="2571840"/>
            <a:ext cx="233676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Your tex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Click here to add your text or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Copy Your text and paste it her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0" name="TextBox 82"/>
          <p:cNvSpPr/>
          <p:nvPr/>
        </p:nvSpPr>
        <p:spPr>
          <a:xfrm>
            <a:off x="2194920" y="2811600"/>
            <a:ext cx="82080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1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Haettenschweiler"/>
              </a:rPr>
              <a:t>0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Haettenschweiler"/>
              </a:rPr>
              <a:t>STE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TextBox 83"/>
          <p:cNvSpPr/>
          <p:nvPr/>
        </p:nvSpPr>
        <p:spPr>
          <a:xfrm>
            <a:off x="2955960" y="3454560"/>
            <a:ext cx="233676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Your tex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Click here to add your text or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Copy Your text and paste it her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TextBox 84"/>
          <p:cNvSpPr/>
          <p:nvPr/>
        </p:nvSpPr>
        <p:spPr>
          <a:xfrm>
            <a:off x="1679760" y="3695760"/>
            <a:ext cx="82080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1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Haettenschweiler"/>
              </a:rPr>
              <a:t>0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Haettenschweiler"/>
              </a:rPr>
              <a:t>STE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3" name="椭圆 42"/>
          <p:cNvGrpSpPr/>
          <p:nvPr/>
        </p:nvGrpSpPr>
        <p:grpSpPr>
          <a:xfrm>
            <a:off x="2846520" y="4906800"/>
            <a:ext cx="1908000" cy="225720"/>
            <a:chOff x="2846520" y="4906800"/>
            <a:chExt cx="1908000" cy="225720"/>
          </a:xfrm>
        </p:grpSpPr>
        <p:pic>
          <p:nvPicPr>
            <p:cNvPr id="1584" name="椭圆 42" descr=""/>
            <p:cNvPicPr/>
            <p:nvPr/>
          </p:nvPicPr>
          <p:blipFill>
            <a:blip r:embed="rId1"/>
            <a:stretch/>
          </p:blipFill>
          <p:spPr>
            <a:xfrm>
              <a:off x="2846520" y="4906800"/>
              <a:ext cx="190800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5" name=""/>
            <p:cNvSpPr/>
            <p:nvPr/>
          </p:nvSpPr>
          <p:spPr>
            <a:xfrm>
              <a:off x="3125880" y="4941720"/>
              <a:ext cx="1347840" cy="15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6" name="椭圆 22"/>
          <p:cNvGrpSpPr/>
          <p:nvPr/>
        </p:nvGrpSpPr>
        <p:grpSpPr>
          <a:xfrm>
            <a:off x="6205680" y="4621320"/>
            <a:ext cx="1908000" cy="218880"/>
            <a:chOff x="6205680" y="4621320"/>
            <a:chExt cx="1908000" cy="218880"/>
          </a:xfrm>
        </p:grpSpPr>
        <p:pic>
          <p:nvPicPr>
            <p:cNvPr id="1587" name="椭圆 22" descr=""/>
            <p:cNvPicPr/>
            <p:nvPr/>
          </p:nvPicPr>
          <p:blipFill>
            <a:blip r:embed="rId2"/>
            <a:stretch/>
          </p:blipFill>
          <p:spPr>
            <a:xfrm>
              <a:off x="6205680" y="4621320"/>
              <a:ext cx="1908000" cy="21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8" name=""/>
            <p:cNvSpPr/>
            <p:nvPr/>
          </p:nvSpPr>
          <p:spPr>
            <a:xfrm>
              <a:off x="6486480" y="4653000"/>
              <a:ext cx="1349280" cy="1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9" name="平行四边形 2"/>
          <p:cNvSpPr/>
          <p:nvPr/>
        </p:nvSpPr>
        <p:spPr>
          <a:xfrm flipH="1">
            <a:off x="3483720" y="455760"/>
            <a:ext cx="4940280" cy="973080"/>
          </a:xfrm>
          <a:prstGeom prst="parallelogram">
            <a:avLst>
              <a:gd name="adj" fmla="val 53896"/>
            </a:avLst>
          </a:prstGeom>
          <a:gradFill rotWithShape="0">
            <a:gsLst>
              <a:gs pos="0">
                <a:srgbClr val="f8a15a"/>
              </a:gs>
              <a:gs pos="100000">
                <a:srgbClr val="cd620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0" name="平行四边形 6"/>
          <p:cNvSpPr/>
          <p:nvPr/>
        </p:nvSpPr>
        <p:spPr>
          <a:xfrm>
            <a:off x="4413240" y="1428840"/>
            <a:ext cx="4011480" cy="304560"/>
          </a:xfrm>
          <a:prstGeom prst="parallelogram">
            <a:avLst>
              <a:gd name="adj" fmla="val 163362"/>
            </a:avLst>
          </a:prstGeom>
          <a:gradFill rotWithShape="0">
            <a:gsLst>
              <a:gs pos="0">
                <a:srgbClr val="000000"/>
              </a:gs>
              <a:gs pos="100000">
                <a:srgbClr val="59595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等腰三角形 9"/>
          <p:cNvSpPr/>
          <p:nvPr/>
        </p:nvSpPr>
        <p:spPr>
          <a:xfrm rot="10800000">
            <a:off x="6819840" y="3986280"/>
            <a:ext cx="1604880" cy="745920"/>
          </a:xfrm>
          <a:prstGeom prst="triangle">
            <a:avLst>
              <a:gd name="adj" fmla="val 78806"/>
            </a:avLst>
          </a:prstGeom>
          <a:gradFill rotWithShape="0">
            <a:gsLst>
              <a:gs pos="0">
                <a:srgbClr val="59595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2" name="平行四边形 10"/>
          <p:cNvSpPr/>
          <p:nvPr/>
        </p:nvSpPr>
        <p:spPr>
          <a:xfrm flipH="1">
            <a:off x="4412520" y="1733400"/>
            <a:ext cx="4011480" cy="973440"/>
          </a:xfrm>
          <a:prstGeom prst="parallelogram">
            <a:avLst>
              <a:gd name="adj" fmla="val 53877"/>
            </a:avLst>
          </a:prstGeom>
          <a:gradFill rotWithShape="0">
            <a:gsLst>
              <a:gs pos="0">
                <a:srgbClr val="f8a15a"/>
              </a:gs>
              <a:gs pos="100000">
                <a:srgbClr val="cd620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3" name="平行四边形 11"/>
          <p:cNvSpPr/>
          <p:nvPr/>
        </p:nvSpPr>
        <p:spPr>
          <a:xfrm flipH="1">
            <a:off x="5379480" y="3014640"/>
            <a:ext cx="3044520" cy="973080"/>
          </a:xfrm>
          <a:prstGeom prst="parallelogram">
            <a:avLst>
              <a:gd name="adj" fmla="val 53884"/>
            </a:avLst>
          </a:prstGeom>
          <a:gradFill rotWithShape="0">
            <a:gsLst>
              <a:gs pos="0">
                <a:srgbClr val="f8a15a"/>
              </a:gs>
              <a:gs pos="100000">
                <a:srgbClr val="cd620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平行四边形 12"/>
          <p:cNvSpPr/>
          <p:nvPr/>
        </p:nvSpPr>
        <p:spPr>
          <a:xfrm>
            <a:off x="5380200" y="2706840"/>
            <a:ext cx="3044520" cy="306360"/>
          </a:xfrm>
          <a:prstGeom prst="parallelogram">
            <a:avLst>
              <a:gd name="adj" fmla="val 162408"/>
            </a:avLst>
          </a:prstGeom>
          <a:gradFill rotWithShape="0">
            <a:gsLst>
              <a:gs pos="0">
                <a:srgbClr val="000000"/>
              </a:gs>
              <a:gs pos="100000">
                <a:srgbClr val="59595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5" name="TextBox 13" descr=""/>
          <p:cNvPicPr/>
          <p:nvPr/>
        </p:nvPicPr>
        <p:blipFill>
          <a:blip r:embed="rId3"/>
          <a:stretch/>
        </p:blipFill>
        <p:spPr>
          <a:xfrm>
            <a:off x="3292560" y="-187200"/>
            <a:ext cx="2035080" cy="1900080"/>
          </a:xfrm>
          <a:prstGeom prst="rect">
            <a:avLst/>
          </a:prstGeom>
          <a:ln w="0">
            <a:noFill/>
          </a:ln>
        </p:spPr>
      </p:pic>
      <p:pic>
        <p:nvPicPr>
          <p:cNvPr id="1596" name="TextBox 14" descr=""/>
          <p:cNvPicPr/>
          <p:nvPr/>
        </p:nvPicPr>
        <p:blipFill>
          <a:blip r:embed="rId4"/>
          <a:stretch/>
        </p:blipFill>
        <p:spPr>
          <a:xfrm>
            <a:off x="4303800" y="1109520"/>
            <a:ext cx="2036520" cy="1901880"/>
          </a:xfrm>
          <a:prstGeom prst="rect">
            <a:avLst/>
          </a:prstGeom>
          <a:ln w="0">
            <a:noFill/>
          </a:ln>
        </p:spPr>
      </p:pic>
      <p:pic>
        <p:nvPicPr>
          <p:cNvPr id="1597" name="TextBox 15" descr=""/>
          <p:cNvPicPr/>
          <p:nvPr/>
        </p:nvPicPr>
        <p:blipFill>
          <a:blip r:embed="rId5"/>
          <a:stretch/>
        </p:blipFill>
        <p:spPr>
          <a:xfrm>
            <a:off x="5278320" y="2389320"/>
            <a:ext cx="2036880" cy="1901520"/>
          </a:xfrm>
          <a:prstGeom prst="rect">
            <a:avLst/>
          </a:prstGeom>
          <a:ln w="0">
            <a:noFill/>
          </a:ln>
        </p:spPr>
      </p:pic>
      <p:sp>
        <p:nvSpPr>
          <p:cNvPr id="1598" name="矩形 16"/>
          <p:cNvSpPr/>
          <p:nvPr/>
        </p:nvSpPr>
        <p:spPr>
          <a:xfrm rot="3733800">
            <a:off x="3522240" y="905040"/>
            <a:ext cx="833400" cy="36360"/>
          </a:xfrm>
          <a:prstGeom prst="rect">
            <a:avLst/>
          </a:prstGeom>
          <a:solidFill>
            <a:srgbClr val="ffffff">
              <a:alpha val="3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9" name="矩形 17"/>
          <p:cNvSpPr/>
          <p:nvPr/>
        </p:nvSpPr>
        <p:spPr>
          <a:xfrm rot="3733800">
            <a:off x="4380120" y="2202480"/>
            <a:ext cx="833760" cy="34920"/>
          </a:xfrm>
          <a:prstGeom prst="rect">
            <a:avLst/>
          </a:prstGeom>
          <a:solidFill>
            <a:srgbClr val="ffffff">
              <a:alpha val="3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矩形 18"/>
          <p:cNvSpPr/>
          <p:nvPr/>
        </p:nvSpPr>
        <p:spPr>
          <a:xfrm rot="3733800">
            <a:off x="5346360" y="3483000"/>
            <a:ext cx="833400" cy="36360"/>
          </a:xfrm>
          <a:prstGeom prst="rect">
            <a:avLst/>
          </a:prstGeom>
          <a:solidFill>
            <a:srgbClr val="ffffff">
              <a:alpha val="3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1" name="TextBox 19"/>
          <p:cNvSpPr/>
          <p:nvPr/>
        </p:nvSpPr>
        <p:spPr>
          <a:xfrm>
            <a:off x="4756320" y="641520"/>
            <a:ext cx="233676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Your tex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Click here to add your text or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Copy Your text and paste it her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2" name="TextBox 20"/>
          <p:cNvSpPr/>
          <p:nvPr/>
        </p:nvSpPr>
        <p:spPr>
          <a:xfrm>
            <a:off x="5651640" y="1920960"/>
            <a:ext cx="233676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Your tex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Click here to add your text or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Copy Your text and paste it her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3" name="平行四边形 23"/>
          <p:cNvGrpSpPr/>
          <p:nvPr/>
        </p:nvGrpSpPr>
        <p:grpSpPr>
          <a:xfrm>
            <a:off x="7448400" y="450720"/>
            <a:ext cx="988920" cy="981000"/>
            <a:chOff x="7448400" y="450720"/>
            <a:chExt cx="988920" cy="981000"/>
          </a:xfrm>
        </p:grpSpPr>
        <p:pic>
          <p:nvPicPr>
            <p:cNvPr id="1604" name="平行四边形 23" descr=""/>
            <p:cNvPicPr/>
            <p:nvPr/>
          </p:nvPicPr>
          <p:blipFill>
            <a:blip r:embed="rId6"/>
            <a:stretch/>
          </p:blipFill>
          <p:spPr>
            <a:xfrm>
              <a:off x="7448400" y="450720"/>
              <a:ext cx="988920" cy="98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5" name="Text Box 20"/>
            <p:cNvSpPr/>
            <p:nvPr/>
          </p:nvSpPr>
          <p:spPr>
            <a:xfrm>
              <a:off x="7753320" y="753840"/>
              <a:ext cx="377640" cy="37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6" name="平行四边形 24"/>
          <p:cNvGrpSpPr/>
          <p:nvPr/>
        </p:nvGrpSpPr>
        <p:grpSpPr>
          <a:xfrm>
            <a:off x="7448400" y="1736640"/>
            <a:ext cx="988920" cy="987480"/>
            <a:chOff x="7448400" y="1736640"/>
            <a:chExt cx="988920" cy="987480"/>
          </a:xfrm>
        </p:grpSpPr>
        <p:pic>
          <p:nvPicPr>
            <p:cNvPr id="1607" name="平行四边形 24" descr=""/>
            <p:cNvPicPr/>
            <p:nvPr/>
          </p:nvPicPr>
          <p:blipFill>
            <a:blip r:embed="rId7"/>
            <a:stretch/>
          </p:blipFill>
          <p:spPr>
            <a:xfrm>
              <a:off x="7448400" y="1736640"/>
              <a:ext cx="988920" cy="9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8" name="Text Box 23"/>
            <p:cNvSpPr/>
            <p:nvPr/>
          </p:nvSpPr>
          <p:spPr>
            <a:xfrm>
              <a:off x="7753320" y="2041560"/>
              <a:ext cx="377640" cy="37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9" name="平行四边形 25"/>
          <p:cNvGrpSpPr/>
          <p:nvPr/>
        </p:nvGrpSpPr>
        <p:grpSpPr>
          <a:xfrm>
            <a:off x="7437600" y="3005280"/>
            <a:ext cx="993600" cy="987120"/>
            <a:chOff x="7437600" y="3005280"/>
            <a:chExt cx="993600" cy="987120"/>
          </a:xfrm>
        </p:grpSpPr>
        <p:pic>
          <p:nvPicPr>
            <p:cNvPr id="1610" name="平行四边形 25" descr=""/>
            <p:cNvPicPr/>
            <p:nvPr/>
          </p:nvPicPr>
          <p:blipFill>
            <a:blip r:embed="rId8"/>
            <a:stretch/>
          </p:blipFill>
          <p:spPr>
            <a:xfrm>
              <a:off x="7437600" y="3005280"/>
              <a:ext cx="993600" cy="98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1" name="Text Box 26"/>
            <p:cNvSpPr/>
            <p:nvPr/>
          </p:nvSpPr>
          <p:spPr>
            <a:xfrm>
              <a:off x="7745400" y="3311280"/>
              <a:ext cx="379440" cy="37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2" name="TextBox 21"/>
          <p:cNvSpPr/>
          <p:nvPr/>
        </p:nvSpPr>
        <p:spPr>
          <a:xfrm>
            <a:off x="6634080" y="3117960"/>
            <a:ext cx="14814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Your tex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Click here to add your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text or Copy Your text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and paste it her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3" name="平行四边形 26"/>
          <p:cNvSpPr/>
          <p:nvPr/>
        </p:nvSpPr>
        <p:spPr>
          <a:xfrm flipH="1" rot="3706200">
            <a:off x="2928240" y="1082520"/>
            <a:ext cx="1604880" cy="306360"/>
          </a:xfrm>
          <a:prstGeom prst="parallelogram">
            <a:avLst>
              <a:gd name="adj" fmla="val 162419"/>
            </a:avLst>
          </a:prstGeom>
          <a:gradFill rotWithShape="0">
            <a:gsLst>
              <a:gs pos="0">
                <a:srgbClr val="59595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4" name="平行四边形 27"/>
          <p:cNvSpPr/>
          <p:nvPr/>
        </p:nvSpPr>
        <p:spPr>
          <a:xfrm flipH="1">
            <a:off x="485640" y="1027080"/>
            <a:ext cx="3494160" cy="973080"/>
          </a:xfrm>
          <a:prstGeom prst="parallelogram">
            <a:avLst>
              <a:gd name="adj" fmla="val 53896"/>
            </a:avLst>
          </a:prstGeom>
          <a:gradFill rotWithShape="0">
            <a:gsLst>
              <a:gs pos="0">
                <a:srgbClr val="f8a15a"/>
              </a:gs>
              <a:gs pos="100000">
                <a:srgbClr val="cd620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平行四边形 29"/>
          <p:cNvSpPr/>
          <p:nvPr/>
        </p:nvSpPr>
        <p:spPr>
          <a:xfrm flipH="1" rot="3706200">
            <a:off x="3859560" y="2358720"/>
            <a:ext cx="1605240" cy="306360"/>
          </a:xfrm>
          <a:prstGeom prst="parallelogram">
            <a:avLst>
              <a:gd name="adj" fmla="val 162455"/>
            </a:avLst>
          </a:prstGeom>
          <a:gradFill rotWithShape="0">
            <a:gsLst>
              <a:gs pos="0">
                <a:srgbClr val="59595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平行四边形 30"/>
          <p:cNvSpPr/>
          <p:nvPr/>
        </p:nvSpPr>
        <p:spPr>
          <a:xfrm flipH="1" rot="3706200">
            <a:off x="4819680" y="3639240"/>
            <a:ext cx="1604880" cy="304920"/>
          </a:xfrm>
          <a:prstGeom prst="parallelogram">
            <a:avLst>
              <a:gd name="adj" fmla="val 163186"/>
            </a:avLst>
          </a:prstGeom>
          <a:gradFill rotWithShape="0">
            <a:gsLst>
              <a:gs pos="0">
                <a:srgbClr val="59595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7" name="平行四边形 31"/>
          <p:cNvSpPr/>
          <p:nvPr/>
        </p:nvSpPr>
        <p:spPr>
          <a:xfrm flipH="1">
            <a:off x="394560" y="2309760"/>
            <a:ext cx="4514760" cy="974880"/>
          </a:xfrm>
          <a:prstGeom prst="parallelogram">
            <a:avLst>
              <a:gd name="adj" fmla="val 53794"/>
            </a:avLst>
          </a:prstGeom>
          <a:gradFill rotWithShape="0">
            <a:gsLst>
              <a:gs pos="0">
                <a:srgbClr val="f8a15a"/>
              </a:gs>
              <a:gs pos="100000">
                <a:srgbClr val="cd620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平行四边形 32"/>
          <p:cNvSpPr/>
          <p:nvPr/>
        </p:nvSpPr>
        <p:spPr>
          <a:xfrm flipH="1">
            <a:off x="0" y="3597120"/>
            <a:ext cx="5875200" cy="973440"/>
          </a:xfrm>
          <a:prstGeom prst="parallelogram">
            <a:avLst>
              <a:gd name="adj" fmla="val 53872"/>
            </a:avLst>
          </a:prstGeom>
          <a:gradFill rotWithShape="0">
            <a:gsLst>
              <a:gs pos="0">
                <a:srgbClr val="f8a15a"/>
              </a:gs>
              <a:gs pos="100000">
                <a:srgbClr val="cd620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9" name="平行四边形 33"/>
          <p:cNvGrpSpPr/>
          <p:nvPr/>
        </p:nvGrpSpPr>
        <p:grpSpPr>
          <a:xfrm>
            <a:off x="390600" y="2309760"/>
            <a:ext cx="981000" cy="976320"/>
            <a:chOff x="390600" y="2309760"/>
            <a:chExt cx="981000" cy="976320"/>
          </a:xfrm>
        </p:grpSpPr>
        <p:pic>
          <p:nvPicPr>
            <p:cNvPr id="1620" name="平行四边形 33" descr=""/>
            <p:cNvPicPr/>
            <p:nvPr/>
          </p:nvPicPr>
          <p:blipFill>
            <a:blip r:embed="rId9"/>
            <a:stretch/>
          </p:blipFill>
          <p:spPr>
            <a:xfrm>
              <a:off x="390600" y="2309760"/>
              <a:ext cx="981000" cy="97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1" name=""/>
            <p:cNvSpPr/>
            <p:nvPr/>
          </p:nvSpPr>
          <p:spPr>
            <a:xfrm>
              <a:off x="692280" y="2608200"/>
              <a:ext cx="377640" cy="37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2" name="平行四边形 34"/>
          <p:cNvGrpSpPr/>
          <p:nvPr/>
        </p:nvGrpSpPr>
        <p:grpSpPr>
          <a:xfrm>
            <a:off x="-6480" y="3597120"/>
            <a:ext cx="976320" cy="974880"/>
            <a:chOff x="-6480" y="3597120"/>
            <a:chExt cx="976320" cy="974880"/>
          </a:xfrm>
        </p:grpSpPr>
        <p:pic>
          <p:nvPicPr>
            <p:cNvPr id="1623" name="平行四边形 34" descr=""/>
            <p:cNvPicPr/>
            <p:nvPr/>
          </p:nvPicPr>
          <p:blipFill>
            <a:blip r:embed="rId10"/>
            <a:stretch/>
          </p:blipFill>
          <p:spPr>
            <a:xfrm>
              <a:off x="-6480" y="3597120"/>
              <a:ext cx="976320" cy="97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4" name=""/>
            <p:cNvSpPr/>
            <p:nvPr/>
          </p:nvSpPr>
          <p:spPr>
            <a:xfrm>
              <a:off x="291960" y="3895560"/>
              <a:ext cx="378000" cy="37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5" name="平行四边形 39"/>
          <p:cNvSpPr/>
          <p:nvPr/>
        </p:nvSpPr>
        <p:spPr>
          <a:xfrm>
            <a:off x="395280" y="2000160"/>
            <a:ext cx="3584520" cy="309600"/>
          </a:xfrm>
          <a:prstGeom prst="parallelogram">
            <a:avLst>
              <a:gd name="adj" fmla="val 200737"/>
            </a:avLst>
          </a:prstGeom>
          <a:gradFill rotWithShape="0">
            <a:gsLst>
              <a:gs pos="0">
                <a:srgbClr val="59595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6" name="平行四边形 40"/>
          <p:cNvSpPr/>
          <p:nvPr/>
        </p:nvSpPr>
        <p:spPr>
          <a:xfrm>
            <a:off x="0" y="3284640"/>
            <a:ext cx="4910040" cy="312480"/>
          </a:xfrm>
          <a:prstGeom prst="parallelogram">
            <a:avLst>
              <a:gd name="adj" fmla="val 296076"/>
            </a:avLst>
          </a:prstGeom>
          <a:gradFill rotWithShape="0">
            <a:gsLst>
              <a:gs pos="0">
                <a:srgbClr val="59595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7" name="等腰三角形 41"/>
          <p:cNvSpPr/>
          <p:nvPr/>
        </p:nvSpPr>
        <p:spPr>
          <a:xfrm rot="10800000">
            <a:off x="969840" y="4570560"/>
            <a:ext cx="2820960" cy="449280"/>
          </a:xfrm>
          <a:prstGeom prst="triangle">
            <a:avLst>
              <a:gd name="adj" fmla="val 0"/>
            </a:avLst>
          </a:prstGeom>
          <a:gradFill rotWithShape="0">
            <a:gsLst>
              <a:gs pos="0">
                <a:srgbClr val="59595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8" name="等腰三角形 43"/>
          <p:cNvSpPr/>
          <p:nvPr/>
        </p:nvSpPr>
        <p:spPr>
          <a:xfrm flipH="1">
            <a:off x="485640" y="281160"/>
            <a:ext cx="1603440" cy="745920"/>
          </a:xfrm>
          <a:prstGeom prst="triangle">
            <a:avLst>
              <a:gd name="adj" fmla="val 78806"/>
            </a:avLst>
          </a:prstGeom>
          <a:gradFill rotWithShape="0">
            <a:gsLst>
              <a:gs pos="0">
                <a:srgbClr val="59595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9" name="TextBox 45" descr=""/>
          <p:cNvPicPr/>
          <p:nvPr/>
        </p:nvPicPr>
        <p:blipFill>
          <a:blip r:embed="rId11"/>
          <a:stretch/>
        </p:blipFill>
        <p:spPr>
          <a:xfrm>
            <a:off x="285840" y="407880"/>
            <a:ext cx="2036520" cy="1901880"/>
          </a:xfrm>
          <a:prstGeom prst="rect">
            <a:avLst/>
          </a:prstGeom>
          <a:ln w="0">
            <a:noFill/>
          </a:ln>
        </p:spPr>
      </p:pic>
      <p:sp>
        <p:nvSpPr>
          <p:cNvPr id="1630" name="TextBox 46"/>
          <p:cNvSpPr/>
          <p:nvPr/>
        </p:nvSpPr>
        <p:spPr>
          <a:xfrm>
            <a:off x="1639800" y="1133640"/>
            <a:ext cx="14814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Your tex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Click here to add your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text or Copy Your text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and paste it her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1" name="TextBox 47" descr=""/>
          <p:cNvPicPr/>
          <p:nvPr/>
        </p:nvPicPr>
        <p:blipFill>
          <a:blip r:embed="rId12"/>
          <a:stretch/>
        </p:blipFill>
        <p:spPr>
          <a:xfrm>
            <a:off x="311040" y="1682640"/>
            <a:ext cx="2035440" cy="1901880"/>
          </a:xfrm>
          <a:prstGeom prst="rect">
            <a:avLst/>
          </a:prstGeom>
          <a:ln w="0">
            <a:noFill/>
          </a:ln>
        </p:spPr>
      </p:pic>
      <p:sp>
        <p:nvSpPr>
          <p:cNvPr id="1632" name="TextBox 48"/>
          <p:cNvSpPr/>
          <p:nvPr/>
        </p:nvSpPr>
        <p:spPr>
          <a:xfrm>
            <a:off x="1658880" y="2495520"/>
            <a:ext cx="233676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Your tex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Click here to add your text or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Copy Your text and paste it her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3" name="TextBox 49" descr=""/>
          <p:cNvPicPr/>
          <p:nvPr/>
        </p:nvPicPr>
        <p:blipFill>
          <a:blip r:embed="rId13"/>
          <a:stretch/>
        </p:blipFill>
        <p:spPr>
          <a:xfrm>
            <a:off x="341280" y="2962440"/>
            <a:ext cx="2036880" cy="1901520"/>
          </a:xfrm>
          <a:prstGeom prst="rect">
            <a:avLst/>
          </a:prstGeom>
          <a:ln w="0">
            <a:noFill/>
          </a:ln>
        </p:spPr>
      </p:pic>
      <p:sp>
        <p:nvSpPr>
          <p:cNvPr id="1634" name="TextBox 50"/>
          <p:cNvSpPr/>
          <p:nvPr/>
        </p:nvSpPr>
        <p:spPr>
          <a:xfrm>
            <a:off x="1803240" y="3795840"/>
            <a:ext cx="233712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Your tex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Click here to add your text or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Copy Your text and paste it her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直接连接符 40"/>
          <p:cNvSpPr/>
          <p:nvPr/>
        </p:nvSpPr>
        <p:spPr>
          <a:xfrm flipH="1">
            <a:off x="2031840" y="2532240"/>
            <a:ext cx="720720" cy="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直接连接符 51"/>
          <p:cNvSpPr/>
          <p:nvPr/>
        </p:nvSpPr>
        <p:spPr>
          <a:xfrm flipV="1">
            <a:off x="4552920" y="4335480"/>
            <a:ext cx="0" cy="72072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直接连接符 42"/>
          <p:cNvSpPr/>
          <p:nvPr/>
        </p:nvSpPr>
        <p:spPr>
          <a:xfrm flipV="1">
            <a:off x="4533840" y="50760"/>
            <a:ext cx="0" cy="72072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8" name="直接连接符 41"/>
          <p:cNvSpPr/>
          <p:nvPr/>
        </p:nvSpPr>
        <p:spPr>
          <a:xfrm flipH="1">
            <a:off x="6316560" y="2525760"/>
            <a:ext cx="719280" cy="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9" name="组合 18"/>
          <p:cNvGrpSpPr/>
          <p:nvPr/>
        </p:nvGrpSpPr>
        <p:grpSpPr>
          <a:xfrm>
            <a:off x="1963440" y="-49320"/>
            <a:ext cx="5164560" cy="5162760"/>
            <a:chOff x="1963440" y="-49320"/>
            <a:chExt cx="5164560" cy="5162760"/>
          </a:xfrm>
        </p:grpSpPr>
        <p:sp>
          <p:nvSpPr>
            <p:cNvPr id="1640" name="空心弧 20"/>
            <p:cNvSpPr/>
            <p:nvPr/>
          </p:nvSpPr>
          <p:spPr>
            <a:xfrm rot="2700000">
              <a:off x="2717280" y="709200"/>
              <a:ext cx="3647520" cy="3643920"/>
            </a:xfrm>
            <a:custGeom>
              <a:avLst/>
              <a:gdLst>
                <a:gd name="textAreaLeft" fmla="*/ 0 w 3647520"/>
                <a:gd name="textAreaRight" fmla="*/ 1180080 w 3647520"/>
                <a:gd name="textAreaTop" fmla="*/ 528840 h 3643920"/>
                <a:gd name="textAreaBottom" fmla="*/ 1821960 h 3643920"/>
              </a:gdLst>
              <a:ahLst/>
              <a:rect l="textAreaLeft" t="textAreaTop" r="textAreaRight" b="textAreaBottom"/>
              <a:pathLst>
                <a:path w="3215766" h="3215766">
                  <a:moveTo>
                    <a:pt x="0" y="1607881"/>
                  </a:moveTo>
                  <a:lnTo>
                    <a:pt x="0" y="1607881"/>
                  </a:lnTo>
                  <a:cubicBezTo>
                    <a:pt x="0" y="1179496"/>
                    <a:pt x="170949" y="768822"/>
                    <a:pt x="474919" y="466969"/>
                  </a:cubicBezTo>
                  <a:lnTo>
                    <a:pt x="1040586" y="1036605"/>
                  </a:lnTo>
                  <a:cubicBezTo>
                    <a:pt x="888381" y="1187748"/>
                    <a:pt x="802784" y="1393381"/>
                    <a:pt x="802784" y="1607882"/>
                  </a:cubicBezTo>
                  <a:lnTo>
                    <a:pt x="0" y="1607881"/>
                  </a:lnTo>
                  <a:close/>
                </a:path>
              </a:pathLst>
            </a:custGeom>
            <a:gradFill rotWithShape="0">
              <a:gsLst>
                <a:gs pos="0">
                  <a:srgbClr val="aea39f"/>
                </a:gs>
                <a:gs pos="100000">
                  <a:srgbClr val="f0e8e6"/>
                </a:gs>
              </a:gsLst>
              <a:lin ang="19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1" name="空心弧 22"/>
            <p:cNvSpPr/>
            <p:nvPr/>
          </p:nvSpPr>
          <p:spPr>
            <a:xfrm flipH="1" rot="18900000">
              <a:off x="2719080" y="709200"/>
              <a:ext cx="3647160" cy="3643920"/>
            </a:xfrm>
            <a:custGeom>
              <a:avLst/>
              <a:gdLst>
                <a:gd name="textAreaLeft" fmla="*/ -360 w 3647160"/>
                <a:gd name="textAreaRight" fmla="*/ 1179720 w 3647160"/>
                <a:gd name="textAreaTop" fmla="*/ 528840 h 3643920"/>
                <a:gd name="textAreaBottom" fmla="*/ 1821960 h 3643920"/>
              </a:gdLst>
              <a:ahLst/>
              <a:rect l="textAreaLeft" t="textAreaTop" r="textAreaRight" b="textAreaBottom"/>
              <a:pathLst>
                <a:path w="3215766" h="3215766">
                  <a:moveTo>
                    <a:pt x="0" y="1607881"/>
                  </a:moveTo>
                  <a:lnTo>
                    <a:pt x="0" y="1607881"/>
                  </a:lnTo>
                  <a:cubicBezTo>
                    <a:pt x="0" y="1179496"/>
                    <a:pt x="170949" y="768822"/>
                    <a:pt x="474919" y="466969"/>
                  </a:cubicBezTo>
                  <a:lnTo>
                    <a:pt x="1040586" y="1036605"/>
                  </a:lnTo>
                  <a:cubicBezTo>
                    <a:pt x="888381" y="1187748"/>
                    <a:pt x="802784" y="1393381"/>
                    <a:pt x="802784" y="1607882"/>
                  </a:cubicBezTo>
                  <a:lnTo>
                    <a:pt x="0" y="1607881"/>
                  </a:lnTo>
                  <a:close/>
                </a:path>
              </a:pathLst>
            </a:custGeom>
            <a:solidFill>
              <a:srgbClr val="f3ef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2" name="空心弧 23"/>
            <p:cNvSpPr/>
            <p:nvPr/>
          </p:nvSpPr>
          <p:spPr>
            <a:xfrm flipH="1" flipV="1" rot="2700000">
              <a:off x="2725200" y="707760"/>
              <a:ext cx="3647160" cy="3643920"/>
            </a:xfrm>
            <a:custGeom>
              <a:avLst/>
              <a:gdLst>
                <a:gd name="textAreaLeft" fmla="*/ -360 w 3647160"/>
                <a:gd name="textAreaRight" fmla="*/ 1179720 w 3647160"/>
                <a:gd name="textAreaTop" fmla="*/ 528840 h 3643920"/>
                <a:gd name="textAreaBottom" fmla="*/ 1821960 h 3643920"/>
              </a:gdLst>
              <a:ahLst/>
              <a:rect l="textAreaLeft" t="textAreaTop" r="textAreaRight" b="textAreaBottom"/>
              <a:pathLst>
                <a:path w="3215766" h="3215766">
                  <a:moveTo>
                    <a:pt x="0" y="1607881"/>
                  </a:moveTo>
                  <a:lnTo>
                    <a:pt x="0" y="1607881"/>
                  </a:lnTo>
                  <a:cubicBezTo>
                    <a:pt x="0" y="1179496"/>
                    <a:pt x="170949" y="768822"/>
                    <a:pt x="474919" y="466969"/>
                  </a:cubicBezTo>
                  <a:lnTo>
                    <a:pt x="1040586" y="1036605"/>
                  </a:lnTo>
                  <a:cubicBezTo>
                    <a:pt x="888381" y="1187748"/>
                    <a:pt x="802784" y="1393381"/>
                    <a:pt x="802784" y="1607882"/>
                  </a:cubicBezTo>
                  <a:lnTo>
                    <a:pt x="0" y="1607881"/>
                  </a:lnTo>
                  <a:close/>
                </a:path>
              </a:pathLst>
            </a:custGeom>
            <a:gradFill rotWithShape="0">
              <a:gsLst>
                <a:gs pos="0">
                  <a:srgbClr val="8d827c"/>
                </a:gs>
                <a:gs pos="100000">
                  <a:srgbClr val="e6dada"/>
                </a:gs>
              </a:gsLst>
              <a:lin ang="16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3" name="空心弧 25"/>
            <p:cNvSpPr/>
            <p:nvPr/>
          </p:nvSpPr>
          <p:spPr>
            <a:xfrm flipV="1" rot="18900000">
              <a:off x="2726280" y="707760"/>
              <a:ext cx="3647160" cy="3643920"/>
            </a:xfrm>
            <a:custGeom>
              <a:avLst/>
              <a:gdLst>
                <a:gd name="textAreaLeft" fmla="*/ 0 w 3647160"/>
                <a:gd name="textAreaRight" fmla="*/ 1180080 w 3647160"/>
                <a:gd name="textAreaTop" fmla="*/ 528840 h 3643920"/>
                <a:gd name="textAreaBottom" fmla="*/ 1821960 h 3643920"/>
              </a:gdLst>
              <a:ahLst/>
              <a:rect l="textAreaLeft" t="textAreaTop" r="textAreaRight" b="textAreaBottom"/>
              <a:pathLst>
                <a:path w="3215766" h="3215766">
                  <a:moveTo>
                    <a:pt x="0" y="1607881"/>
                  </a:moveTo>
                  <a:lnTo>
                    <a:pt x="0" y="1607881"/>
                  </a:lnTo>
                  <a:cubicBezTo>
                    <a:pt x="0" y="1179496"/>
                    <a:pt x="170949" y="768822"/>
                    <a:pt x="474919" y="466969"/>
                  </a:cubicBezTo>
                  <a:lnTo>
                    <a:pt x="1040586" y="1036605"/>
                  </a:lnTo>
                  <a:cubicBezTo>
                    <a:pt x="888381" y="1187748"/>
                    <a:pt x="802784" y="1393381"/>
                    <a:pt x="802784" y="1607882"/>
                  </a:cubicBezTo>
                  <a:lnTo>
                    <a:pt x="0" y="1607881"/>
                  </a:lnTo>
                  <a:close/>
                </a:path>
              </a:pathLst>
            </a:custGeom>
            <a:solidFill>
              <a:srgbClr val="e5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4" name="空心弧 26"/>
            <p:cNvSpPr/>
            <p:nvPr/>
          </p:nvSpPr>
          <p:spPr>
            <a:xfrm flipH="1" flipV="1" rot="18900000">
              <a:off x="2720160" y="705240"/>
              <a:ext cx="3643920" cy="3647520"/>
            </a:xfrm>
            <a:custGeom>
              <a:avLst/>
              <a:gdLst>
                <a:gd name="textAreaLeft" fmla="*/ 360 w 3643920"/>
                <a:gd name="textAreaRight" fmla="*/ 1179360 w 3643920"/>
                <a:gd name="textAreaTop" fmla="*/ 529920 h 3647520"/>
                <a:gd name="textAreaBottom" fmla="*/ 1824120 h 3647520"/>
              </a:gdLst>
              <a:ahLst/>
              <a:rect l="textAreaLeft" t="textAreaTop" r="textAreaRight" b="textAreaBottom"/>
              <a:pathLst>
                <a:path w="3215766" h="3215766">
                  <a:moveTo>
                    <a:pt x="0" y="1607881"/>
                  </a:moveTo>
                  <a:lnTo>
                    <a:pt x="0" y="1607881"/>
                  </a:lnTo>
                  <a:cubicBezTo>
                    <a:pt x="0" y="1179496"/>
                    <a:pt x="170949" y="768822"/>
                    <a:pt x="474919" y="466969"/>
                  </a:cubicBezTo>
                  <a:lnTo>
                    <a:pt x="1040586" y="1036605"/>
                  </a:lnTo>
                  <a:cubicBezTo>
                    <a:pt x="888381" y="1187748"/>
                    <a:pt x="802784" y="1393381"/>
                    <a:pt x="802784" y="1607882"/>
                  </a:cubicBezTo>
                  <a:lnTo>
                    <a:pt x="0" y="1607881"/>
                  </a:lnTo>
                  <a:close/>
                </a:path>
              </a:pathLst>
            </a:custGeom>
            <a:gradFill rotWithShape="0">
              <a:gsLst>
                <a:gs pos="0">
                  <a:srgbClr val="f3eeeb"/>
                </a:gs>
                <a:gs pos="100000">
                  <a:srgbClr val="ccc7c4"/>
                </a:gs>
              </a:gsLst>
              <a:lin ang="4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5" name="空心弧 28"/>
            <p:cNvSpPr/>
            <p:nvPr/>
          </p:nvSpPr>
          <p:spPr>
            <a:xfrm flipV="1" rot="13500000">
              <a:off x="2720520" y="704880"/>
              <a:ext cx="3643920" cy="3647520"/>
            </a:xfrm>
            <a:custGeom>
              <a:avLst/>
              <a:gdLst>
                <a:gd name="textAreaLeft" fmla="*/ 0 w 3643920"/>
                <a:gd name="textAreaRight" fmla="*/ 1179000 w 3643920"/>
                <a:gd name="textAreaTop" fmla="*/ 529920 h 3647520"/>
                <a:gd name="textAreaBottom" fmla="*/ 1824120 h 3647520"/>
              </a:gdLst>
              <a:ahLst/>
              <a:rect l="textAreaLeft" t="textAreaTop" r="textAreaRight" b="textAreaBottom"/>
              <a:pathLst>
                <a:path w="3215766" h="3215766">
                  <a:moveTo>
                    <a:pt x="0" y="1607881"/>
                  </a:moveTo>
                  <a:lnTo>
                    <a:pt x="0" y="1607881"/>
                  </a:lnTo>
                  <a:cubicBezTo>
                    <a:pt x="0" y="1179496"/>
                    <a:pt x="170949" y="768822"/>
                    <a:pt x="474919" y="466969"/>
                  </a:cubicBezTo>
                  <a:lnTo>
                    <a:pt x="1040586" y="1036605"/>
                  </a:lnTo>
                  <a:cubicBezTo>
                    <a:pt x="888381" y="1187748"/>
                    <a:pt x="802784" y="1393381"/>
                    <a:pt x="802784" y="1607882"/>
                  </a:cubicBezTo>
                  <a:lnTo>
                    <a:pt x="0" y="1607881"/>
                  </a:lnTo>
                  <a:close/>
                </a:path>
              </a:pathLst>
            </a:custGeom>
            <a:gradFill rotWithShape="0">
              <a:gsLst>
                <a:gs pos="0">
                  <a:srgbClr val="efe9e9"/>
                </a:gs>
                <a:gs pos="100000">
                  <a:srgbClr val="a59e98"/>
                </a:gs>
              </a:gsLst>
              <a:lin ang="18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46" name="空心弧 31"/>
            <p:cNvGrpSpPr/>
            <p:nvPr/>
          </p:nvGrpSpPr>
          <p:grpSpPr>
            <a:xfrm>
              <a:off x="2513880" y="1238040"/>
              <a:ext cx="1558440" cy="1564560"/>
              <a:chOff x="2513880" y="1238040"/>
              <a:chExt cx="1558440" cy="1564560"/>
            </a:xfrm>
          </p:grpSpPr>
          <p:pic>
            <p:nvPicPr>
              <p:cNvPr id="1647" name="空心弧 31" descr=""/>
              <p:cNvPicPr/>
              <p:nvPr/>
            </p:nvPicPr>
            <p:blipFill>
              <a:blip r:embed="rId1"/>
              <a:stretch/>
            </p:blipFill>
            <p:spPr>
              <a:xfrm>
                <a:off x="2844360" y="1238040"/>
                <a:ext cx="1065600" cy="1166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48" name="Text Box 15"/>
              <p:cNvSpPr/>
              <p:nvPr/>
            </p:nvSpPr>
            <p:spPr>
              <a:xfrm rot="13500000">
                <a:off x="2767680" y="1446120"/>
                <a:ext cx="1050480" cy="115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49" name="空心弧 32"/>
            <p:cNvGrpSpPr/>
            <p:nvPr/>
          </p:nvGrpSpPr>
          <p:grpSpPr>
            <a:xfrm>
              <a:off x="2485800" y="2297520"/>
              <a:ext cx="1559520" cy="1559880"/>
              <a:chOff x="2485800" y="2297520"/>
              <a:chExt cx="1559520" cy="1559880"/>
            </a:xfrm>
          </p:grpSpPr>
          <p:pic>
            <p:nvPicPr>
              <p:cNvPr id="1650" name="空心弧 32" descr=""/>
              <p:cNvPicPr/>
              <p:nvPr/>
            </p:nvPicPr>
            <p:blipFill>
              <a:blip r:embed="rId2"/>
              <a:stretch/>
            </p:blipFill>
            <p:spPr>
              <a:xfrm>
                <a:off x="2797200" y="2713320"/>
                <a:ext cx="1112760" cy="1115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51" name="Text Box 18"/>
              <p:cNvSpPr/>
              <p:nvPr/>
            </p:nvSpPr>
            <p:spPr>
              <a:xfrm rot="18900000">
                <a:off x="2715840" y="2523960"/>
                <a:ext cx="1099080" cy="1106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52" name="空心弧 36"/>
            <p:cNvSpPr/>
            <p:nvPr/>
          </p:nvSpPr>
          <p:spPr>
            <a:xfrm flipV="1" rot="18900000">
              <a:off x="2725920" y="713160"/>
              <a:ext cx="3647160" cy="3643920"/>
            </a:xfrm>
            <a:custGeom>
              <a:avLst/>
              <a:gdLst>
                <a:gd name="textAreaLeft" fmla="*/ 261000 w 3647160"/>
                <a:gd name="textAreaRight" fmla="*/ 1180080 w 3647160"/>
                <a:gd name="textAreaTop" fmla="*/ 529200 h 3643920"/>
                <a:gd name="textAreaBottom" fmla="*/ 1351800 h 3643920"/>
              </a:gdLst>
              <a:ahLst/>
              <a:rect l="textAreaLeft" t="textAreaTop" r="textAreaRight" b="textAreaBottom"/>
              <a:pathLst>
                <a:path w="3215766" h="3215766">
                  <a:moveTo>
                    <a:pt x="230207" y="778850"/>
                  </a:moveTo>
                  <a:lnTo>
                    <a:pt x="230206" y="778849"/>
                  </a:lnTo>
                  <a:cubicBezTo>
                    <a:pt x="298600" y="665193"/>
                    <a:pt x="380796" y="560437"/>
                    <a:pt x="474919" y="466969"/>
                  </a:cubicBezTo>
                  <a:lnTo>
                    <a:pt x="1040586" y="1036605"/>
                  </a:lnTo>
                  <a:cubicBezTo>
                    <a:pt x="993456" y="1083406"/>
                    <a:pt x="952299" y="1135859"/>
                    <a:pt x="918052" y="1192769"/>
                  </a:cubicBezTo>
                  <a:lnTo>
                    <a:pt x="230207" y="778850"/>
                  </a:lnTo>
                  <a:close/>
                </a:path>
              </a:pathLst>
            </a:custGeom>
            <a:gradFill rotWithShape="0">
              <a:gsLst>
                <a:gs pos="0">
                  <a:srgbClr val="e5dada"/>
                </a:gs>
                <a:gs pos="100000">
                  <a:srgbClr val="8a7c79"/>
                </a:gs>
              </a:gsLst>
              <a:lin ang="18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53" name="空心弧 38"/>
            <p:cNvGrpSpPr/>
            <p:nvPr/>
          </p:nvGrpSpPr>
          <p:grpSpPr>
            <a:xfrm>
              <a:off x="3229200" y="3170520"/>
              <a:ext cx="903600" cy="944640"/>
              <a:chOff x="3229200" y="3170520"/>
              <a:chExt cx="903600" cy="944640"/>
            </a:xfrm>
          </p:grpSpPr>
          <p:pic>
            <p:nvPicPr>
              <p:cNvPr id="1654" name="空心弧 38" descr=""/>
              <p:cNvPicPr/>
              <p:nvPr/>
            </p:nvPicPr>
            <p:blipFill>
              <a:blip r:embed="rId3"/>
              <a:stretch/>
            </p:blipFill>
            <p:spPr>
              <a:xfrm>
                <a:off x="3246120" y="3170520"/>
                <a:ext cx="724680" cy="944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55" name="Text Box 22"/>
              <p:cNvSpPr/>
              <p:nvPr/>
            </p:nvSpPr>
            <p:spPr>
              <a:xfrm rot="8100000">
                <a:off x="3275280" y="3418200"/>
                <a:ext cx="810720" cy="46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656" name="组合 1" descr=""/>
          <p:cNvPicPr/>
          <p:nvPr/>
        </p:nvPicPr>
        <p:blipFill>
          <a:blip r:embed="rId4"/>
          <a:stretch/>
        </p:blipFill>
        <p:spPr>
          <a:xfrm>
            <a:off x="2633760" y="609480"/>
            <a:ext cx="3840120" cy="3853080"/>
          </a:xfrm>
          <a:prstGeom prst="rect">
            <a:avLst/>
          </a:prstGeom>
          <a:ln w="0">
            <a:noFill/>
          </a:ln>
        </p:spPr>
      </p:pic>
      <p:pic>
        <p:nvPicPr>
          <p:cNvPr id="1657" name="TextBox 52" descr=""/>
          <p:cNvPicPr/>
          <p:nvPr/>
        </p:nvPicPr>
        <p:blipFill>
          <a:blip r:embed="rId5"/>
          <a:stretch/>
        </p:blipFill>
        <p:spPr>
          <a:xfrm>
            <a:off x="4486320" y="957240"/>
            <a:ext cx="1085760" cy="828720"/>
          </a:xfrm>
          <a:prstGeom prst="rect">
            <a:avLst/>
          </a:prstGeom>
          <a:ln w="0">
            <a:noFill/>
          </a:ln>
        </p:spPr>
      </p:pic>
      <p:pic>
        <p:nvPicPr>
          <p:cNvPr id="1658" name="TextBox 53" descr=""/>
          <p:cNvPicPr/>
          <p:nvPr/>
        </p:nvPicPr>
        <p:blipFill>
          <a:blip r:embed="rId6"/>
          <a:stretch/>
        </p:blipFill>
        <p:spPr>
          <a:xfrm>
            <a:off x="5145120" y="1646280"/>
            <a:ext cx="1084320" cy="828720"/>
          </a:xfrm>
          <a:prstGeom prst="rect">
            <a:avLst/>
          </a:prstGeom>
          <a:ln w="0">
            <a:noFill/>
          </a:ln>
        </p:spPr>
      </p:pic>
      <p:pic>
        <p:nvPicPr>
          <p:cNvPr id="1659" name="TextBox 54" descr=""/>
          <p:cNvPicPr/>
          <p:nvPr/>
        </p:nvPicPr>
        <p:blipFill>
          <a:blip r:embed="rId7"/>
          <a:stretch/>
        </p:blipFill>
        <p:spPr>
          <a:xfrm>
            <a:off x="5138640" y="2541600"/>
            <a:ext cx="1086120" cy="830160"/>
          </a:xfrm>
          <a:prstGeom prst="rect">
            <a:avLst/>
          </a:prstGeom>
          <a:ln w="0">
            <a:noFill/>
          </a:ln>
        </p:spPr>
      </p:pic>
      <p:pic>
        <p:nvPicPr>
          <p:cNvPr id="1660" name="TextBox 55" descr=""/>
          <p:cNvPicPr/>
          <p:nvPr/>
        </p:nvPicPr>
        <p:blipFill>
          <a:blip r:embed="rId8"/>
          <a:stretch/>
        </p:blipFill>
        <p:spPr>
          <a:xfrm>
            <a:off x="4486320" y="3176640"/>
            <a:ext cx="1085760" cy="828720"/>
          </a:xfrm>
          <a:prstGeom prst="rect">
            <a:avLst/>
          </a:prstGeom>
          <a:ln w="0">
            <a:noFill/>
          </a:ln>
        </p:spPr>
      </p:pic>
      <p:pic>
        <p:nvPicPr>
          <p:cNvPr id="1661" name="TextBox 61" descr=""/>
          <p:cNvPicPr/>
          <p:nvPr/>
        </p:nvPicPr>
        <p:blipFill>
          <a:blip r:embed="rId9"/>
          <a:stretch/>
        </p:blipFill>
        <p:spPr>
          <a:xfrm>
            <a:off x="3560760" y="3176640"/>
            <a:ext cx="1084320" cy="828720"/>
          </a:xfrm>
          <a:prstGeom prst="rect">
            <a:avLst/>
          </a:prstGeom>
          <a:ln w="0">
            <a:noFill/>
          </a:ln>
        </p:spPr>
      </p:pic>
      <p:pic>
        <p:nvPicPr>
          <p:cNvPr id="1662" name="TextBox 62" descr=""/>
          <p:cNvPicPr/>
          <p:nvPr/>
        </p:nvPicPr>
        <p:blipFill>
          <a:blip r:embed="rId10"/>
          <a:stretch/>
        </p:blipFill>
        <p:spPr>
          <a:xfrm>
            <a:off x="2901960" y="2541600"/>
            <a:ext cx="1084320" cy="830160"/>
          </a:xfrm>
          <a:prstGeom prst="rect">
            <a:avLst/>
          </a:prstGeom>
          <a:ln w="0">
            <a:noFill/>
          </a:ln>
        </p:spPr>
      </p:pic>
      <p:pic>
        <p:nvPicPr>
          <p:cNvPr id="1663" name="TextBox 63" descr=""/>
          <p:cNvPicPr/>
          <p:nvPr/>
        </p:nvPicPr>
        <p:blipFill>
          <a:blip r:embed="rId11"/>
          <a:stretch/>
        </p:blipFill>
        <p:spPr>
          <a:xfrm>
            <a:off x="2901960" y="1646280"/>
            <a:ext cx="1084320" cy="828720"/>
          </a:xfrm>
          <a:prstGeom prst="rect">
            <a:avLst/>
          </a:prstGeom>
          <a:ln w="0">
            <a:noFill/>
          </a:ln>
        </p:spPr>
      </p:pic>
      <p:pic>
        <p:nvPicPr>
          <p:cNvPr id="1664" name="TextBox 64" descr=""/>
          <p:cNvPicPr/>
          <p:nvPr/>
        </p:nvPicPr>
        <p:blipFill>
          <a:blip r:embed="rId12"/>
          <a:stretch/>
        </p:blipFill>
        <p:spPr>
          <a:xfrm>
            <a:off x="3565440" y="957240"/>
            <a:ext cx="1085760" cy="828720"/>
          </a:xfrm>
          <a:prstGeom prst="rect">
            <a:avLst/>
          </a:prstGeom>
          <a:ln w="0">
            <a:noFill/>
          </a:ln>
        </p:spPr>
      </p:pic>
      <p:sp>
        <p:nvSpPr>
          <p:cNvPr id="1665" name="TextBox 65"/>
          <p:cNvSpPr/>
          <p:nvPr/>
        </p:nvSpPr>
        <p:spPr>
          <a:xfrm>
            <a:off x="4538520" y="104760"/>
            <a:ext cx="148140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Calibri"/>
              </a:rPr>
              <a:t>Click here to add your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Calibri"/>
              </a:rPr>
              <a:t>text or Copy Your text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Calibri"/>
              </a:rPr>
              <a:t>and paste it her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6" name="矩形 4"/>
          <p:cNvSpPr/>
          <p:nvPr/>
        </p:nvSpPr>
        <p:spPr>
          <a:xfrm>
            <a:off x="3647880" y="8244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76092"/>
                </a:solidFill>
                <a:latin typeface="Calibri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76092"/>
                </a:solidFill>
                <a:latin typeface="Calibri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矩形 66"/>
          <p:cNvSpPr/>
          <p:nvPr/>
        </p:nvSpPr>
        <p:spPr>
          <a:xfrm>
            <a:off x="6321240" y="253368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a452a"/>
                </a:solidFill>
                <a:latin typeface="Calibri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a452a"/>
                </a:solidFill>
                <a:latin typeface="Calibri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TextBox 67"/>
          <p:cNvSpPr/>
          <p:nvPr/>
        </p:nvSpPr>
        <p:spPr>
          <a:xfrm>
            <a:off x="6316560" y="1941480"/>
            <a:ext cx="148140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Calibri"/>
              </a:rPr>
              <a:t>Click here to add your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Calibri"/>
              </a:rPr>
              <a:t>text or Copy Your text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Calibri"/>
              </a:rPr>
              <a:t>and paste it her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9" name="矩形 68"/>
          <p:cNvSpPr/>
          <p:nvPr/>
        </p:nvSpPr>
        <p:spPr>
          <a:xfrm>
            <a:off x="4555080" y="433692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Calibri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Calibri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0" name="TextBox 69"/>
          <p:cNvSpPr/>
          <p:nvPr/>
        </p:nvSpPr>
        <p:spPr>
          <a:xfrm>
            <a:off x="3078000" y="4359240"/>
            <a:ext cx="148140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Calibri"/>
              </a:rPr>
              <a:t>Click here to add your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Calibri"/>
              </a:rPr>
              <a:t>text or Copy Your text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Calibri"/>
              </a:rPr>
              <a:t>and paste it her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1" name="矩形 70"/>
          <p:cNvSpPr/>
          <p:nvPr/>
        </p:nvSpPr>
        <p:spPr>
          <a:xfrm>
            <a:off x="1881720" y="254304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Calibri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Calibri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2" name="TextBox 71"/>
          <p:cNvSpPr/>
          <p:nvPr/>
        </p:nvSpPr>
        <p:spPr>
          <a:xfrm>
            <a:off x="1228680" y="1943280"/>
            <a:ext cx="148104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Calibri"/>
              </a:rPr>
              <a:t>Click here to add your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Calibri"/>
              </a:rPr>
              <a:t>text or Copy Your text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Calibri"/>
              </a:rPr>
              <a:t>and paste it her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3" name="直接连接符 43"/>
          <p:cNvSpPr/>
          <p:nvPr/>
        </p:nvSpPr>
        <p:spPr>
          <a:xfrm flipH="1">
            <a:off x="2742480" y="740520"/>
            <a:ext cx="509760" cy="50976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4" name="直接连接符 44"/>
          <p:cNvSpPr/>
          <p:nvPr/>
        </p:nvSpPr>
        <p:spPr>
          <a:xfrm>
            <a:off x="5823720" y="740520"/>
            <a:ext cx="509760" cy="50976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直接连接符 45"/>
          <p:cNvSpPr/>
          <p:nvPr/>
        </p:nvSpPr>
        <p:spPr>
          <a:xfrm flipH="1" flipV="1">
            <a:off x="2742480" y="3817080"/>
            <a:ext cx="509760" cy="50976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6" name="直接连接符 46"/>
          <p:cNvSpPr/>
          <p:nvPr/>
        </p:nvSpPr>
        <p:spPr>
          <a:xfrm flipV="1">
            <a:off x="5823720" y="3817080"/>
            <a:ext cx="509760" cy="50976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7" name="矩形 47"/>
          <p:cNvSpPr/>
          <p:nvPr/>
        </p:nvSpPr>
        <p:spPr>
          <a:xfrm>
            <a:off x="2113560" y="92556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84807"/>
                </a:solidFill>
                <a:latin typeface="Calibri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84807"/>
                </a:solidFill>
                <a:latin typeface="Calibri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8" name="TextBox 48"/>
          <p:cNvSpPr/>
          <p:nvPr/>
        </p:nvSpPr>
        <p:spPr>
          <a:xfrm>
            <a:off x="684360" y="949320"/>
            <a:ext cx="148104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Calibri"/>
              </a:rPr>
              <a:t>Click here to add your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Calibri"/>
              </a:rPr>
              <a:t>text or Copy Your text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Calibri"/>
              </a:rPr>
              <a:t>and paste it her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9" name="矩形 49"/>
          <p:cNvSpPr/>
          <p:nvPr/>
        </p:nvSpPr>
        <p:spPr>
          <a:xfrm>
            <a:off x="5951520" y="94932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f6228"/>
                </a:solidFill>
                <a:latin typeface="Calibri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f6228"/>
                </a:solidFill>
                <a:latin typeface="Calibri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TextBox 50"/>
          <p:cNvSpPr/>
          <p:nvPr/>
        </p:nvSpPr>
        <p:spPr>
          <a:xfrm>
            <a:off x="6861240" y="949320"/>
            <a:ext cx="148104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Calibri"/>
              </a:rPr>
              <a:t>Click here to add your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Calibri"/>
              </a:rPr>
              <a:t>text or Copy Your text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Calibri"/>
              </a:rPr>
              <a:t>and paste it her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矩形 56"/>
          <p:cNvSpPr/>
          <p:nvPr/>
        </p:nvSpPr>
        <p:spPr>
          <a:xfrm>
            <a:off x="2286720" y="363528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253f"/>
                </a:solidFill>
                <a:latin typeface="Calibri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253f"/>
                </a:solidFill>
                <a:latin typeface="Calibri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2" name="TextBox 57"/>
          <p:cNvSpPr/>
          <p:nvPr/>
        </p:nvSpPr>
        <p:spPr>
          <a:xfrm>
            <a:off x="833400" y="3681360"/>
            <a:ext cx="148104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Calibri"/>
              </a:rPr>
              <a:t>Click here to add your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Calibri"/>
              </a:rPr>
              <a:t>text or Copy Your text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Calibri"/>
              </a:rPr>
              <a:t>and paste it her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3" name="矩形 58"/>
          <p:cNvSpPr/>
          <p:nvPr/>
        </p:nvSpPr>
        <p:spPr>
          <a:xfrm>
            <a:off x="5990400" y="349416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54061"/>
                </a:solidFill>
                <a:latin typeface="Calibri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54061"/>
                </a:solidFill>
                <a:latin typeface="Calibri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4" name="TextBox 59"/>
          <p:cNvSpPr/>
          <p:nvPr/>
        </p:nvSpPr>
        <p:spPr>
          <a:xfrm>
            <a:off x="6861240" y="3540240"/>
            <a:ext cx="148104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Calibri"/>
              </a:rPr>
              <a:t>Click here to add your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Calibri"/>
              </a:rPr>
              <a:t>text or Copy Your text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Calibri"/>
              </a:rPr>
              <a:t>and paste it her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8" name="椭圆 21"/>
          <p:cNvGrpSpPr/>
          <p:nvPr/>
        </p:nvGrpSpPr>
        <p:grpSpPr>
          <a:xfrm>
            <a:off x="822240" y="2951280"/>
            <a:ext cx="1122480" cy="1103040"/>
            <a:chOff x="822240" y="2951280"/>
            <a:chExt cx="1122480" cy="1103040"/>
          </a:xfrm>
        </p:grpSpPr>
        <p:pic>
          <p:nvPicPr>
            <p:cNvPr id="589" name="椭圆 21" descr=""/>
            <p:cNvPicPr/>
            <p:nvPr/>
          </p:nvPicPr>
          <p:blipFill>
            <a:blip r:embed="rId1"/>
            <a:stretch/>
          </p:blipFill>
          <p:spPr>
            <a:xfrm>
              <a:off x="822240" y="2951280"/>
              <a:ext cx="1122480" cy="110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0" name=""/>
            <p:cNvSpPr/>
            <p:nvPr/>
          </p:nvSpPr>
          <p:spPr>
            <a:xfrm>
              <a:off x="987480" y="3114720"/>
              <a:ext cx="79200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595959"/>
                  </a:solidFill>
                  <a:latin typeface="Agency FB"/>
                  <a:ea typeface="Arial Unicode MS"/>
                </a:rPr>
                <a:t>0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1" name="椭圆 6"/>
          <p:cNvGrpSpPr/>
          <p:nvPr/>
        </p:nvGrpSpPr>
        <p:grpSpPr>
          <a:xfrm>
            <a:off x="2730600" y="1103400"/>
            <a:ext cx="1042920" cy="1023840"/>
            <a:chOff x="2730600" y="1103400"/>
            <a:chExt cx="1042920" cy="1023840"/>
          </a:xfrm>
        </p:grpSpPr>
        <p:pic>
          <p:nvPicPr>
            <p:cNvPr id="592" name="椭圆 6" descr=""/>
            <p:cNvPicPr/>
            <p:nvPr/>
          </p:nvPicPr>
          <p:blipFill>
            <a:blip r:embed="rId2"/>
            <a:stretch/>
          </p:blipFill>
          <p:spPr>
            <a:xfrm>
              <a:off x="2730600" y="1103400"/>
              <a:ext cx="1042920" cy="102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3" name=""/>
            <p:cNvSpPr/>
            <p:nvPr/>
          </p:nvSpPr>
          <p:spPr>
            <a:xfrm>
              <a:off x="2884320" y="1254240"/>
              <a:ext cx="735120" cy="72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595959"/>
                  </a:solidFill>
                  <a:latin typeface="Agency FB"/>
                  <a:ea typeface="Arial Unicode MS"/>
                </a:rPr>
                <a:t>0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4" name="矩形 10"/>
          <p:cNvSpPr/>
          <p:nvPr/>
        </p:nvSpPr>
        <p:spPr>
          <a:xfrm>
            <a:off x="-17640" y="2163600"/>
            <a:ext cx="3257640" cy="162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5" name="椭圆 11"/>
          <p:cNvGrpSpPr/>
          <p:nvPr/>
        </p:nvGrpSpPr>
        <p:grpSpPr>
          <a:xfrm>
            <a:off x="2712960" y="1096920"/>
            <a:ext cx="1054080" cy="1049400"/>
            <a:chOff x="2712960" y="1096920"/>
            <a:chExt cx="1054080" cy="1049400"/>
          </a:xfrm>
        </p:grpSpPr>
        <p:pic>
          <p:nvPicPr>
            <p:cNvPr id="596" name="椭圆 11" descr=""/>
            <p:cNvPicPr/>
            <p:nvPr/>
          </p:nvPicPr>
          <p:blipFill>
            <a:blip r:embed="rId3"/>
            <a:stretch/>
          </p:blipFill>
          <p:spPr>
            <a:xfrm>
              <a:off x="2712960" y="1096920"/>
              <a:ext cx="1054080" cy="104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7" name=""/>
            <p:cNvSpPr/>
            <p:nvPr/>
          </p:nvSpPr>
          <p:spPr>
            <a:xfrm>
              <a:off x="2865600" y="1252440"/>
              <a:ext cx="747720" cy="73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595959"/>
                  </a:solidFill>
                  <a:latin typeface="Agency FB"/>
                  <a:ea typeface="Arial Unicode MS"/>
                </a:rPr>
                <a:t>0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8" name="矩形 18"/>
          <p:cNvSpPr/>
          <p:nvPr/>
        </p:nvSpPr>
        <p:spPr>
          <a:xfrm flipV="1">
            <a:off x="-25200" y="2801880"/>
            <a:ext cx="1416240" cy="162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同心圆 20"/>
          <p:cNvSpPr/>
          <p:nvPr/>
        </p:nvSpPr>
        <p:spPr>
          <a:xfrm rot="10800000">
            <a:off x="671400" y="2801520"/>
            <a:ext cx="1424160" cy="1405080"/>
          </a:xfrm>
          <a:custGeom>
            <a:avLst/>
            <a:gdLst>
              <a:gd name="textAreaLeft" fmla="*/ 208440 w 1424160"/>
              <a:gd name="textAreaRight" fmla="*/ 1215720 w 1424160"/>
              <a:gd name="textAreaTop" fmla="*/ 205560 h 1405080"/>
              <a:gd name="textAreaBottom" fmla="*/ 1199520 h 1405080"/>
            </a:gdLst>
            <a:ahLst/>
            <a:rect l="textAreaLeft" t="textAreaTop" r="textAreaRight" b="textAreaBottom"/>
            <a:pathLst>
              <a:path w="1423818" h="1404156">
                <a:moveTo>
                  <a:pt x="0" y="702078"/>
                </a:moveTo>
                <a:lnTo>
                  <a:pt x="0" y="702078"/>
                </a:lnTo>
                <a:cubicBezTo>
                  <a:pt x="0" y="314331"/>
                  <a:pt x="318732" y="1"/>
                  <a:pt x="711909" y="1"/>
                </a:cubicBezTo>
                <a:cubicBezTo>
                  <a:pt x="711909" y="1"/>
                  <a:pt x="711909" y="1"/>
                  <a:pt x="711910" y="1"/>
                </a:cubicBezTo>
                <a:cubicBezTo>
                  <a:pt x="1105086" y="1"/>
                  <a:pt x="1423818" y="314332"/>
                  <a:pt x="1423818" y="702079"/>
                </a:cubicBezTo>
                <a:cubicBezTo>
                  <a:pt x="1423818" y="702079"/>
                  <a:pt x="1423817" y="702079"/>
                  <a:pt x="1423817" y="702080"/>
                </a:cubicBezTo>
                <a:lnTo>
                  <a:pt x="1423818" y="702080"/>
                </a:lnTo>
                <a:cubicBezTo>
                  <a:pt x="1423818" y="1089826"/>
                  <a:pt x="1105085" y="1404158"/>
                  <a:pt x="711909" y="1404158"/>
                </a:cubicBezTo>
                <a:cubicBezTo>
                  <a:pt x="318732" y="1404158"/>
                  <a:pt x="0" y="1089826"/>
                  <a:pt x="0" y="702080"/>
                </a:cubicBezTo>
                <a:cubicBezTo>
                  <a:pt x="0" y="702079"/>
                  <a:pt x="0" y="702079"/>
                  <a:pt x="0" y="702079"/>
                </a:cubicBezTo>
                <a:lnTo>
                  <a:pt x="0" y="702078"/>
                </a:lnTo>
                <a:close/>
                <a:moveTo>
                  <a:pt x="194448" y="702078"/>
                </a:moveTo>
                <a:lnTo>
                  <a:pt x="194448" y="702078"/>
                </a:lnTo>
                <a:cubicBezTo>
                  <a:pt x="194448" y="702078"/>
                  <a:pt x="194448" y="702078"/>
                  <a:pt x="194448" y="702078"/>
                </a:cubicBezTo>
                <a:cubicBezTo>
                  <a:pt x="194448" y="982434"/>
                  <a:pt x="426122" y="1209708"/>
                  <a:pt x="711908" y="1209708"/>
                </a:cubicBezTo>
                <a:lnTo>
                  <a:pt x="711908" y="1209709"/>
                </a:lnTo>
                <a:cubicBezTo>
                  <a:pt x="997693" y="1209709"/>
                  <a:pt x="1229369" y="982435"/>
                  <a:pt x="1229369" y="702079"/>
                </a:cubicBezTo>
                <a:cubicBezTo>
                  <a:pt x="1229369" y="421722"/>
                  <a:pt x="997693" y="194449"/>
                  <a:pt x="711908" y="194449"/>
                </a:cubicBezTo>
                <a:cubicBezTo>
                  <a:pt x="711907" y="194449"/>
                  <a:pt x="711907" y="194449"/>
                  <a:pt x="711907" y="194449"/>
                </a:cubicBezTo>
                <a:cubicBezTo>
                  <a:pt x="426121" y="194449"/>
                  <a:pt x="194446" y="421722"/>
                  <a:pt x="194446" y="702078"/>
                </a:cubicBezTo>
                <a:lnTo>
                  <a:pt x="194448" y="702078"/>
                </a:lnTo>
                <a:close/>
              </a:path>
            </a:pathLst>
          </a:custGeom>
          <a:gradFill rotWithShape="0">
            <a:gsLst>
              <a:gs pos="0">
                <a:srgbClr val="f79646"/>
              </a:gs>
              <a:gs pos="100000">
                <a:srgbClr val="ffc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0" name="组合 23" descr=""/>
          <p:cNvPicPr/>
          <p:nvPr/>
        </p:nvPicPr>
        <p:blipFill>
          <a:blip r:embed="rId4"/>
          <a:stretch/>
        </p:blipFill>
        <p:spPr>
          <a:xfrm>
            <a:off x="4492800" y="2494080"/>
            <a:ext cx="1438200" cy="1412640"/>
          </a:xfrm>
          <a:prstGeom prst="rect">
            <a:avLst/>
          </a:prstGeom>
          <a:ln w="0">
            <a:noFill/>
          </a:ln>
        </p:spPr>
      </p:pic>
      <p:sp>
        <p:nvSpPr>
          <p:cNvPr id="601" name="矩形 28"/>
          <p:cNvSpPr/>
          <p:nvPr/>
        </p:nvSpPr>
        <p:spPr>
          <a:xfrm>
            <a:off x="-7920" y="2500200"/>
            <a:ext cx="5232240" cy="162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2" name="椭圆 29"/>
          <p:cNvGrpSpPr/>
          <p:nvPr/>
        </p:nvGrpSpPr>
        <p:grpSpPr>
          <a:xfrm>
            <a:off x="4664160" y="2676600"/>
            <a:ext cx="1071360" cy="1060200"/>
            <a:chOff x="4664160" y="2676600"/>
            <a:chExt cx="1071360" cy="1060200"/>
          </a:xfrm>
        </p:grpSpPr>
        <p:pic>
          <p:nvPicPr>
            <p:cNvPr id="603" name="椭圆 29" descr=""/>
            <p:cNvPicPr/>
            <p:nvPr/>
          </p:nvPicPr>
          <p:blipFill>
            <a:blip r:embed="rId5"/>
            <a:stretch/>
          </p:blipFill>
          <p:spPr>
            <a:xfrm>
              <a:off x="4664160" y="2676600"/>
              <a:ext cx="1071360" cy="106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4" name=""/>
            <p:cNvSpPr/>
            <p:nvPr/>
          </p:nvSpPr>
          <p:spPr>
            <a:xfrm>
              <a:off x="4818240" y="2832120"/>
              <a:ext cx="761760" cy="75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595959"/>
                  </a:solidFill>
                  <a:latin typeface="Agency FB"/>
                  <a:ea typeface="Arial Unicode MS"/>
                </a:rPr>
                <a:t>03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5" name="同心圆 9"/>
          <p:cNvSpPr/>
          <p:nvPr/>
        </p:nvSpPr>
        <p:spPr>
          <a:xfrm>
            <a:off x="2535120" y="920880"/>
            <a:ext cx="1424160" cy="1403280"/>
          </a:xfrm>
          <a:custGeom>
            <a:avLst/>
            <a:gdLst>
              <a:gd name="textAreaLeft" fmla="*/ 208440 w 1424160"/>
              <a:gd name="textAreaRight" fmla="*/ 1215720 w 1424160"/>
              <a:gd name="textAreaTop" fmla="*/ 205200 h 1403280"/>
              <a:gd name="textAreaBottom" fmla="*/ 1198080 h 1403280"/>
            </a:gdLst>
            <a:ahLst/>
            <a:rect l="textAreaLeft" t="textAreaTop" r="textAreaRight" b="textAreaBottom"/>
            <a:pathLst>
              <a:path w="1423818" h="1404156">
                <a:moveTo>
                  <a:pt x="0" y="702078"/>
                </a:moveTo>
                <a:lnTo>
                  <a:pt x="0" y="702078"/>
                </a:lnTo>
                <a:cubicBezTo>
                  <a:pt x="0" y="314331"/>
                  <a:pt x="318732" y="1"/>
                  <a:pt x="711909" y="1"/>
                </a:cubicBezTo>
                <a:cubicBezTo>
                  <a:pt x="711909" y="1"/>
                  <a:pt x="711909" y="1"/>
                  <a:pt x="711910" y="1"/>
                </a:cubicBezTo>
                <a:cubicBezTo>
                  <a:pt x="1105086" y="1"/>
                  <a:pt x="1423818" y="314332"/>
                  <a:pt x="1423818" y="702079"/>
                </a:cubicBezTo>
                <a:cubicBezTo>
                  <a:pt x="1423818" y="702079"/>
                  <a:pt x="1423817" y="702079"/>
                  <a:pt x="1423817" y="702080"/>
                </a:cubicBezTo>
                <a:lnTo>
                  <a:pt x="1423818" y="702080"/>
                </a:lnTo>
                <a:cubicBezTo>
                  <a:pt x="1423818" y="1089826"/>
                  <a:pt x="1105085" y="1404158"/>
                  <a:pt x="711909" y="1404158"/>
                </a:cubicBezTo>
                <a:cubicBezTo>
                  <a:pt x="318732" y="1404158"/>
                  <a:pt x="0" y="1089826"/>
                  <a:pt x="0" y="702080"/>
                </a:cubicBezTo>
                <a:cubicBezTo>
                  <a:pt x="0" y="702079"/>
                  <a:pt x="0" y="702079"/>
                  <a:pt x="0" y="702079"/>
                </a:cubicBezTo>
                <a:lnTo>
                  <a:pt x="0" y="702078"/>
                </a:lnTo>
                <a:close/>
                <a:moveTo>
                  <a:pt x="194448" y="702078"/>
                </a:moveTo>
                <a:lnTo>
                  <a:pt x="194448" y="702078"/>
                </a:lnTo>
                <a:cubicBezTo>
                  <a:pt x="194448" y="702078"/>
                  <a:pt x="194448" y="702078"/>
                  <a:pt x="194448" y="702078"/>
                </a:cubicBezTo>
                <a:cubicBezTo>
                  <a:pt x="194448" y="982434"/>
                  <a:pt x="426122" y="1209708"/>
                  <a:pt x="711908" y="1209708"/>
                </a:cubicBezTo>
                <a:lnTo>
                  <a:pt x="711908" y="1209709"/>
                </a:lnTo>
                <a:cubicBezTo>
                  <a:pt x="997693" y="1209709"/>
                  <a:pt x="1229369" y="982435"/>
                  <a:pt x="1229369" y="702079"/>
                </a:cubicBezTo>
                <a:cubicBezTo>
                  <a:pt x="1229369" y="421722"/>
                  <a:pt x="997693" y="194449"/>
                  <a:pt x="711908" y="194449"/>
                </a:cubicBezTo>
                <a:cubicBezTo>
                  <a:pt x="711907" y="194449"/>
                  <a:pt x="711907" y="194449"/>
                  <a:pt x="711907" y="194449"/>
                </a:cubicBezTo>
                <a:cubicBezTo>
                  <a:pt x="426121" y="194449"/>
                  <a:pt x="194446" y="421722"/>
                  <a:pt x="194446" y="702078"/>
                </a:cubicBezTo>
                <a:lnTo>
                  <a:pt x="194448" y="702078"/>
                </a:lnTo>
                <a:close/>
              </a:path>
            </a:pathLst>
          </a:custGeom>
          <a:gradFill rotWithShape="0">
            <a:gsLst>
              <a:gs pos="0">
                <a:srgbClr val="f79646"/>
              </a:gs>
              <a:gs pos="100000">
                <a:srgbClr val="ffc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TextBox 30"/>
          <p:cNvSpPr/>
          <p:nvPr/>
        </p:nvSpPr>
        <p:spPr>
          <a:xfrm>
            <a:off x="4140000" y="1103400"/>
            <a:ext cx="2264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000"/>
                </a:solidFill>
                <a:latin typeface="Calibri"/>
              </a:rPr>
              <a:t>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here to add you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or Copy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nd paste i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TextBox 31"/>
          <p:cNvSpPr/>
          <p:nvPr/>
        </p:nvSpPr>
        <p:spPr>
          <a:xfrm>
            <a:off x="2230920" y="3117960"/>
            <a:ext cx="2264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000"/>
                </a:solidFill>
                <a:latin typeface="Calibri"/>
              </a:rPr>
              <a:t>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here to add you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or Copy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nd paste i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TextBox 33"/>
          <p:cNvSpPr/>
          <p:nvPr/>
        </p:nvSpPr>
        <p:spPr>
          <a:xfrm>
            <a:off x="6167160" y="2744640"/>
            <a:ext cx="2264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000"/>
                </a:solidFill>
                <a:latin typeface="Calibri"/>
              </a:rPr>
              <a:t>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here to add you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or Copy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nd paste i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5" name="矩形 13"/>
          <p:cNvSpPr/>
          <p:nvPr/>
        </p:nvSpPr>
        <p:spPr>
          <a:xfrm>
            <a:off x="5686560" y="1995480"/>
            <a:ext cx="3457440" cy="96192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矩形 14"/>
          <p:cNvSpPr/>
          <p:nvPr/>
        </p:nvSpPr>
        <p:spPr>
          <a:xfrm>
            <a:off x="5686560" y="1033560"/>
            <a:ext cx="3457440" cy="961920"/>
          </a:xfrm>
          <a:prstGeom prst="rect">
            <a:avLst/>
          </a:prstGeom>
          <a:solidFill>
            <a:srgbClr val="d02d32"/>
          </a:solidFill>
          <a:ln w="0">
            <a:noFill/>
          </a:ln>
          <a:effectLst>
            <a:outerShdw dist="127080" dir="54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矩形 12"/>
          <p:cNvSpPr/>
          <p:nvPr/>
        </p:nvSpPr>
        <p:spPr>
          <a:xfrm>
            <a:off x="0" y="2957400"/>
            <a:ext cx="3422520" cy="960480"/>
          </a:xfrm>
          <a:prstGeom prst="rect">
            <a:avLst/>
          </a:prstGeom>
          <a:solidFill>
            <a:srgbClr val="3a3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8" name="矩形 4"/>
          <p:cNvSpPr/>
          <p:nvPr/>
        </p:nvSpPr>
        <p:spPr>
          <a:xfrm>
            <a:off x="0" y="1995480"/>
            <a:ext cx="3422520" cy="961920"/>
          </a:xfrm>
          <a:prstGeom prst="rect">
            <a:avLst/>
          </a:prstGeom>
          <a:solidFill>
            <a:srgbClr val="8282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9" name="Picture 3" descr=""/>
          <p:cNvPicPr/>
          <p:nvPr/>
        </p:nvPicPr>
        <p:blipFill>
          <a:blip r:embed="rId1"/>
          <a:srcRect l="0" t="2775" r="57688" b="7215"/>
          <a:stretch/>
        </p:blipFill>
        <p:spPr>
          <a:xfrm>
            <a:off x="5686560" y="106200"/>
            <a:ext cx="469800" cy="4176720"/>
          </a:xfrm>
          <a:prstGeom prst="rect">
            <a:avLst/>
          </a:prstGeom>
          <a:ln w="0">
            <a:noFill/>
          </a:ln>
        </p:spPr>
      </p:pic>
      <p:pic>
        <p:nvPicPr>
          <p:cNvPr id="1690" name="Picture 3" descr=""/>
          <p:cNvPicPr/>
          <p:nvPr/>
        </p:nvPicPr>
        <p:blipFill>
          <a:blip r:embed="rId2"/>
          <a:srcRect l="57688" t="7215" r="0" b="2775"/>
          <a:stretch/>
        </p:blipFill>
        <p:spPr>
          <a:xfrm>
            <a:off x="4643280" y="106200"/>
            <a:ext cx="181080" cy="4176720"/>
          </a:xfrm>
          <a:prstGeom prst="rect">
            <a:avLst/>
          </a:prstGeom>
          <a:ln w="0">
            <a:noFill/>
          </a:ln>
        </p:spPr>
      </p:pic>
      <p:pic>
        <p:nvPicPr>
          <p:cNvPr id="1691" name="Picture 3" descr=""/>
          <p:cNvPicPr/>
          <p:nvPr/>
        </p:nvPicPr>
        <p:blipFill>
          <a:blip r:embed="rId3"/>
          <a:srcRect l="0" t="2775" r="57688" b="7215"/>
          <a:stretch/>
        </p:blipFill>
        <p:spPr>
          <a:xfrm>
            <a:off x="4284720" y="868320"/>
            <a:ext cx="181080" cy="4176720"/>
          </a:xfrm>
          <a:prstGeom prst="rect">
            <a:avLst/>
          </a:prstGeom>
          <a:ln w="0">
            <a:noFill/>
          </a:ln>
        </p:spPr>
      </p:pic>
      <p:pic>
        <p:nvPicPr>
          <p:cNvPr id="1692" name="Picture 3" descr=""/>
          <p:cNvPicPr/>
          <p:nvPr/>
        </p:nvPicPr>
        <p:blipFill>
          <a:blip r:embed="rId4"/>
          <a:srcRect l="57688" t="7215" r="0" b="2775"/>
          <a:stretch/>
        </p:blipFill>
        <p:spPr>
          <a:xfrm>
            <a:off x="3059280" y="868320"/>
            <a:ext cx="363240" cy="4176720"/>
          </a:xfrm>
          <a:prstGeom prst="rect">
            <a:avLst/>
          </a:prstGeom>
          <a:ln w="0">
            <a:noFill/>
          </a:ln>
        </p:spPr>
      </p:pic>
      <p:sp>
        <p:nvSpPr>
          <p:cNvPr id="1693" name="TextBox 15"/>
          <p:cNvSpPr/>
          <p:nvPr/>
        </p:nvSpPr>
        <p:spPr>
          <a:xfrm>
            <a:off x="3488400" y="2195640"/>
            <a:ext cx="70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28282"/>
                </a:solidFill>
                <a:latin typeface="Arial Unicode MS"/>
                <a:ea typeface="Arial Unicode MS"/>
              </a:rPr>
              <a:t>0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4" name="TextBox 16"/>
          <p:cNvSpPr/>
          <p:nvPr/>
        </p:nvSpPr>
        <p:spPr>
          <a:xfrm>
            <a:off x="3488400" y="3114720"/>
            <a:ext cx="70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a3a3a"/>
                </a:solidFill>
                <a:latin typeface="Arial Unicode MS"/>
                <a:ea typeface="Arial Unicode MS"/>
              </a:rPr>
              <a:t>0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TextBox 17"/>
          <p:cNvSpPr/>
          <p:nvPr/>
        </p:nvSpPr>
        <p:spPr>
          <a:xfrm>
            <a:off x="4909320" y="1228680"/>
            <a:ext cx="70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02d32"/>
                </a:solidFill>
                <a:latin typeface="Arial Unicode MS"/>
                <a:ea typeface="Arial Unicode MS"/>
              </a:rPr>
              <a:t>0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TextBox 18"/>
          <p:cNvSpPr/>
          <p:nvPr/>
        </p:nvSpPr>
        <p:spPr>
          <a:xfrm>
            <a:off x="4909320" y="2149560"/>
            <a:ext cx="70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ea39f"/>
                </a:solidFill>
                <a:latin typeface="Arial Unicode MS"/>
                <a:ea typeface="Arial Unicode MS"/>
              </a:rPr>
              <a:t>0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7" name="TextBox 19"/>
          <p:cNvSpPr/>
          <p:nvPr/>
        </p:nvSpPr>
        <p:spPr>
          <a:xfrm>
            <a:off x="336600" y="2147760"/>
            <a:ext cx="2749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Click here to add your text o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Copy Your text and paste i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8" name="TextBox 20"/>
          <p:cNvSpPr/>
          <p:nvPr/>
        </p:nvSpPr>
        <p:spPr>
          <a:xfrm>
            <a:off x="336600" y="3052800"/>
            <a:ext cx="2749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Click here to add your text o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Copy Your text and paste i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TextBox 21"/>
          <p:cNvSpPr/>
          <p:nvPr/>
        </p:nvSpPr>
        <p:spPr>
          <a:xfrm>
            <a:off x="6070680" y="1136520"/>
            <a:ext cx="2749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Click here to add your text o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Copy Your text and paste i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0" name="TextBox 22"/>
          <p:cNvSpPr/>
          <p:nvPr/>
        </p:nvSpPr>
        <p:spPr>
          <a:xfrm>
            <a:off x="6070680" y="2139840"/>
            <a:ext cx="2749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lick here to add your text o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opy Your text and paste i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1" name="燕尾形 7"/>
          <p:cNvGrpSpPr/>
          <p:nvPr/>
        </p:nvGrpSpPr>
        <p:grpSpPr>
          <a:xfrm>
            <a:off x="4389480" y="828720"/>
            <a:ext cx="322200" cy="323640"/>
            <a:chOff x="4389480" y="828720"/>
            <a:chExt cx="322200" cy="323640"/>
          </a:xfrm>
        </p:grpSpPr>
        <p:pic>
          <p:nvPicPr>
            <p:cNvPr id="1702" name="燕尾形 7" descr=""/>
            <p:cNvPicPr/>
            <p:nvPr/>
          </p:nvPicPr>
          <p:blipFill>
            <a:blip r:embed="rId5"/>
            <a:stretch/>
          </p:blipFill>
          <p:spPr>
            <a:xfrm>
              <a:off x="4389480" y="828720"/>
              <a:ext cx="322200" cy="32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03" name=""/>
            <p:cNvSpPr/>
            <p:nvPr/>
          </p:nvSpPr>
          <p:spPr>
            <a:xfrm rot="5400000">
              <a:off x="4390560" y="831600"/>
              <a:ext cx="318960" cy="3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4" name="燕尾形 24"/>
          <p:cNvGrpSpPr/>
          <p:nvPr/>
        </p:nvGrpSpPr>
        <p:grpSpPr>
          <a:xfrm>
            <a:off x="4389480" y="1152360"/>
            <a:ext cx="322200" cy="322560"/>
            <a:chOff x="4389480" y="1152360"/>
            <a:chExt cx="322200" cy="322560"/>
          </a:xfrm>
        </p:grpSpPr>
        <p:pic>
          <p:nvPicPr>
            <p:cNvPr id="1705" name="燕尾形 24" descr=""/>
            <p:cNvPicPr/>
            <p:nvPr/>
          </p:nvPicPr>
          <p:blipFill>
            <a:blip r:embed="rId6"/>
            <a:stretch/>
          </p:blipFill>
          <p:spPr>
            <a:xfrm>
              <a:off x="4389480" y="1152360"/>
              <a:ext cx="322200" cy="32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06" name=""/>
            <p:cNvSpPr/>
            <p:nvPr/>
          </p:nvSpPr>
          <p:spPr>
            <a:xfrm rot="5400000">
              <a:off x="4390560" y="1153800"/>
              <a:ext cx="318960" cy="3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7" name="燕尾形 25"/>
          <p:cNvGrpSpPr/>
          <p:nvPr/>
        </p:nvGrpSpPr>
        <p:grpSpPr>
          <a:xfrm>
            <a:off x="4389480" y="1474920"/>
            <a:ext cx="322200" cy="323640"/>
            <a:chOff x="4389480" y="1474920"/>
            <a:chExt cx="322200" cy="323640"/>
          </a:xfrm>
        </p:grpSpPr>
        <p:pic>
          <p:nvPicPr>
            <p:cNvPr id="1708" name="燕尾形 25" descr=""/>
            <p:cNvPicPr/>
            <p:nvPr/>
          </p:nvPicPr>
          <p:blipFill>
            <a:blip r:embed="rId7"/>
            <a:stretch/>
          </p:blipFill>
          <p:spPr>
            <a:xfrm>
              <a:off x="4389480" y="1474920"/>
              <a:ext cx="322200" cy="32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09" name=""/>
            <p:cNvSpPr/>
            <p:nvPr/>
          </p:nvSpPr>
          <p:spPr>
            <a:xfrm rot="5400000">
              <a:off x="4390560" y="1476000"/>
              <a:ext cx="318960" cy="3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0" name="燕尾形 26"/>
          <p:cNvGrpSpPr/>
          <p:nvPr/>
        </p:nvGrpSpPr>
        <p:grpSpPr>
          <a:xfrm>
            <a:off x="4389480" y="1798560"/>
            <a:ext cx="322200" cy="316080"/>
            <a:chOff x="4389480" y="1798560"/>
            <a:chExt cx="322200" cy="316080"/>
          </a:xfrm>
        </p:grpSpPr>
        <p:pic>
          <p:nvPicPr>
            <p:cNvPr id="1711" name="燕尾形 26" descr=""/>
            <p:cNvPicPr/>
            <p:nvPr/>
          </p:nvPicPr>
          <p:blipFill>
            <a:blip r:embed="rId8"/>
            <a:stretch/>
          </p:blipFill>
          <p:spPr>
            <a:xfrm>
              <a:off x="4389480" y="1798560"/>
              <a:ext cx="322200" cy="31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2" name=""/>
            <p:cNvSpPr/>
            <p:nvPr/>
          </p:nvSpPr>
          <p:spPr>
            <a:xfrm rot="5400000">
              <a:off x="4392000" y="1796760"/>
              <a:ext cx="316080" cy="3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3" name="燕尾形 27"/>
          <p:cNvGrpSpPr/>
          <p:nvPr/>
        </p:nvGrpSpPr>
        <p:grpSpPr>
          <a:xfrm>
            <a:off x="4389480" y="2120760"/>
            <a:ext cx="322200" cy="317520"/>
            <a:chOff x="4389480" y="2120760"/>
            <a:chExt cx="322200" cy="317520"/>
          </a:xfrm>
        </p:grpSpPr>
        <p:pic>
          <p:nvPicPr>
            <p:cNvPr id="1714" name="燕尾形 27" descr=""/>
            <p:cNvPicPr/>
            <p:nvPr/>
          </p:nvPicPr>
          <p:blipFill>
            <a:blip r:embed="rId9"/>
            <a:stretch/>
          </p:blipFill>
          <p:spPr>
            <a:xfrm>
              <a:off x="4389480" y="2120760"/>
              <a:ext cx="322200" cy="31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5" name=""/>
            <p:cNvSpPr/>
            <p:nvPr/>
          </p:nvSpPr>
          <p:spPr>
            <a:xfrm rot="5400000">
              <a:off x="4391280" y="2119680"/>
              <a:ext cx="317520" cy="3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6" name="燕尾形 28"/>
          <p:cNvGrpSpPr/>
          <p:nvPr/>
        </p:nvGrpSpPr>
        <p:grpSpPr>
          <a:xfrm>
            <a:off x="4389480" y="2444760"/>
            <a:ext cx="322200" cy="317520"/>
            <a:chOff x="4389480" y="2444760"/>
            <a:chExt cx="322200" cy="317520"/>
          </a:xfrm>
        </p:grpSpPr>
        <p:pic>
          <p:nvPicPr>
            <p:cNvPr id="1717" name="燕尾形 28" descr=""/>
            <p:cNvPicPr/>
            <p:nvPr/>
          </p:nvPicPr>
          <p:blipFill>
            <a:blip r:embed="rId10"/>
            <a:stretch/>
          </p:blipFill>
          <p:spPr>
            <a:xfrm>
              <a:off x="4389480" y="2445840"/>
              <a:ext cx="322200" cy="31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8" name=""/>
            <p:cNvSpPr/>
            <p:nvPr/>
          </p:nvSpPr>
          <p:spPr>
            <a:xfrm rot="5400000">
              <a:off x="4391280" y="2443680"/>
              <a:ext cx="317520" cy="3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9" name="燕尾形 29"/>
          <p:cNvGrpSpPr/>
          <p:nvPr/>
        </p:nvGrpSpPr>
        <p:grpSpPr>
          <a:xfrm>
            <a:off x="4389480" y="2766960"/>
            <a:ext cx="322200" cy="317520"/>
            <a:chOff x="4389480" y="2766960"/>
            <a:chExt cx="322200" cy="317520"/>
          </a:xfrm>
        </p:grpSpPr>
        <p:pic>
          <p:nvPicPr>
            <p:cNvPr id="1720" name="燕尾形 29" descr=""/>
            <p:cNvPicPr/>
            <p:nvPr/>
          </p:nvPicPr>
          <p:blipFill>
            <a:blip r:embed="rId11"/>
            <a:stretch/>
          </p:blipFill>
          <p:spPr>
            <a:xfrm>
              <a:off x="4389480" y="2768040"/>
              <a:ext cx="322200" cy="31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1" name=""/>
            <p:cNvSpPr/>
            <p:nvPr/>
          </p:nvSpPr>
          <p:spPr>
            <a:xfrm rot="5400000">
              <a:off x="4391280" y="2765880"/>
              <a:ext cx="317520" cy="3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2" name="燕尾形 30"/>
          <p:cNvGrpSpPr/>
          <p:nvPr/>
        </p:nvGrpSpPr>
        <p:grpSpPr>
          <a:xfrm>
            <a:off x="4389480" y="3090960"/>
            <a:ext cx="322200" cy="317160"/>
            <a:chOff x="4389480" y="3090960"/>
            <a:chExt cx="322200" cy="317160"/>
          </a:xfrm>
        </p:grpSpPr>
        <p:pic>
          <p:nvPicPr>
            <p:cNvPr id="1723" name="燕尾形 30" descr=""/>
            <p:cNvPicPr/>
            <p:nvPr/>
          </p:nvPicPr>
          <p:blipFill>
            <a:blip r:embed="rId12"/>
            <a:stretch/>
          </p:blipFill>
          <p:spPr>
            <a:xfrm>
              <a:off x="4389480" y="3093840"/>
              <a:ext cx="322200" cy="31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4" name=""/>
            <p:cNvSpPr/>
            <p:nvPr/>
          </p:nvSpPr>
          <p:spPr>
            <a:xfrm rot="5400000">
              <a:off x="4392360" y="3089160"/>
              <a:ext cx="315720" cy="3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5" name="燕尾形 31"/>
          <p:cNvGrpSpPr/>
          <p:nvPr/>
        </p:nvGrpSpPr>
        <p:grpSpPr>
          <a:xfrm>
            <a:off x="4389480" y="3408480"/>
            <a:ext cx="322200" cy="315720"/>
            <a:chOff x="4389480" y="3408480"/>
            <a:chExt cx="322200" cy="315720"/>
          </a:xfrm>
        </p:grpSpPr>
        <p:pic>
          <p:nvPicPr>
            <p:cNvPr id="1726" name="燕尾形 31" descr=""/>
            <p:cNvPicPr/>
            <p:nvPr/>
          </p:nvPicPr>
          <p:blipFill>
            <a:blip r:embed="rId13"/>
            <a:stretch/>
          </p:blipFill>
          <p:spPr>
            <a:xfrm>
              <a:off x="4389480" y="3409920"/>
              <a:ext cx="322200" cy="31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7" name=""/>
            <p:cNvSpPr/>
            <p:nvPr/>
          </p:nvSpPr>
          <p:spPr>
            <a:xfrm rot="5400000">
              <a:off x="4392360" y="3406680"/>
              <a:ext cx="315720" cy="3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8" name="燕尾形 32"/>
          <p:cNvGrpSpPr/>
          <p:nvPr/>
        </p:nvGrpSpPr>
        <p:grpSpPr>
          <a:xfrm>
            <a:off x="4389480" y="3730680"/>
            <a:ext cx="322200" cy="317520"/>
            <a:chOff x="4389480" y="3730680"/>
            <a:chExt cx="322200" cy="317520"/>
          </a:xfrm>
        </p:grpSpPr>
        <p:pic>
          <p:nvPicPr>
            <p:cNvPr id="1729" name="燕尾形 32" descr=""/>
            <p:cNvPicPr/>
            <p:nvPr/>
          </p:nvPicPr>
          <p:blipFill>
            <a:blip r:embed="rId14"/>
            <a:stretch/>
          </p:blipFill>
          <p:spPr>
            <a:xfrm>
              <a:off x="4389480" y="3732120"/>
              <a:ext cx="322200" cy="31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0" name=""/>
            <p:cNvSpPr/>
            <p:nvPr/>
          </p:nvSpPr>
          <p:spPr>
            <a:xfrm rot="5400000">
              <a:off x="4391280" y="3729600"/>
              <a:ext cx="317520" cy="3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1" name="燕尾形 33"/>
          <p:cNvGrpSpPr/>
          <p:nvPr/>
        </p:nvGrpSpPr>
        <p:grpSpPr>
          <a:xfrm>
            <a:off x="4389480" y="4054320"/>
            <a:ext cx="322200" cy="316080"/>
            <a:chOff x="4389480" y="4054320"/>
            <a:chExt cx="322200" cy="316080"/>
          </a:xfrm>
        </p:grpSpPr>
        <p:pic>
          <p:nvPicPr>
            <p:cNvPr id="1732" name="燕尾形 33" descr=""/>
            <p:cNvPicPr/>
            <p:nvPr/>
          </p:nvPicPr>
          <p:blipFill>
            <a:blip r:embed="rId15"/>
            <a:stretch/>
          </p:blipFill>
          <p:spPr>
            <a:xfrm>
              <a:off x="4389480" y="4056840"/>
              <a:ext cx="322200" cy="31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3" name=""/>
            <p:cNvSpPr/>
            <p:nvPr/>
          </p:nvSpPr>
          <p:spPr>
            <a:xfrm rot="5400000">
              <a:off x="4392000" y="4052520"/>
              <a:ext cx="316080" cy="3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4" name="燕尾形 34"/>
          <p:cNvGrpSpPr/>
          <p:nvPr/>
        </p:nvGrpSpPr>
        <p:grpSpPr>
          <a:xfrm>
            <a:off x="4389480" y="4370400"/>
            <a:ext cx="322200" cy="324000"/>
            <a:chOff x="4389480" y="4370400"/>
            <a:chExt cx="322200" cy="324000"/>
          </a:xfrm>
        </p:grpSpPr>
        <p:pic>
          <p:nvPicPr>
            <p:cNvPr id="1735" name="燕尾形 34" descr=""/>
            <p:cNvPicPr/>
            <p:nvPr/>
          </p:nvPicPr>
          <p:blipFill>
            <a:blip r:embed="rId16"/>
            <a:stretch/>
          </p:blipFill>
          <p:spPr>
            <a:xfrm>
              <a:off x="4389480" y="4370400"/>
              <a:ext cx="322200" cy="3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6" name=""/>
            <p:cNvSpPr/>
            <p:nvPr/>
          </p:nvSpPr>
          <p:spPr>
            <a:xfrm rot="5400000">
              <a:off x="4390560" y="4373280"/>
              <a:ext cx="318960" cy="3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7" name="矩形 11"/>
          <p:cNvSpPr/>
          <p:nvPr/>
        </p:nvSpPr>
        <p:spPr>
          <a:xfrm>
            <a:off x="0" y="3855960"/>
            <a:ext cx="9144000" cy="1284480"/>
          </a:xfrm>
          <a:prstGeom prst="rect">
            <a:avLst/>
          </a:prstGeom>
          <a:solidFill>
            <a:srgbClr val="3e2b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8" name="Picture 3" descr=""/>
          <p:cNvPicPr/>
          <p:nvPr/>
        </p:nvPicPr>
        <p:blipFill>
          <a:blip r:embed="rId1"/>
          <a:srcRect l="57688" t="7215" r="0" b="2775"/>
          <a:stretch/>
        </p:blipFill>
        <p:spPr>
          <a:xfrm>
            <a:off x="7559640" y="3863880"/>
            <a:ext cx="181080" cy="1268640"/>
          </a:xfrm>
          <a:prstGeom prst="rect">
            <a:avLst/>
          </a:prstGeom>
          <a:ln w="0">
            <a:noFill/>
          </a:ln>
        </p:spPr>
      </p:pic>
      <p:grpSp>
        <p:nvGrpSpPr>
          <p:cNvPr id="1739" name="组合 35"/>
          <p:cNvGrpSpPr/>
          <p:nvPr/>
        </p:nvGrpSpPr>
        <p:grpSpPr>
          <a:xfrm>
            <a:off x="7350120" y="4081680"/>
            <a:ext cx="558000" cy="829440"/>
            <a:chOff x="7350120" y="4081680"/>
            <a:chExt cx="558000" cy="829440"/>
          </a:xfrm>
        </p:grpSpPr>
        <p:sp>
          <p:nvSpPr>
            <p:cNvPr id="1740" name="矩形 36"/>
            <p:cNvSpPr/>
            <p:nvPr/>
          </p:nvSpPr>
          <p:spPr>
            <a:xfrm flipH="1" rot="13500000">
              <a:off x="7335720" y="4531320"/>
              <a:ext cx="586080" cy="20196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1" name="矩形 37"/>
            <p:cNvSpPr/>
            <p:nvPr/>
          </p:nvSpPr>
          <p:spPr>
            <a:xfrm flipH="1" rot="18900000">
              <a:off x="7335720" y="4259160"/>
              <a:ext cx="586440" cy="201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2" name="矩形 24"/>
          <p:cNvSpPr/>
          <p:nvPr/>
        </p:nvSpPr>
        <p:spPr>
          <a:xfrm>
            <a:off x="7742160" y="3855960"/>
            <a:ext cx="1403280" cy="129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3" name="TextBox 20"/>
          <p:cNvSpPr/>
          <p:nvPr/>
        </p:nvSpPr>
        <p:spPr>
          <a:xfrm>
            <a:off x="8097120" y="4067280"/>
            <a:ext cx="7048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5423c"/>
                </a:solidFill>
                <a:latin typeface="Arial Unicode MS"/>
                <a:ea typeface="Arial Unicode MS"/>
              </a:rPr>
              <a:t>0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5423c"/>
                </a:solidFill>
                <a:latin typeface="Arial Unicode MS"/>
                <a:ea typeface="Arial Unicode MS"/>
              </a:rPr>
              <a:t>STE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4" name="矩形 10"/>
          <p:cNvSpPr/>
          <p:nvPr/>
        </p:nvSpPr>
        <p:spPr>
          <a:xfrm>
            <a:off x="0" y="2570040"/>
            <a:ext cx="9144000" cy="1285920"/>
          </a:xfrm>
          <a:prstGeom prst="rect">
            <a:avLst/>
          </a:prstGeom>
          <a:solidFill>
            <a:srgbClr val="dadada"/>
          </a:solidFill>
          <a:ln w="0">
            <a:noFill/>
          </a:ln>
          <a:effectLst>
            <a:outerShdw dist="152280" dir="5400000" blurRad="0" rotWithShape="0">
              <a:srgbClr val="000000">
                <a:alpha val="2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5" name="组合 34"/>
          <p:cNvGrpSpPr/>
          <p:nvPr/>
        </p:nvGrpSpPr>
        <p:grpSpPr>
          <a:xfrm>
            <a:off x="1201680" y="2781360"/>
            <a:ext cx="557280" cy="828360"/>
            <a:chOff x="1201680" y="2781360"/>
            <a:chExt cx="557280" cy="828360"/>
          </a:xfrm>
        </p:grpSpPr>
        <p:sp>
          <p:nvSpPr>
            <p:cNvPr id="1746" name="矩形 33"/>
            <p:cNvSpPr/>
            <p:nvPr/>
          </p:nvSpPr>
          <p:spPr>
            <a:xfrm rot="8100000">
              <a:off x="1187280" y="3230280"/>
              <a:ext cx="586080" cy="201600"/>
            </a:xfrm>
            <a:prstGeom prst="rect">
              <a:avLst/>
            </a:prstGeom>
            <a:solidFill>
              <a:srgbClr val="311f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7" name="矩形 32"/>
            <p:cNvSpPr/>
            <p:nvPr/>
          </p:nvSpPr>
          <p:spPr>
            <a:xfrm rot="2700000">
              <a:off x="1187280" y="2958480"/>
              <a:ext cx="585000" cy="201960"/>
            </a:xfrm>
            <a:prstGeom prst="rect">
              <a:avLst/>
            </a:prstGeom>
            <a:solidFill>
              <a:srgbClr val="5642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8" name="矩形 23"/>
          <p:cNvSpPr/>
          <p:nvPr/>
        </p:nvSpPr>
        <p:spPr>
          <a:xfrm>
            <a:off x="0" y="2571840"/>
            <a:ext cx="1403280" cy="128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9" name="TextBox 18"/>
          <p:cNvSpPr/>
          <p:nvPr/>
        </p:nvSpPr>
        <p:spPr>
          <a:xfrm>
            <a:off x="320040" y="2766960"/>
            <a:ext cx="7048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5423c"/>
                </a:solidFill>
                <a:latin typeface="Arial Unicode MS"/>
                <a:ea typeface="Arial Unicode MS"/>
              </a:rPr>
              <a:t>0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5423c"/>
                </a:solidFill>
                <a:latin typeface="Arial Unicode MS"/>
                <a:ea typeface="Arial Unicode MS"/>
              </a:rPr>
              <a:t>STE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0" name="Picture 3" descr=""/>
          <p:cNvPicPr/>
          <p:nvPr/>
        </p:nvPicPr>
        <p:blipFill>
          <a:blip r:embed="rId2"/>
          <a:srcRect l="0" t="2775" r="57688" b="7215"/>
          <a:stretch/>
        </p:blipFill>
        <p:spPr>
          <a:xfrm>
            <a:off x="1403280" y="2570040"/>
            <a:ext cx="181080" cy="1268640"/>
          </a:xfrm>
          <a:prstGeom prst="rect">
            <a:avLst/>
          </a:prstGeom>
          <a:ln w="0">
            <a:noFill/>
          </a:ln>
        </p:spPr>
      </p:pic>
      <p:sp>
        <p:nvSpPr>
          <p:cNvPr id="1751" name="矩形 9"/>
          <p:cNvSpPr/>
          <p:nvPr/>
        </p:nvSpPr>
        <p:spPr>
          <a:xfrm>
            <a:off x="0" y="1285920"/>
            <a:ext cx="9144000" cy="1284120"/>
          </a:xfrm>
          <a:prstGeom prst="rect">
            <a:avLst/>
          </a:prstGeom>
          <a:solidFill>
            <a:srgbClr val="393f59"/>
          </a:solidFill>
          <a:ln w="0">
            <a:noFill/>
          </a:ln>
          <a:effectLst>
            <a:outerShdw dist="152280" dir="5400000" blurRad="0" rotWithShape="0">
              <a:srgbClr val="000000">
                <a:alpha val="2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2" name="组合 28"/>
          <p:cNvGrpSpPr/>
          <p:nvPr/>
        </p:nvGrpSpPr>
        <p:grpSpPr>
          <a:xfrm>
            <a:off x="7385040" y="1509840"/>
            <a:ext cx="558000" cy="829440"/>
            <a:chOff x="7385040" y="1509840"/>
            <a:chExt cx="558000" cy="829440"/>
          </a:xfrm>
        </p:grpSpPr>
        <p:sp>
          <p:nvSpPr>
            <p:cNvPr id="1753" name="矩形 29"/>
            <p:cNvSpPr/>
            <p:nvPr/>
          </p:nvSpPr>
          <p:spPr>
            <a:xfrm flipH="1" rot="18900000">
              <a:off x="7370640" y="1687320"/>
              <a:ext cx="586440" cy="201960"/>
            </a:xfrm>
            <a:prstGeom prst="rect">
              <a:avLst/>
            </a:prstGeom>
            <a:solidFill>
              <a:srgbClr val="ffac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4" name="矩形 30"/>
            <p:cNvSpPr/>
            <p:nvPr/>
          </p:nvSpPr>
          <p:spPr>
            <a:xfrm flipH="1" rot="13500000">
              <a:off x="7370640" y="1959480"/>
              <a:ext cx="586080" cy="201960"/>
            </a:xfrm>
            <a:prstGeom prst="rect">
              <a:avLst/>
            </a:prstGeom>
            <a:solidFill>
              <a:srgbClr val="ffac8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5" name="矩形 22"/>
          <p:cNvSpPr/>
          <p:nvPr/>
        </p:nvSpPr>
        <p:spPr>
          <a:xfrm>
            <a:off x="7740720" y="1285920"/>
            <a:ext cx="1403280" cy="1285920"/>
          </a:xfrm>
          <a:prstGeom prst="rect">
            <a:avLst/>
          </a:prstGeom>
          <a:solidFill>
            <a:srgbClr val="393f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6" name="TextBox 19"/>
          <p:cNvSpPr/>
          <p:nvPr/>
        </p:nvSpPr>
        <p:spPr>
          <a:xfrm>
            <a:off x="8097120" y="1481040"/>
            <a:ext cx="7048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b68c"/>
                </a:solidFill>
                <a:latin typeface="Arial Unicode MS"/>
                <a:ea typeface="Arial Unicode MS"/>
              </a:rPr>
              <a:t>0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b68c"/>
                </a:solidFill>
                <a:latin typeface="Arial Unicode MS"/>
                <a:ea typeface="Arial Unicode MS"/>
              </a:rPr>
              <a:t>STE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7" name="Picture 3" descr=""/>
          <p:cNvPicPr/>
          <p:nvPr/>
        </p:nvPicPr>
        <p:blipFill>
          <a:blip r:embed="rId3"/>
          <a:srcRect l="57688" t="7215" r="0" b="2775"/>
          <a:stretch/>
        </p:blipFill>
        <p:spPr>
          <a:xfrm>
            <a:off x="7559640" y="1293840"/>
            <a:ext cx="181080" cy="1268280"/>
          </a:xfrm>
          <a:prstGeom prst="rect">
            <a:avLst/>
          </a:prstGeom>
          <a:ln w="0">
            <a:noFill/>
          </a:ln>
        </p:spPr>
      </p:pic>
      <p:sp>
        <p:nvSpPr>
          <p:cNvPr id="1758" name="矩形 7"/>
          <p:cNvSpPr/>
          <p:nvPr/>
        </p:nvSpPr>
        <p:spPr>
          <a:xfrm>
            <a:off x="0" y="0"/>
            <a:ext cx="9144000" cy="1285920"/>
          </a:xfrm>
          <a:prstGeom prst="rect">
            <a:avLst/>
          </a:prstGeom>
          <a:solidFill>
            <a:srgbClr val="bf232e"/>
          </a:solidFill>
          <a:ln w="0">
            <a:noFill/>
          </a:ln>
          <a:effectLst>
            <a:outerShdw dist="152280" dir="5400000" blurRad="0" rotWithShape="0">
              <a:srgbClr val="000000">
                <a:alpha val="2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9" name="组合 27"/>
          <p:cNvGrpSpPr/>
          <p:nvPr/>
        </p:nvGrpSpPr>
        <p:grpSpPr>
          <a:xfrm>
            <a:off x="1200960" y="220680"/>
            <a:ext cx="558000" cy="829440"/>
            <a:chOff x="1200960" y="220680"/>
            <a:chExt cx="558000" cy="829440"/>
          </a:xfrm>
        </p:grpSpPr>
        <p:sp>
          <p:nvSpPr>
            <p:cNvPr id="1760" name="矩形 25"/>
            <p:cNvSpPr/>
            <p:nvPr/>
          </p:nvSpPr>
          <p:spPr>
            <a:xfrm rot="2700000">
              <a:off x="1186560" y="398160"/>
              <a:ext cx="586440" cy="201960"/>
            </a:xfrm>
            <a:prstGeom prst="rect">
              <a:avLst/>
            </a:prstGeom>
            <a:solidFill>
              <a:srgbClr val="ffac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1" name="矩形 26"/>
            <p:cNvSpPr/>
            <p:nvPr/>
          </p:nvSpPr>
          <p:spPr>
            <a:xfrm rot="8100000">
              <a:off x="1187280" y="670320"/>
              <a:ext cx="586080" cy="201960"/>
            </a:xfrm>
            <a:prstGeom prst="rect">
              <a:avLst/>
            </a:prstGeom>
            <a:solidFill>
              <a:srgbClr val="ffac8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62" name="矩形 21"/>
          <p:cNvSpPr/>
          <p:nvPr/>
        </p:nvSpPr>
        <p:spPr>
          <a:xfrm>
            <a:off x="0" y="0"/>
            <a:ext cx="1403280" cy="1285920"/>
          </a:xfrm>
          <a:prstGeom prst="rect">
            <a:avLst/>
          </a:prstGeom>
          <a:solidFill>
            <a:srgbClr val="bf23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3" name="TextBox 17"/>
          <p:cNvSpPr/>
          <p:nvPr/>
        </p:nvSpPr>
        <p:spPr>
          <a:xfrm>
            <a:off x="330120" y="196920"/>
            <a:ext cx="7048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b68c"/>
                </a:solidFill>
                <a:latin typeface="Arial Unicode MS"/>
                <a:ea typeface="Arial Unicode MS"/>
              </a:rPr>
              <a:t>0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b68c"/>
                </a:solidFill>
                <a:latin typeface="Arial Unicode MS"/>
                <a:ea typeface="Arial Unicode MS"/>
              </a:rPr>
              <a:t>STE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4" name="Picture 3" descr=""/>
          <p:cNvPicPr/>
          <p:nvPr/>
        </p:nvPicPr>
        <p:blipFill>
          <a:blip r:embed="rId4"/>
          <a:srcRect l="0" t="2775" r="57688" b="7215"/>
          <a:stretch/>
        </p:blipFill>
        <p:spPr>
          <a:xfrm>
            <a:off x="1403280" y="15840"/>
            <a:ext cx="181080" cy="1270080"/>
          </a:xfrm>
          <a:prstGeom prst="rect">
            <a:avLst/>
          </a:prstGeom>
          <a:ln w="0">
            <a:noFill/>
          </a:ln>
        </p:spPr>
      </p:pic>
      <p:sp>
        <p:nvSpPr>
          <p:cNvPr id="1765" name="TextBox 39"/>
          <p:cNvSpPr/>
          <p:nvPr/>
        </p:nvSpPr>
        <p:spPr>
          <a:xfrm>
            <a:off x="2484360" y="272880"/>
            <a:ext cx="2951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Click here to add your text o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Copy Your text and paste i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6" name="TextBox 40"/>
          <p:cNvSpPr/>
          <p:nvPr/>
        </p:nvSpPr>
        <p:spPr>
          <a:xfrm>
            <a:off x="2484360" y="1560600"/>
            <a:ext cx="2951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ac84"/>
                </a:solidFill>
                <a:latin typeface="Calibri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ac84"/>
                </a:solidFill>
                <a:latin typeface="Calibri"/>
              </a:rPr>
              <a:t>Click here to add your text o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ac84"/>
                </a:solidFill>
                <a:latin typeface="Calibri"/>
              </a:rPr>
              <a:t>Copy Your text and paste i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7" name="TextBox 41"/>
          <p:cNvSpPr/>
          <p:nvPr/>
        </p:nvSpPr>
        <p:spPr>
          <a:xfrm>
            <a:off x="2484360" y="2835360"/>
            <a:ext cx="2951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5423c"/>
                </a:solidFill>
                <a:latin typeface="Calibri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5423c"/>
                </a:solidFill>
                <a:latin typeface="Calibri"/>
              </a:rPr>
              <a:t>Click here to add your text o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5423c"/>
                </a:solidFill>
                <a:latin typeface="Calibri"/>
              </a:rPr>
              <a:t>Copy Your text and paste i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8" name="TextBox 42"/>
          <p:cNvSpPr/>
          <p:nvPr/>
        </p:nvSpPr>
        <p:spPr>
          <a:xfrm>
            <a:off x="2484360" y="4135320"/>
            <a:ext cx="2951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Click here to add your text o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Copy Your text and paste i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9" name="Picture 4" descr="C:\Users\Jonahs\Dropbox\Projects SCOTT\MEET Windows Azure\source\Background\tile-icon-cache.png"/>
          <p:cNvPicPr/>
          <p:nvPr/>
        </p:nvPicPr>
        <p:blipFill>
          <a:blip r:embed="rId5"/>
          <a:stretch/>
        </p:blipFill>
        <p:spPr>
          <a:xfrm>
            <a:off x="8077320" y="268200"/>
            <a:ext cx="676080" cy="1305000"/>
          </a:xfrm>
          <a:prstGeom prst="rect">
            <a:avLst/>
          </a:prstGeom>
          <a:ln w="0">
            <a:noFill/>
          </a:ln>
        </p:spPr>
      </p:pic>
      <p:pic>
        <p:nvPicPr>
          <p:cNvPr id="1770" name="Freeform 80" descr=""/>
          <p:cNvPicPr/>
          <p:nvPr/>
        </p:nvPicPr>
        <p:blipFill>
          <a:blip r:embed="rId6"/>
          <a:stretch/>
        </p:blipFill>
        <p:spPr>
          <a:xfrm>
            <a:off x="324000" y="1468440"/>
            <a:ext cx="718920" cy="1671480"/>
          </a:xfrm>
          <a:prstGeom prst="rect">
            <a:avLst/>
          </a:prstGeom>
          <a:ln w="0">
            <a:noFill/>
          </a:ln>
        </p:spPr>
      </p:pic>
      <p:pic>
        <p:nvPicPr>
          <p:cNvPr id="1771" name="Picture 2" descr="C:\Users\Jonahs\Dropbox\Projects SCOTT\MEET Windows Azure\source\Background\tile-icon-storage.png"/>
          <p:cNvPicPr/>
          <p:nvPr/>
        </p:nvPicPr>
        <p:blipFill>
          <a:blip r:embed="rId7"/>
          <a:stretch/>
        </p:blipFill>
        <p:spPr>
          <a:xfrm>
            <a:off x="365040" y="4181400"/>
            <a:ext cx="677880" cy="1208160"/>
          </a:xfrm>
          <a:prstGeom prst="rect">
            <a:avLst/>
          </a:prstGeom>
          <a:ln w="0">
            <a:noFill/>
          </a:ln>
        </p:spPr>
      </p:pic>
      <p:pic>
        <p:nvPicPr>
          <p:cNvPr id="1772" name="Picture 5" descr="\\MAGNUM\Projects\Microsoft\Cloud Power FY12\Design\ICONS_PNG\Increase.png"/>
          <p:cNvPicPr/>
          <p:nvPr/>
        </p:nvPicPr>
        <p:blipFill>
          <a:blip r:embed="rId8"/>
          <a:stretch/>
        </p:blipFill>
        <p:spPr>
          <a:xfrm>
            <a:off x="7858080" y="2664000"/>
            <a:ext cx="1090800" cy="1792080"/>
          </a:xfrm>
          <a:prstGeom prst="rect">
            <a:avLst/>
          </a:prstGeom>
          <a:ln w="0">
            <a:noFill/>
          </a:ln>
        </p:spPr>
      </p:pic>
      <p:pic>
        <p:nvPicPr>
          <p:cNvPr id="1773" name="Picture 3" descr=""/>
          <p:cNvPicPr/>
          <p:nvPr/>
        </p:nvPicPr>
        <p:blipFill>
          <a:blip r:embed="rId9"/>
          <a:srcRect l="57688" t="7215" r="0" b="2775"/>
          <a:stretch/>
        </p:blipFill>
        <p:spPr>
          <a:xfrm>
            <a:off x="7561440" y="3870360"/>
            <a:ext cx="180720" cy="126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4" name="任意多边形 2"/>
          <p:cNvSpPr/>
          <p:nvPr/>
        </p:nvSpPr>
        <p:spPr>
          <a:xfrm>
            <a:off x="1681200" y="2209680"/>
            <a:ext cx="447480" cy="492120"/>
          </a:xfrm>
          <a:custGeom>
            <a:avLst/>
            <a:gdLst/>
            <a:ahLst/>
            <a:rect l="l" t="t" r="r" b="b"/>
            <a:pathLst>
              <a:path w="576448" h="576263">
                <a:moveTo>
                  <a:pt x="0" y="0"/>
                </a:moveTo>
                <a:lnTo>
                  <a:pt x="575933" y="576263"/>
                </a:lnTo>
                <a:cubicBezTo>
                  <a:pt x="577576" y="384175"/>
                  <a:pt x="574620" y="192088"/>
                  <a:pt x="576263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6194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5" name="矩形 3"/>
          <p:cNvSpPr/>
          <p:nvPr/>
        </p:nvSpPr>
        <p:spPr>
          <a:xfrm>
            <a:off x="2124000" y="2212920"/>
            <a:ext cx="7020000" cy="4921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35000" rIns="135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微软雅黑"/>
                <a:ea typeface="微软雅黑"/>
              </a:rPr>
              <a:t>www.ypppt.com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6" name="矩形 6"/>
          <p:cNvSpPr/>
          <p:nvPr/>
        </p:nvSpPr>
        <p:spPr>
          <a:xfrm>
            <a:off x="0" y="1636560"/>
            <a:ext cx="6985080" cy="58104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             </a:t>
            </a:r>
            <a:r>
              <a:rPr b="0" lang="zh-CN" sz="2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精品</a:t>
            </a:r>
            <a:r>
              <a:rPr b="0" lang="en-US" sz="21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2100" spc="-1" strike="noStrike">
                <a:solidFill>
                  <a:srgbClr val="ffffff"/>
                </a:solidFill>
                <a:latin typeface="微软雅黑"/>
                <a:ea typeface="微软雅黑"/>
              </a:rPr>
              <a:t>资源尽在</a:t>
            </a:r>
            <a:r>
              <a:rPr b="0" lang="en-US" sz="21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</a:t>
            </a:r>
            <a:r>
              <a:rPr b="0" lang="zh-CN" sz="21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优品</a:t>
            </a:r>
            <a:r>
              <a:rPr b="0" lang="en-US" sz="21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21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！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7" name="直角三角形 5"/>
          <p:cNvSpPr/>
          <p:nvPr/>
        </p:nvSpPr>
        <p:spPr>
          <a:xfrm>
            <a:off x="6985080" y="1633680"/>
            <a:ext cx="639720" cy="583920"/>
          </a:xfrm>
          <a:prstGeom prst="rtTriangle">
            <a:avLst/>
          </a:prstGeom>
          <a:solidFill>
            <a:srgbClr val="007c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8" name="矩形 11"/>
          <p:cNvSpPr/>
          <p:nvPr/>
        </p:nvSpPr>
        <p:spPr>
          <a:xfrm>
            <a:off x="1936800" y="2940120"/>
            <a:ext cx="5180040" cy="12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4a452a"/>
                </a:solidFill>
                <a:latin typeface="微软雅黑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4a452a"/>
                </a:solidFill>
                <a:latin typeface="微软雅黑"/>
                <a:ea typeface="微软雅黑"/>
              </a:rPr>
              <a:t>模板下载：</a:t>
            </a:r>
            <a:r>
              <a:rPr b="0" lang="en-US" sz="900" spc="-1" strike="noStrike" u="sng">
                <a:solidFill>
                  <a:srgbClr val="0563c1"/>
                </a:solidFill>
                <a:uFillTx/>
                <a:latin typeface="微软雅黑"/>
                <a:ea typeface="微软雅黑"/>
                <a:hlinkClick r:id="rId1"/>
              </a:rPr>
              <a:t>www.ypppt.com/moban/</a:t>
            </a:r>
            <a:r>
              <a:rPr b="0" lang="en-US" sz="9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</a:t>
            </a:r>
            <a:r>
              <a:rPr b="0" lang="zh-CN" sz="900" spc="-1" strike="noStrike">
                <a:solidFill>
                  <a:srgbClr val="4a452a"/>
                </a:solidFill>
                <a:latin typeface="微软雅黑"/>
                <a:ea typeface="微软雅黑"/>
              </a:rPr>
              <a:t>节日</a:t>
            </a:r>
            <a:r>
              <a:rPr b="0" lang="en-US" sz="900" spc="-1" strike="noStrike">
                <a:solidFill>
                  <a:srgbClr val="4a452a"/>
                </a:solidFill>
                <a:latin typeface="微软雅黑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4a452a"/>
                </a:solidFill>
                <a:latin typeface="微软雅黑"/>
                <a:ea typeface="微软雅黑"/>
              </a:rPr>
              <a:t>模板：</a:t>
            </a:r>
            <a:r>
              <a:rPr b="0" lang="en-US" sz="900" spc="-1" strike="noStrike" u="sng">
                <a:solidFill>
                  <a:srgbClr val="0563c1"/>
                </a:solidFill>
                <a:uFillTx/>
                <a:latin typeface="微软雅黑"/>
                <a:ea typeface="微软雅黑"/>
                <a:hlinkClick r:id="rId2"/>
              </a:rPr>
              <a:t>www.ypppt.com/jieri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4a452a"/>
                </a:solidFill>
                <a:latin typeface="微软雅黑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4a452a"/>
                </a:solidFill>
                <a:latin typeface="微软雅黑"/>
                <a:ea typeface="微软雅黑"/>
              </a:rPr>
              <a:t>背景图片：</a:t>
            </a:r>
            <a:r>
              <a:rPr b="0" lang="en-US" sz="900" spc="-1" strike="noStrike" u="sng">
                <a:solidFill>
                  <a:srgbClr val="0563c1"/>
                </a:solidFill>
                <a:uFillTx/>
                <a:latin typeface="微软雅黑"/>
                <a:ea typeface="微软雅黑"/>
                <a:hlinkClick r:id="rId3"/>
              </a:rPr>
              <a:t>www.ypppt.com/beijing/</a:t>
            </a:r>
            <a:r>
              <a:rPr b="0" lang="en-US" sz="9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PPT</a:t>
            </a:r>
            <a:r>
              <a:rPr b="0" lang="zh-CN" sz="900" spc="-1" strike="noStrike">
                <a:solidFill>
                  <a:srgbClr val="4a452a"/>
                </a:solidFill>
                <a:latin typeface="微软雅黑"/>
                <a:ea typeface="微软雅黑"/>
              </a:rPr>
              <a:t>图表下载：</a:t>
            </a:r>
            <a:r>
              <a:rPr b="0" lang="en-US" sz="900" spc="-1" strike="noStrike" u="sng">
                <a:solidFill>
                  <a:srgbClr val="0563c1"/>
                </a:solidFill>
                <a:uFillTx/>
                <a:latin typeface="微软雅黑"/>
                <a:ea typeface="微软雅黑"/>
                <a:hlinkClick r:id="rId4"/>
              </a:rPr>
              <a:t>www.ypppt.com/tubiao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4a452a"/>
                </a:solidFill>
                <a:latin typeface="微软雅黑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4a452a"/>
                </a:solidFill>
                <a:latin typeface="微软雅黑"/>
                <a:ea typeface="微软雅黑"/>
              </a:rPr>
              <a:t>素材下载：</a:t>
            </a:r>
            <a:r>
              <a:rPr b="0" lang="en-US" sz="900" spc="-1" strike="noStrike">
                <a:solidFill>
                  <a:srgbClr val="4a452a"/>
                </a:solidFill>
                <a:latin typeface="微软雅黑"/>
                <a:ea typeface="微软雅黑"/>
              </a:rPr>
              <a:t> </a:t>
            </a:r>
            <a:r>
              <a:rPr b="0" lang="en-US" sz="900" spc="-1" strike="noStrike" u="sng">
                <a:solidFill>
                  <a:srgbClr val="0563c1"/>
                </a:solidFill>
                <a:uFillTx/>
                <a:latin typeface="微软雅黑"/>
                <a:ea typeface="微软雅黑"/>
                <a:hlinkClick r:id="rId5"/>
              </a:rPr>
              <a:t>www.ypppt.com/sucai/</a:t>
            </a:r>
            <a:r>
              <a:rPr b="0" lang="en-US" sz="9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PPT</a:t>
            </a:r>
            <a:r>
              <a:rPr b="0" lang="zh-CN" sz="900" spc="-1" strike="noStrike">
                <a:solidFill>
                  <a:srgbClr val="4a452a"/>
                </a:solidFill>
                <a:latin typeface="微软雅黑"/>
                <a:ea typeface="微软雅黑"/>
              </a:rPr>
              <a:t>教程下载：</a:t>
            </a:r>
            <a:r>
              <a:rPr b="0" lang="en-US" sz="900" spc="-1" strike="noStrike" u="sng">
                <a:solidFill>
                  <a:srgbClr val="0563c1"/>
                </a:solidFill>
                <a:uFillTx/>
                <a:latin typeface="微软雅黑"/>
                <a:ea typeface="微软雅黑"/>
                <a:hlinkClick r:id="rId6"/>
              </a:rPr>
              <a:t>www.ypppt.com/jiaocheng/</a:t>
            </a:r>
            <a:r>
              <a:rPr b="0" lang="en-US" sz="9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9" name="组合 93"/>
          <p:cNvGrpSpPr/>
          <p:nvPr/>
        </p:nvGrpSpPr>
        <p:grpSpPr>
          <a:xfrm>
            <a:off x="5408640" y="410760"/>
            <a:ext cx="1900080" cy="3638880"/>
            <a:chOff x="5408640" y="410760"/>
            <a:chExt cx="1900080" cy="3638880"/>
          </a:xfrm>
        </p:grpSpPr>
        <p:grpSp>
          <p:nvGrpSpPr>
            <p:cNvPr id="610" name="组合 94"/>
            <p:cNvGrpSpPr/>
            <p:nvPr/>
          </p:nvGrpSpPr>
          <p:grpSpPr>
            <a:xfrm>
              <a:off x="5711040" y="410760"/>
              <a:ext cx="1297080" cy="716400"/>
              <a:chOff x="5711040" y="410760"/>
              <a:chExt cx="1297080" cy="716400"/>
            </a:xfrm>
          </p:grpSpPr>
          <p:sp>
            <p:nvSpPr>
              <p:cNvPr id="611" name="梯形 112"/>
              <p:cNvSpPr/>
              <p:nvPr/>
            </p:nvSpPr>
            <p:spPr>
              <a:xfrm rot="10800000">
                <a:off x="5711040" y="410400"/>
                <a:ext cx="1297080" cy="709560"/>
              </a:xfrm>
              <a:custGeom>
                <a:avLst/>
                <a:gdLst>
                  <a:gd name="textAreaLeft" fmla="*/ 157320 w 1297080"/>
                  <a:gd name="textAreaRight" fmla="*/ 1139760 w 1297080"/>
                  <a:gd name="textAreaTop" fmla="*/ 86040 h 709560"/>
                  <a:gd name="textAreaBottom" fmla="*/ 709920 h 709560"/>
                </a:gdLst>
                <a:ahLst/>
                <a:rect l="textAreaLeft" t="textAreaTop" r="textAreaRight" b="textAreaBottom"/>
                <a:pathLst>
                  <a:path w="1296144" h="715760">
                    <a:moveTo>
                      <a:pt x="0" y="715760"/>
                    </a:moveTo>
                    <a:lnTo>
                      <a:pt x="236086" y="0"/>
                    </a:lnTo>
                    <a:lnTo>
                      <a:pt x="1060058" y="0"/>
                    </a:lnTo>
                    <a:lnTo>
                      <a:pt x="1296144" y="715760"/>
                    </a:lnTo>
                    <a:lnTo>
                      <a:pt x="0" y="71576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07400"/>
                  </a:gs>
                  <a:gs pos="100000">
                    <a:srgbClr val="ffca00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2" name="任意多边形 113"/>
              <p:cNvGrpSpPr/>
              <p:nvPr/>
            </p:nvGrpSpPr>
            <p:grpSpPr>
              <a:xfrm>
                <a:off x="6064920" y="516600"/>
                <a:ext cx="909000" cy="610560"/>
                <a:chOff x="6064920" y="516600"/>
                <a:chExt cx="909000" cy="610560"/>
              </a:xfrm>
            </p:grpSpPr>
            <p:pic>
              <p:nvPicPr>
                <p:cNvPr id="613" name="任意多边形 113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064920" y="516600"/>
                  <a:ext cx="909000" cy="610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14" name="Text Box 7"/>
                <p:cNvSpPr/>
                <p:nvPr/>
              </p:nvSpPr>
              <p:spPr>
                <a:xfrm>
                  <a:off x="6071400" y="522720"/>
                  <a:ext cx="896400" cy="59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15" name="TextBox 114"/>
              <p:cNvSpPr/>
              <p:nvPr/>
            </p:nvSpPr>
            <p:spPr>
              <a:xfrm>
                <a:off x="6062400" y="482400"/>
                <a:ext cx="586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 Unicode MS"/>
                    <a:ea typeface="Arial Unicode MS"/>
                  </a:rPr>
                  <a:t>03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6" name="组合 95"/>
            <p:cNvGrpSpPr/>
            <p:nvPr/>
          </p:nvGrpSpPr>
          <p:grpSpPr>
            <a:xfrm>
              <a:off x="5408640" y="1105920"/>
              <a:ext cx="1900080" cy="2943720"/>
              <a:chOff x="5408640" y="1105920"/>
              <a:chExt cx="1900080" cy="2943720"/>
            </a:xfrm>
          </p:grpSpPr>
          <p:grpSp>
            <p:nvGrpSpPr>
              <p:cNvPr id="617" name="组合 96"/>
              <p:cNvGrpSpPr/>
              <p:nvPr/>
            </p:nvGrpSpPr>
            <p:grpSpPr>
              <a:xfrm>
                <a:off x="5408640" y="1105920"/>
                <a:ext cx="1900080" cy="2236680"/>
                <a:chOff x="5408640" y="1105920"/>
                <a:chExt cx="1900080" cy="2236680"/>
              </a:xfrm>
            </p:grpSpPr>
            <p:grpSp>
              <p:nvGrpSpPr>
                <p:cNvPr id="618" name="组合 98"/>
                <p:cNvGrpSpPr/>
                <p:nvPr/>
              </p:nvGrpSpPr>
              <p:grpSpPr>
                <a:xfrm>
                  <a:off x="5408640" y="1105920"/>
                  <a:ext cx="1900080" cy="2236680"/>
                  <a:chOff x="5408640" y="1105920"/>
                  <a:chExt cx="1900080" cy="2236680"/>
                </a:xfrm>
              </p:grpSpPr>
              <p:grpSp>
                <p:nvGrpSpPr>
                  <p:cNvPr id="619" name="矩形 109"/>
                  <p:cNvGrpSpPr/>
                  <p:nvPr/>
                </p:nvGrpSpPr>
                <p:grpSpPr>
                  <a:xfrm>
                    <a:off x="5408640" y="1425600"/>
                    <a:ext cx="30240" cy="1597320"/>
                    <a:chOff x="5408640" y="1425600"/>
                    <a:chExt cx="30240" cy="1597320"/>
                  </a:xfrm>
                </p:grpSpPr>
                <p:pic>
                  <p:nvPicPr>
                    <p:cNvPr id="620" name="矩形 109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408640" y="1425600"/>
                      <a:ext cx="30240" cy="1597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621" name="Text Box 14"/>
                    <p:cNvSpPr/>
                    <p:nvPr/>
                  </p:nvSpPr>
                  <p:spPr>
                    <a:xfrm>
                      <a:off x="5416560" y="1431720"/>
                      <a:ext cx="18000" cy="1584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rm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622" name="矩形 110"/>
                  <p:cNvSpPr/>
                  <p:nvPr/>
                </p:nvSpPr>
                <p:spPr>
                  <a:xfrm>
                    <a:off x="5431320" y="1105920"/>
                    <a:ext cx="1858680" cy="2236680"/>
                  </a:xfrm>
                  <a:prstGeom prst="rect">
                    <a:avLst/>
                  </a:prstGeom>
                  <a:solidFill>
                    <a:srgbClr val="f2f2f2"/>
                  </a:solidFill>
                  <a:ln w="0">
                    <a:solidFill>
                      <a:srgbClr val="a6a6a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rm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623" name="矩形 111"/>
                  <p:cNvGrpSpPr/>
                  <p:nvPr/>
                </p:nvGrpSpPr>
                <p:grpSpPr>
                  <a:xfrm>
                    <a:off x="7278480" y="1425600"/>
                    <a:ext cx="30240" cy="1597320"/>
                    <a:chOff x="7278480" y="1425600"/>
                    <a:chExt cx="30240" cy="1597320"/>
                  </a:xfrm>
                </p:grpSpPr>
                <p:pic>
                  <p:nvPicPr>
                    <p:cNvPr id="624" name="矩形 111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7278480" y="1425600"/>
                      <a:ext cx="30240" cy="1597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625" name="Text Box 18"/>
                    <p:cNvSpPr/>
                    <p:nvPr/>
                  </p:nvSpPr>
                  <p:spPr>
                    <a:xfrm>
                      <a:off x="7283880" y="1431720"/>
                      <a:ext cx="18000" cy="1584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rm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626" name="椭圆 99"/>
                <p:cNvSpPr/>
                <p:nvPr/>
              </p:nvSpPr>
              <p:spPr>
                <a:xfrm rot="1800000">
                  <a:off x="5507640" y="1167120"/>
                  <a:ext cx="127440" cy="127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fbfbf"/>
                    </a:gs>
                    <a:gs pos="100000">
                      <a:srgbClr val="ffffff"/>
                    </a:gs>
                  </a:gsLst>
                  <a:lin ang="4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7" name="椭圆 100"/>
                <p:cNvSpPr/>
                <p:nvPr/>
              </p:nvSpPr>
              <p:spPr>
                <a:xfrm rot="1800000">
                  <a:off x="5682240" y="1167120"/>
                  <a:ext cx="127440" cy="127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fbfbf"/>
                    </a:gs>
                    <a:gs pos="100000">
                      <a:srgbClr val="ffffff"/>
                    </a:gs>
                  </a:gsLst>
                  <a:lin ang="4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8" name="椭圆 101"/>
                <p:cNvSpPr/>
                <p:nvPr/>
              </p:nvSpPr>
              <p:spPr>
                <a:xfrm rot="1800000">
                  <a:off x="5853240" y="1167120"/>
                  <a:ext cx="127440" cy="127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fbfbf"/>
                    </a:gs>
                    <a:gs pos="100000">
                      <a:srgbClr val="ffffff"/>
                    </a:gs>
                  </a:gsLst>
                  <a:lin ang="4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9" name="椭圆 102"/>
                <p:cNvSpPr/>
                <p:nvPr/>
              </p:nvSpPr>
              <p:spPr>
                <a:xfrm rot="1800000">
                  <a:off x="6027840" y="1167120"/>
                  <a:ext cx="127440" cy="127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fbfbf"/>
                    </a:gs>
                    <a:gs pos="100000">
                      <a:srgbClr val="ffffff"/>
                    </a:gs>
                  </a:gsLst>
                  <a:lin ang="4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0" name="椭圆 103"/>
                <p:cNvSpPr/>
                <p:nvPr/>
              </p:nvSpPr>
              <p:spPr>
                <a:xfrm rot="1800000">
                  <a:off x="6202080" y="1167120"/>
                  <a:ext cx="127440" cy="127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fbfbf"/>
                    </a:gs>
                    <a:gs pos="100000">
                      <a:srgbClr val="ffffff"/>
                    </a:gs>
                  </a:gsLst>
                  <a:lin ang="4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1" name="椭圆 104"/>
                <p:cNvSpPr/>
                <p:nvPr/>
              </p:nvSpPr>
              <p:spPr>
                <a:xfrm rot="1800000">
                  <a:off x="6376320" y="1167120"/>
                  <a:ext cx="127440" cy="127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fbfbf"/>
                    </a:gs>
                    <a:gs pos="100000">
                      <a:srgbClr val="ffffff"/>
                    </a:gs>
                  </a:gsLst>
                  <a:lin ang="4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2" name="椭圆 105"/>
                <p:cNvSpPr/>
                <p:nvPr/>
              </p:nvSpPr>
              <p:spPr>
                <a:xfrm rot="1800000">
                  <a:off x="6547680" y="1167120"/>
                  <a:ext cx="127440" cy="127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fbfbf"/>
                    </a:gs>
                    <a:gs pos="100000">
                      <a:srgbClr val="ffffff"/>
                    </a:gs>
                  </a:gsLst>
                  <a:lin ang="4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3" name="椭圆 106"/>
                <p:cNvSpPr/>
                <p:nvPr/>
              </p:nvSpPr>
              <p:spPr>
                <a:xfrm rot="1800000">
                  <a:off x="6721920" y="1167120"/>
                  <a:ext cx="127440" cy="127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fbfbf"/>
                    </a:gs>
                    <a:gs pos="100000">
                      <a:srgbClr val="ffffff"/>
                    </a:gs>
                  </a:gsLst>
                  <a:lin ang="4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4" name="椭圆 107"/>
                <p:cNvSpPr/>
                <p:nvPr/>
              </p:nvSpPr>
              <p:spPr>
                <a:xfrm rot="1800000">
                  <a:off x="6895080" y="1167120"/>
                  <a:ext cx="127440" cy="127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fbfbf"/>
                    </a:gs>
                    <a:gs pos="100000">
                      <a:srgbClr val="ffffff"/>
                    </a:gs>
                  </a:gsLst>
                  <a:lin ang="4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5" name="椭圆 108"/>
                <p:cNvSpPr/>
                <p:nvPr/>
              </p:nvSpPr>
              <p:spPr>
                <a:xfrm rot="1800000">
                  <a:off x="7069320" y="1167120"/>
                  <a:ext cx="127440" cy="127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fbfbf"/>
                    </a:gs>
                    <a:gs pos="100000">
                      <a:srgbClr val="ffffff"/>
                    </a:gs>
                  </a:gsLst>
                  <a:lin ang="4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6" name="矩形 97"/>
              <p:cNvSpPr/>
              <p:nvPr/>
            </p:nvSpPr>
            <p:spPr>
              <a:xfrm>
                <a:off x="5423040" y="3355200"/>
                <a:ext cx="1873440" cy="694440"/>
              </a:xfrm>
              <a:prstGeom prst="rect">
                <a:avLst/>
              </a:prstGeom>
              <a:gradFill rotWithShape="0">
                <a:gsLst>
                  <a:gs pos="0">
                    <a:srgbClr val="cccccc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37" name="组合 26"/>
          <p:cNvGrpSpPr/>
          <p:nvPr/>
        </p:nvGrpSpPr>
        <p:grpSpPr>
          <a:xfrm>
            <a:off x="1835280" y="410760"/>
            <a:ext cx="1900080" cy="3638880"/>
            <a:chOff x="1835280" y="410760"/>
            <a:chExt cx="1900080" cy="3638880"/>
          </a:xfrm>
        </p:grpSpPr>
        <p:grpSp>
          <p:nvGrpSpPr>
            <p:cNvPr id="638" name="组合 5"/>
            <p:cNvGrpSpPr/>
            <p:nvPr/>
          </p:nvGrpSpPr>
          <p:grpSpPr>
            <a:xfrm>
              <a:off x="2137680" y="410760"/>
              <a:ext cx="1297080" cy="716400"/>
              <a:chOff x="2137680" y="410760"/>
              <a:chExt cx="1297080" cy="716400"/>
            </a:xfrm>
          </p:grpSpPr>
          <p:sp>
            <p:nvSpPr>
              <p:cNvPr id="639" name="梯形 3"/>
              <p:cNvSpPr/>
              <p:nvPr/>
            </p:nvSpPr>
            <p:spPr>
              <a:xfrm rot="10800000">
                <a:off x="2137680" y="410400"/>
                <a:ext cx="1297080" cy="709560"/>
              </a:xfrm>
              <a:custGeom>
                <a:avLst/>
                <a:gdLst>
                  <a:gd name="textAreaLeft" fmla="*/ 157320 w 1297080"/>
                  <a:gd name="textAreaRight" fmla="*/ 1139760 w 1297080"/>
                  <a:gd name="textAreaTop" fmla="*/ 86040 h 709560"/>
                  <a:gd name="textAreaBottom" fmla="*/ 709920 h 709560"/>
                </a:gdLst>
                <a:ahLst/>
                <a:rect l="textAreaLeft" t="textAreaTop" r="textAreaRight" b="textAreaBottom"/>
                <a:pathLst>
                  <a:path w="1296144" h="715760">
                    <a:moveTo>
                      <a:pt x="0" y="715760"/>
                    </a:moveTo>
                    <a:lnTo>
                      <a:pt x="236086" y="0"/>
                    </a:lnTo>
                    <a:lnTo>
                      <a:pt x="1060058" y="0"/>
                    </a:lnTo>
                    <a:lnTo>
                      <a:pt x="1296144" y="715760"/>
                    </a:lnTo>
                    <a:lnTo>
                      <a:pt x="0" y="71576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07400"/>
                  </a:gs>
                  <a:gs pos="100000">
                    <a:srgbClr val="ffca00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40" name="任意多边形 1"/>
              <p:cNvGrpSpPr/>
              <p:nvPr/>
            </p:nvGrpSpPr>
            <p:grpSpPr>
              <a:xfrm>
                <a:off x="2493000" y="516600"/>
                <a:ext cx="909000" cy="610560"/>
                <a:chOff x="2493000" y="516600"/>
                <a:chExt cx="909000" cy="610560"/>
              </a:xfrm>
            </p:grpSpPr>
            <p:pic>
              <p:nvPicPr>
                <p:cNvPr id="641" name="任意多边形 1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2493000" y="516600"/>
                  <a:ext cx="909000" cy="610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42" name="Text Box 35"/>
                <p:cNvSpPr/>
                <p:nvPr/>
              </p:nvSpPr>
              <p:spPr>
                <a:xfrm>
                  <a:off x="2498040" y="522720"/>
                  <a:ext cx="896400" cy="59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3" name="TextBox 4"/>
              <p:cNvSpPr/>
              <p:nvPr/>
            </p:nvSpPr>
            <p:spPr>
              <a:xfrm>
                <a:off x="2489040" y="482400"/>
                <a:ext cx="586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 Unicode MS"/>
                    <a:ea typeface="Arial Unicode MS"/>
                  </a:rPr>
                  <a:t>01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4" name="组合 25"/>
            <p:cNvGrpSpPr/>
            <p:nvPr/>
          </p:nvGrpSpPr>
          <p:grpSpPr>
            <a:xfrm>
              <a:off x="1835280" y="1105920"/>
              <a:ext cx="1900080" cy="2943720"/>
              <a:chOff x="1835280" y="1105920"/>
              <a:chExt cx="1900080" cy="2943720"/>
            </a:xfrm>
          </p:grpSpPr>
          <p:grpSp>
            <p:nvGrpSpPr>
              <p:cNvPr id="645" name="组合 22"/>
              <p:cNvGrpSpPr/>
              <p:nvPr/>
            </p:nvGrpSpPr>
            <p:grpSpPr>
              <a:xfrm>
                <a:off x="1835280" y="1105920"/>
                <a:ext cx="1900080" cy="2236680"/>
                <a:chOff x="1835280" y="1105920"/>
                <a:chExt cx="1900080" cy="2236680"/>
              </a:xfrm>
            </p:grpSpPr>
            <p:grpSp>
              <p:nvGrpSpPr>
                <p:cNvPr id="646" name="组合 11"/>
                <p:cNvGrpSpPr/>
                <p:nvPr/>
              </p:nvGrpSpPr>
              <p:grpSpPr>
                <a:xfrm>
                  <a:off x="1835280" y="1105920"/>
                  <a:ext cx="1900080" cy="2236680"/>
                  <a:chOff x="1835280" y="1105920"/>
                  <a:chExt cx="1900080" cy="2236680"/>
                </a:xfrm>
              </p:grpSpPr>
              <p:grpSp>
                <p:nvGrpSpPr>
                  <p:cNvPr id="647" name="矩形 9"/>
                  <p:cNvGrpSpPr/>
                  <p:nvPr/>
                </p:nvGrpSpPr>
                <p:grpSpPr>
                  <a:xfrm>
                    <a:off x="1835280" y="1425600"/>
                    <a:ext cx="30240" cy="1597320"/>
                    <a:chOff x="1835280" y="1425600"/>
                    <a:chExt cx="30240" cy="1597320"/>
                  </a:xfrm>
                </p:grpSpPr>
                <p:pic>
                  <p:nvPicPr>
                    <p:cNvPr id="648" name="矩形 9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1835280" y="1425600"/>
                      <a:ext cx="30240" cy="1597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649" name="Text Box 42"/>
                    <p:cNvSpPr/>
                    <p:nvPr/>
                  </p:nvSpPr>
                  <p:spPr>
                    <a:xfrm>
                      <a:off x="1842120" y="1431720"/>
                      <a:ext cx="18000" cy="1584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rm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650" name="矩形 6"/>
                  <p:cNvSpPr/>
                  <p:nvPr/>
                </p:nvSpPr>
                <p:spPr>
                  <a:xfrm>
                    <a:off x="1856520" y="1105920"/>
                    <a:ext cx="1858680" cy="2236680"/>
                  </a:xfrm>
                  <a:prstGeom prst="rect">
                    <a:avLst/>
                  </a:prstGeom>
                  <a:solidFill>
                    <a:srgbClr val="f2f2f2"/>
                  </a:solidFill>
                  <a:ln w="0">
                    <a:solidFill>
                      <a:srgbClr val="a6a6a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rm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651" name="矩形 10"/>
                  <p:cNvGrpSpPr/>
                  <p:nvPr/>
                </p:nvGrpSpPr>
                <p:grpSpPr>
                  <a:xfrm>
                    <a:off x="3705120" y="1425600"/>
                    <a:ext cx="30240" cy="1597320"/>
                    <a:chOff x="3705120" y="1425600"/>
                    <a:chExt cx="30240" cy="1597320"/>
                  </a:xfrm>
                </p:grpSpPr>
                <p:pic>
                  <p:nvPicPr>
                    <p:cNvPr id="652" name="矩形 10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705120" y="1425600"/>
                      <a:ext cx="30240" cy="1597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653" name="Text Box 46"/>
                    <p:cNvSpPr/>
                    <p:nvPr/>
                  </p:nvSpPr>
                  <p:spPr>
                    <a:xfrm>
                      <a:off x="3709080" y="1431720"/>
                      <a:ext cx="18000" cy="1584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rm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654" name="椭圆 12"/>
                <p:cNvSpPr/>
                <p:nvPr/>
              </p:nvSpPr>
              <p:spPr>
                <a:xfrm rot="1800000">
                  <a:off x="1934280" y="1167120"/>
                  <a:ext cx="127440" cy="127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fbfbf"/>
                    </a:gs>
                    <a:gs pos="100000">
                      <a:srgbClr val="ffffff"/>
                    </a:gs>
                  </a:gsLst>
                  <a:lin ang="4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5" name="椭圆 13"/>
                <p:cNvSpPr/>
                <p:nvPr/>
              </p:nvSpPr>
              <p:spPr>
                <a:xfrm rot="1800000">
                  <a:off x="2108880" y="1167120"/>
                  <a:ext cx="127440" cy="127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fbfbf"/>
                    </a:gs>
                    <a:gs pos="100000">
                      <a:srgbClr val="ffffff"/>
                    </a:gs>
                  </a:gsLst>
                  <a:lin ang="4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6" name="椭圆 14"/>
                <p:cNvSpPr/>
                <p:nvPr/>
              </p:nvSpPr>
              <p:spPr>
                <a:xfrm rot="1800000">
                  <a:off x="2279880" y="1167120"/>
                  <a:ext cx="127440" cy="127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fbfbf"/>
                    </a:gs>
                    <a:gs pos="100000">
                      <a:srgbClr val="ffffff"/>
                    </a:gs>
                  </a:gsLst>
                  <a:lin ang="4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7" name="椭圆 15"/>
                <p:cNvSpPr/>
                <p:nvPr/>
              </p:nvSpPr>
              <p:spPr>
                <a:xfrm rot="1800000">
                  <a:off x="2454480" y="1167120"/>
                  <a:ext cx="127440" cy="127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fbfbf"/>
                    </a:gs>
                    <a:gs pos="100000">
                      <a:srgbClr val="ffffff"/>
                    </a:gs>
                  </a:gsLst>
                  <a:lin ang="4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8" name="椭圆 16"/>
                <p:cNvSpPr/>
                <p:nvPr/>
              </p:nvSpPr>
              <p:spPr>
                <a:xfrm rot="1800000">
                  <a:off x="2628720" y="1167120"/>
                  <a:ext cx="127440" cy="127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fbfbf"/>
                    </a:gs>
                    <a:gs pos="100000">
                      <a:srgbClr val="ffffff"/>
                    </a:gs>
                  </a:gsLst>
                  <a:lin ang="4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9" name="椭圆 17"/>
                <p:cNvSpPr/>
                <p:nvPr/>
              </p:nvSpPr>
              <p:spPr>
                <a:xfrm rot="1800000">
                  <a:off x="2802960" y="1167120"/>
                  <a:ext cx="127440" cy="127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fbfbf"/>
                    </a:gs>
                    <a:gs pos="100000">
                      <a:srgbClr val="ffffff"/>
                    </a:gs>
                  </a:gsLst>
                  <a:lin ang="4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0" name="椭圆 18"/>
                <p:cNvSpPr/>
                <p:nvPr/>
              </p:nvSpPr>
              <p:spPr>
                <a:xfrm rot="1800000">
                  <a:off x="2974320" y="1167120"/>
                  <a:ext cx="127440" cy="127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fbfbf"/>
                    </a:gs>
                    <a:gs pos="100000">
                      <a:srgbClr val="ffffff"/>
                    </a:gs>
                  </a:gsLst>
                  <a:lin ang="4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1" name="椭圆 19"/>
                <p:cNvSpPr/>
                <p:nvPr/>
              </p:nvSpPr>
              <p:spPr>
                <a:xfrm rot="1800000">
                  <a:off x="3148560" y="1167120"/>
                  <a:ext cx="127440" cy="127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fbfbf"/>
                    </a:gs>
                    <a:gs pos="100000">
                      <a:srgbClr val="ffffff"/>
                    </a:gs>
                  </a:gsLst>
                  <a:lin ang="4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2" name="椭圆 20"/>
                <p:cNvSpPr/>
                <p:nvPr/>
              </p:nvSpPr>
              <p:spPr>
                <a:xfrm rot="1800000">
                  <a:off x="3321720" y="1167120"/>
                  <a:ext cx="127440" cy="127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fbfbf"/>
                    </a:gs>
                    <a:gs pos="100000">
                      <a:srgbClr val="ffffff"/>
                    </a:gs>
                  </a:gsLst>
                  <a:lin ang="4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3" name="椭圆 21"/>
                <p:cNvSpPr/>
                <p:nvPr/>
              </p:nvSpPr>
              <p:spPr>
                <a:xfrm rot="1800000">
                  <a:off x="3495960" y="1167120"/>
                  <a:ext cx="127440" cy="127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fbfbf"/>
                    </a:gs>
                    <a:gs pos="100000">
                      <a:srgbClr val="ffffff"/>
                    </a:gs>
                  </a:gsLst>
                  <a:lin ang="4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4" name="矩形 24"/>
              <p:cNvSpPr/>
              <p:nvPr/>
            </p:nvSpPr>
            <p:spPr>
              <a:xfrm>
                <a:off x="1849680" y="3355200"/>
                <a:ext cx="1873440" cy="694440"/>
              </a:xfrm>
              <a:prstGeom prst="rect">
                <a:avLst/>
              </a:prstGeom>
              <a:gradFill rotWithShape="0">
                <a:gsLst>
                  <a:gs pos="0">
                    <a:srgbClr val="cccccc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65" name="组合 71"/>
          <p:cNvGrpSpPr/>
          <p:nvPr/>
        </p:nvGrpSpPr>
        <p:grpSpPr>
          <a:xfrm>
            <a:off x="3625920" y="1197000"/>
            <a:ext cx="1900080" cy="3638520"/>
            <a:chOff x="3625920" y="1197000"/>
            <a:chExt cx="1900080" cy="3638520"/>
          </a:xfrm>
        </p:grpSpPr>
        <p:grpSp>
          <p:nvGrpSpPr>
            <p:cNvPr id="666" name="组合 72"/>
            <p:cNvGrpSpPr/>
            <p:nvPr/>
          </p:nvGrpSpPr>
          <p:grpSpPr>
            <a:xfrm>
              <a:off x="3928320" y="1197000"/>
              <a:ext cx="1297080" cy="716040"/>
              <a:chOff x="3928320" y="1197000"/>
              <a:chExt cx="1297080" cy="716040"/>
            </a:xfrm>
          </p:grpSpPr>
          <p:sp>
            <p:nvSpPr>
              <p:cNvPr id="667" name="梯形 90"/>
              <p:cNvSpPr/>
              <p:nvPr/>
            </p:nvSpPr>
            <p:spPr>
              <a:xfrm rot="10800000">
                <a:off x="3928320" y="1197000"/>
                <a:ext cx="1297080" cy="709200"/>
              </a:xfrm>
              <a:custGeom>
                <a:avLst/>
                <a:gdLst>
                  <a:gd name="textAreaLeft" fmla="*/ 157320 w 1297080"/>
                  <a:gd name="textAreaRight" fmla="*/ 1139760 w 1297080"/>
                  <a:gd name="textAreaTop" fmla="*/ 86040 h 709200"/>
                  <a:gd name="textAreaBottom" fmla="*/ 709560 h 709200"/>
                </a:gdLst>
                <a:ahLst/>
                <a:rect l="textAreaLeft" t="textAreaTop" r="textAreaRight" b="textAreaBottom"/>
                <a:pathLst>
                  <a:path w="1296144" h="715760">
                    <a:moveTo>
                      <a:pt x="0" y="715760"/>
                    </a:moveTo>
                    <a:lnTo>
                      <a:pt x="236086" y="0"/>
                    </a:lnTo>
                    <a:lnTo>
                      <a:pt x="1060058" y="0"/>
                    </a:lnTo>
                    <a:lnTo>
                      <a:pt x="1296144" y="715760"/>
                    </a:lnTo>
                    <a:lnTo>
                      <a:pt x="0" y="71576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07400"/>
                  </a:gs>
                  <a:gs pos="100000">
                    <a:srgbClr val="ffca00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68" name="任意多边形 91"/>
              <p:cNvGrpSpPr/>
              <p:nvPr/>
            </p:nvGrpSpPr>
            <p:grpSpPr>
              <a:xfrm>
                <a:off x="4285080" y="1302840"/>
                <a:ext cx="909000" cy="610200"/>
                <a:chOff x="4285080" y="1302840"/>
                <a:chExt cx="909000" cy="610200"/>
              </a:xfrm>
            </p:grpSpPr>
            <p:pic>
              <p:nvPicPr>
                <p:cNvPr id="669" name="任意多边形 9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4285080" y="1302840"/>
                  <a:ext cx="909000" cy="610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70" name="Text Box 63"/>
                <p:cNvSpPr/>
                <p:nvPr/>
              </p:nvSpPr>
              <p:spPr>
                <a:xfrm>
                  <a:off x="4288680" y="1308600"/>
                  <a:ext cx="896400" cy="597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71" name="TextBox 92"/>
              <p:cNvSpPr/>
              <p:nvPr/>
            </p:nvSpPr>
            <p:spPr>
              <a:xfrm>
                <a:off x="4279680" y="1268280"/>
                <a:ext cx="586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 Unicode MS"/>
                    <a:ea typeface="Arial Unicode MS"/>
                  </a:rPr>
                  <a:t>02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2" name="组合 73"/>
            <p:cNvGrpSpPr/>
            <p:nvPr/>
          </p:nvGrpSpPr>
          <p:grpSpPr>
            <a:xfrm>
              <a:off x="3625920" y="1891800"/>
              <a:ext cx="1900080" cy="2943720"/>
              <a:chOff x="3625920" y="1891800"/>
              <a:chExt cx="1900080" cy="2943720"/>
            </a:xfrm>
          </p:grpSpPr>
          <p:grpSp>
            <p:nvGrpSpPr>
              <p:cNvPr id="673" name="组合 74"/>
              <p:cNvGrpSpPr/>
              <p:nvPr/>
            </p:nvGrpSpPr>
            <p:grpSpPr>
              <a:xfrm>
                <a:off x="3625920" y="1891800"/>
                <a:ext cx="1900080" cy="2236680"/>
                <a:chOff x="3625920" y="1891800"/>
                <a:chExt cx="1900080" cy="2236680"/>
              </a:xfrm>
            </p:grpSpPr>
            <p:grpSp>
              <p:nvGrpSpPr>
                <p:cNvPr id="674" name="组合 76"/>
                <p:cNvGrpSpPr/>
                <p:nvPr/>
              </p:nvGrpSpPr>
              <p:grpSpPr>
                <a:xfrm>
                  <a:off x="3625920" y="1891800"/>
                  <a:ext cx="1900080" cy="2236680"/>
                  <a:chOff x="3625920" y="1891800"/>
                  <a:chExt cx="1900080" cy="2236680"/>
                </a:xfrm>
              </p:grpSpPr>
              <p:grpSp>
                <p:nvGrpSpPr>
                  <p:cNvPr id="675" name="矩形 87"/>
                  <p:cNvGrpSpPr/>
                  <p:nvPr/>
                </p:nvGrpSpPr>
                <p:grpSpPr>
                  <a:xfrm>
                    <a:off x="3625920" y="2211840"/>
                    <a:ext cx="30240" cy="1597320"/>
                    <a:chOff x="3625920" y="2211840"/>
                    <a:chExt cx="30240" cy="1597320"/>
                  </a:xfrm>
                </p:grpSpPr>
                <p:pic>
                  <p:nvPicPr>
                    <p:cNvPr id="676" name="矩形 87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625920" y="2211840"/>
                      <a:ext cx="30240" cy="1597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677" name="Text Box 70"/>
                    <p:cNvSpPr/>
                    <p:nvPr/>
                  </p:nvSpPr>
                  <p:spPr>
                    <a:xfrm>
                      <a:off x="3631320" y="2217600"/>
                      <a:ext cx="18000" cy="1584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rm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678" name="矩形 88"/>
                  <p:cNvSpPr/>
                  <p:nvPr/>
                </p:nvSpPr>
                <p:spPr>
                  <a:xfrm>
                    <a:off x="3646080" y="1891800"/>
                    <a:ext cx="1864440" cy="2236680"/>
                  </a:xfrm>
                  <a:prstGeom prst="rect">
                    <a:avLst/>
                  </a:prstGeom>
                  <a:solidFill>
                    <a:srgbClr val="f2f2f2"/>
                  </a:solidFill>
                  <a:ln w="0">
                    <a:solidFill>
                      <a:srgbClr val="a6a6a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rm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679" name="矩形 89"/>
                  <p:cNvGrpSpPr/>
                  <p:nvPr/>
                </p:nvGrpSpPr>
                <p:grpSpPr>
                  <a:xfrm>
                    <a:off x="5495760" y="2211840"/>
                    <a:ext cx="30240" cy="1597320"/>
                    <a:chOff x="5495760" y="2211840"/>
                    <a:chExt cx="30240" cy="1597320"/>
                  </a:xfrm>
                </p:grpSpPr>
                <p:pic>
                  <p:nvPicPr>
                    <p:cNvPr id="680" name="矩形 89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5495760" y="2211840"/>
                      <a:ext cx="30240" cy="1597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681" name="Text Box 74"/>
                    <p:cNvSpPr/>
                    <p:nvPr/>
                  </p:nvSpPr>
                  <p:spPr>
                    <a:xfrm>
                      <a:off x="5504400" y="2217600"/>
                      <a:ext cx="18000" cy="1584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rm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682" name="椭圆 77"/>
                <p:cNvSpPr/>
                <p:nvPr/>
              </p:nvSpPr>
              <p:spPr>
                <a:xfrm rot="1800000">
                  <a:off x="3724920" y="1953000"/>
                  <a:ext cx="127440" cy="127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fbfbf"/>
                    </a:gs>
                    <a:gs pos="100000">
                      <a:srgbClr val="ffffff"/>
                    </a:gs>
                  </a:gsLst>
                  <a:lin ang="4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3" name="椭圆 78"/>
                <p:cNvSpPr/>
                <p:nvPr/>
              </p:nvSpPr>
              <p:spPr>
                <a:xfrm rot="1800000">
                  <a:off x="3899520" y="1953000"/>
                  <a:ext cx="127440" cy="127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fbfbf"/>
                    </a:gs>
                    <a:gs pos="100000">
                      <a:srgbClr val="ffffff"/>
                    </a:gs>
                  </a:gsLst>
                  <a:lin ang="4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4" name="椭圆 79"/>
                <p:cNvSpPr/>
                <p:nvPr/>
              </p:nvSpPr>
              <p:spPr>
                <a:xfrm rot="1800000">
                  <a:off x="4070520" y="1953000"/>
                  <a:ext cx="127440" cy="127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fbfbf"/>
                    </a:gs>
                    <a:gs pos="100000">
                      <a:srgbClr val="ffffff"/>
                    </a:gs>
                  </a:gsLst>
                  <a:lin ang="4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5" name="椭圆 80"/>
                <p:cNvSpPr/>
                <p:nvPr/>
              </p:nvSpPr>
              <p:spPr>
                <a:xfrm rot="1800000">
                  <a:off x="4245120" y="1953000"/>
                  <a:ext cx="127440" cy="127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fbfbf"/>
                    </a:gs>
                    <a:gs pos="100000">
                      <a:srgbClr val="ffffff"/>
                    </a:gs>
                  </a:gsLst>
                  <a:lin ang="4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6" name="椭圆 81"/>
                <p:cNvSpPr/>
                <p:nvPr/>
              </p:nvSpPr>
              <p:spPr>
                <a:xfrm rot="1800000">
                  <a:off x="4419360" y="1953000"/>
                  <a:ext cx="127440" cy="127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fbfbf"/>
                    </a:gs>
                    <a:gs pos="100000">
                      <a:srgbClr val="ffffff"/>
                    </a:gs>
                  </a:gsLst>
                  <a:lin ang="4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7" name="椭圆 82"/>
                <p:cNvSpPr/>
                <p:nvPr/>
              </p:nvSpPr>
              <p:spPr>
                <a:xfrm rot="1800000">
                  <a:off x="4593600" y="1953000"/>
                  <a:ext cx="127440" cy="127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fbfbf"/>
                    </a:gs>
                    <a:gs pos="100000">
                      <a:srgbClr val="ffffff"/>
                    </a:gs>
                  </a:gsLst>
                  <a:lin ang="4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8" name="椭圆 83"/>
                <p:cNvSpPr/>
                <p:nvPr/>
              </p:nvSpPr>
              <p:spPr>
                <a:xfrm rot="1800000">
                  <a:off x="4764960" y="1953000"/>
                  <a:ext cx="127440" cy="127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fbfbf"/>
                    </a:gs>
                    <a:gs pos="100000">
                      <a:srgbClr val="ffffff"/>
                    </a:gs>
                  </a:gsLst>
                  <a:lin ang="4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9" name="椭圆 84"/>
                <p:cNvSpPr/>
                <p:nvPr/>
              </p:nvSpPr>
              <p:spPr>
                <a:xfrm rot="1800000">
                  <a:off x="4939200" y="1953000"/>
                  <a:ext cx="127440" cy="127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fbfbf"/>
                    </a:gs>
                    <a:gs pos="100000">
                      <a:srgbClr val="ffffff"/>
                    </a:gs>
                  </a:gsLst>
                  <a:lin ang="4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0" name="椭圆 85"/>
                <p:cNvSpPr/>
                <p:nvPr/>
              </p:nvSpPr>
              <p:spPr>
                <a:xfrm rot="1800000">
                  <a:off x="5112360" y="1953000"/>
                  <a:ext cx="127440" cy="127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fbfbf"/>
                    </a:gs>
                    <a:gs pos="100000">
                      <a:srgbClr val="ffffff"/>
                    </a:gs>
                  </a:gsLst>
                  <a:lin ang="4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1" name="椭圆 86"/>
                <p:cNvSpPr/>
                <p:nvPr/>
              </p:nvSpPr>
              <p:spPr>
                <a:xfrm rot="1800000">
                  <a:off x="5286600" y="1953000"/>
                  <a:ext cx="127440" cy="127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fbfbf"/>
                    </a:gs>
                    <a:gs pos="100000">
                      <a:srgbClr val="ffffff"/>
                    </a:gs>
                  </a:gsLst>
                  <a:lin ang="4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92" name="矩形 75"/>
              <p:cNvSpPr/>
              <p:nvPr/>
            </p:nvSpPr>
            <p:spPr>
              <a:xfrm>
                <a:off x="3640320" y="4141080"/>
                <a:ext cx="1873440" cy="694440"/>
              </a:xfrm>
              <a:prstGeom prst="rect">
                <a:avLst/>
              </a:prstGeom>
              <a:gradFill rotWithShape="0">
                <a:gsLst>
                  <a:gs pos="0">
                    <a:srgbClr val="cccccc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93" name="TextBox 115"/>
          <p:cNvSpPr/>
          <p:nvPr/>
        </p:nvSpPr>
        <p:spPr>
          <a:xfrm>
            <a:off x="1893600" y="1355760"/>
            <a:ext cx="18356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46c0a"/>
                </a:solidFill>
                <a:latin typeface="Calibri"/>
              </a:rPr>
              <a:t>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lick here to ad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your text or Cop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Your text and pas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it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TextBox 116"/>
          <p:cNvSpPr/>
          <p:nvPr/>
        </p:nvSpPr>
        <p:spPr>
          <a:xfrm>
            <a:off x="3684240" y="2224080"/>
            <a:ext cx="18356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46c0a"/>
                </a:solidFill>
                <a:latin typeface="Calibri"/>
              </a:rPr>
              <a:t>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lick here to ad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your text or Cop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Your text and pas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it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TextBox 117"/>
          <p:cNvSpPr/>
          <p:nvPr/>
        </p:nvSpPr>
        <p:spPr>
          <a:xfrm>
            <a:off x="5466960" y="1355760"/>
            <a:ext cx="18356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46c0a"/>
                </a:solidFill>
                <a:latin typeface="Calibri"/>
              </a:rPr>
              <a:t>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lick here to ad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your text or Cop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Your text and pas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it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矩形 10"/>
          <p:cNvSpPr/>
          <p:nvPr/>
        </p:nvSpPr>
        <p:spPr>
          <a:xfrm>
            <a:off x="0" y="0"/>
            <a:ext cx="468360" cy="51436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TextBox 11"/>
          <p:cNvSpPr/>
          <p:nvPr/>
        </p:nvSpPr>
        <p:spPr>
          <a:xfrm rot="5400000">
            <a:off x="-847440" y="1955520"/>
            <a:ext cx="268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000"/>
                </a:solidFill>
                <a:latin typeface="Calibri"/>
              </a:rPr>
              <a:t>CONT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8" name="组合 38"/>
          <p:cNvGrpSpPr/>
          <p:nvPr/>
        </p:nvGrpSpPr>
        <p:grpSpPr>
          <a:xfrm>
            <a:off x="2268360" y="195120"/>
            <a:ext cx="4104000" cy="1117800"/>
            <a:chOff x="2268360" y="195120"/>
            <a:chExt cx="4104000" cy="1117800"/>
          </a:xfrm>
        </p:grpSpPr>
        <p:sp>
          <p:nvSpPr>
            <p:cNvPr id="699" name="椭圆 12"/>
            <p:cNvSpPr/>
            <p:nvPr/>
          </p:nvSpPr>
          <p:spPr>
            <a:xfrm>
              <a:off x="2268360" y="195120"/>
              <a:ext cx="1117080" cy="1117800"/>
            </a:xfrm>
            <a:prstGeom prst="ellipse">
              <a:avLst/>
            </a:prstGeom>
            <a:solidFill>
              <a:srgbClr val="e46c0a"/>
            </a:solidFill>
            <a:ln w="6480">
              <a:solidFill>
                <a:srgbClr val="ffffff"/>
              </a:solidFill>
              <a:miter/>
            </a:ln>
            <a:effectLst>
              <a:outerShdw dist="153753" dir="2700000" blurRad="0" rotWithShape="0">
                <a:srgbClr val="000000">
                  <a:alpha val="2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圆角矩形 15"/>
            <p:cNvSpPr/>
            <p:nvPr/>
          </p:nvSpPr>
          <p:spPr>
            <a:xfrm>
              <a:off x="2946600" y="474480"/>
              <a:ext cx="3425760" cy="5587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3240">
              <a:solidFill>
                <a:srgbClr val="ffffff"/>
              </a:solidFill>
              <a:miter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椭圆 13"/>
            <p:cNvSpPr/>
            <p:nvPr/>
          </p:nvSpPr>
          <p:spPr>
            <a:xfrm>
              <a:off x="2347920" y="274680"/>
              <a:ext cx="957600" cy="95832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ffffff"/>
              </a:solidFill>
              <a:miter/>
            </a:ln>
            <a:effectLst>
              <a:outerShdw dist="38160" dir="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2" name="组合 39"/>
          <p:cNvGrpSpPr/>
          <p:nvPr/>
        </p:nvGrpSpPr>
        <p:grpSpPr>
          <a:xfrm>
            <a:off x="2627280" y="1392120"/>
            <a:ext cx="4105440" cy="1117800"/>
            <a:chOff x="2627280" y="1392120"/>
            <a:chExt cx="4105440" cy="1117800"/>
          </a:xfrm>
        </p:grpSpPr>
        <p:sp>
          <p:nvSpPr>
            <p:cNvPr id="703" name="椭圆 26"/>
            <p:cNvSpPr/>
            <p:nvPr/>
          </p:nvSpPr>
          <p:spPr>
            <a:xfrm>
              <a:off x="2627280" y="1392120"/>
              <a:ext cx="1117440" cy="1117800"/>
            </a:xfrm>
            <a:prstGeom prst="ellipse">
              <a:avLst/>
            </a:prstGeom>
            <a:solidFill>
              <a:srgbClr val="e46c0a"/>
            </a:solidFill>
            <a:ln w="6480">
              <a:solidFill>
                <a:srgbClr val="ffffff"/>
              </a:solidFill>
              <a:miter/>
            </a:ln>
            <a:effectLst>
              <a:outerShdw dist="153753" dir="2700000" blurRad="0" rotWithShape="0">
                <a:srgbClr val="000000">
                  <a:alpha val="2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圆角矩形 27"/>
            <p:cNvSpPr/>
            <p:nvPr/>
          </p:nvSpPr>
          <p:spPr>
            <a:xfrm>
              <a:off x="3305880" y="1671480"/>
              <a:ext cx="3426840" cy="5587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3240">
              <a:solidFill>
                <a:srgbClr val="ffffff"/>
              </a:solidFill>
              <a:miter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椭圆 28"/>
            <p:cNvSpPr/>
            <p:nvPr/>
          </p:nvSpPr>
          <p:spPr>
            <a:xfrm>
              <a:off x="2706840" y="1471680"/>
              <a:ext cx="957960" cy="95832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ffffff"/>
              </a:solidFill>
              <a:miter/>
            </a:ln>
            <a:effectLst>
              <a:outerShdw dist="38160" dir="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6" name="组合 40"/>
          <p:cNvGrpSpPr/>
          <p:nvPr/>
        </p:nvGrpSpPr>
        <p:grpSpPr>
          <a:xfrm>
            <a:off x="2987640" y="2630520"/>
            <a:ext cx="4105440" cy="1117440"/>
            <a:chOff x="2987640" y="2630520"/>
            <a:chExt cx="4105440" cy="1117440"/>
          </a:xfrm>
        </p:grpSpPr>
        <p:sp>
          <p:nvSpPr>
            <p:cNvPr id="707" name="椭圆 30"/>
            <p:cNvSpPr/>
            <p:nvPr/>
          </p:nvSpPr>
          <p:spPr>
            <a:xfrm>
              <a:off x="2987640" y="2630520"/>
              <a:ext cx="1117440" cy="1117440"/>
            </a:xfrm>
            <a:prstGeom prst="ellipse">
              <a:avLst/>
            </a:prstGeom>
            <a:solidFill>
              <a:srgbClr val="e46c0a"/>
            </a:solidFill>
            <a:ln w="6480">
              <a:solidFill>
                <a:srgbClr val="ffffff"/>
              </a:solidFill>
              <a:miter/>
            </a:ln>
            <a:effectLst>
              <a:outerShdw dist="153753" dir="2700000" blurRad="0" rotWithShape="0">
                <a:srgbClr val="000000">
                  <a:alpha val="2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圆角矩形 31"/>
            <p:cNvSpPr/>
            <p:nvPr/>
          </p:nvSpPr>
          <p:spPr>
            <a:xfrm>
              <a:off x="3666240" y="2909880"/>
              <a:ext cx="3426840" cy="5587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3240">
              <a:solidFill>
                <a:srgbClr val="ffffff"/>
              </a:solidFill>
              <a:miter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椭圆 32"/>
            <p:cNvSpPr/>
            <p:nvPr/>
          </p:nvSpPr>
          <p:spPr>
            <a:xfrm>
              <a:off x="3067200" y="2710080"/>
              <a:ext cx="957960" cy="95796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ffffff"/>
              </a:solidFill>
              <a:miter/>
            </a:ln>
            <a:effectLst>
              <a:outerShdw dist="38160" dir="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0" name="组合 41"/>
          <p:cNvGrpSpPr/>
          <p:nvPr/>
        </p:nvGrpSpPr>
        <p:grpSpPr>
          <a:xfrm>
            <a:off x="3348000" y="3827520"/>
            <a:ext cx="4103640" cy="1117440"/>
            <a:chOff x="3348000" y="3827520"/>
            <a:chExt cx="4103640" cy="1117440"/>
          </a:xfrm>
        </p:grpSpPr>
        <p:sp>
          <p:nvSpPr>
            <p:cNvPr id="711" name="椭圆 34"/>
            <p:cNvSpPr/>
            <p:nvPr/>
          </p:nvSpPr>
          <p:spPr>
            <a:xfrm>
              <a:off x="3348000" y="3827520"/>
              <a:ext cx="1117080" cy="1117440"/>
            </a:xfrm>
            <a:prstGeom prst="ellipse">
              <a:avLst/>
            </a:prstGeom>
            <a:solidFill>
              <a:srgbClr val="e46c0a"/>
            </a:solidFill>
            <a:ln w="6480">
              <a:solidFill>
                <a:srgbClr val="ffffff"/>
              </a:solidFill>
              <a:miter/>
            </a:ln>
            <a:effectLst>
              <a:outerShdw dist="153753" dir="2700000" blurRad="0" rotWithShape="0">
                <a:srgbClr val="000000">
                  <a:alpha val="2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圆角矩形 35"/>
            <p:cNvSpPr/>
            <p:nvPr/>
          </p:nvSpPr>
          <p:spPr>
            <a:xfrm>
              <a:off x="4026240" y="4106880"/>
              <a:ext cx="3425400" cy="5587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3240">
              <a:solidFill>
                <a:srgbClr val="ffffff"/>
              </a:solidFill>
              <a:miter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椭圆 36"/>
            <p:cNvSpPr/>
            <p:nvPr/>
          </p:nvSpPr>
          <p:spPr>
            <a:xfrm>
              <a:off x="3427560" y="3907080"/>
              <a:ext cx="957600" cy="95796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ffffff"/>
              </a:solidFill>
              <a:miter/>
            </a:ln>
            <a:effectLst>
              <a:outerShdw dist="38160" dir="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4" name="TextBox 37"/>
          <p:cNvSpPr/>
          <p:nvPr/>
        </p:nvSpPr>
        <p:spPr>
          <a:xfrm>
            <a:off x="3375360" y="569880"/>
            <a:ext cx="262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alibri"/>
              </a:rPr>
              <a:t>Click here to 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TextBox 42"/>
          <p:cNvSpPr/>
          <p:nvPr/>
        </p:nvSpPr>
        <p:spPr>
          <a:xfrm>
            <a:off x="3732480" y="1766880"/>
            <a:ext cx="262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alibri"/>
              </a:rPr>
              <a:t>Click here to 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TextBox 43"/>
          <p:cNvSpPr/>
          <p:nvPr/>
        </p:nvSpPr>
        <p:spPr>
          <a:xfrm>
            <a:off x="4115160" y="3005280"/>
            <a:ext cx="262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alibri"/>
              </a:rPr>
              <a:t>Click here to 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TextBox 44"/>
          <p:cNvSpPr/>
          <p:nvPr/>
        </p:nvSpPr>
        <p:spPr>
          <a:xfrm>
            <a:off x="4475520" y="4202280"/>
            <a:ext cx="262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alibri"/>
              </a:rPr>
              <a:t>Click here to 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TextBox 45"/>
          <p:cNvSpPr/>
          <p:nvPr/>
        </p:nvSpPr>
        <p:spPr>
          <a:xfrm>
            <a:off x="2533680" y="492120"/>
            <a:ext cx="5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Arial Unicode MS"/>
                <a:ea typeface="Arial Unicode MS"/>
              </a:rPr>
              <a:t>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TextBox 46"/>
          <p:cNvSpPr/>
          <p:nvPr/>
        </p:nvSpPr>
        <p:spPr>
          <a:xfrm>
            <a:off x="2894040" y="1689120"/>
            <a:ext cx="5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Arial Unicode MS"/>
                <a:ea typeface="Arial Unicode MS"/>
              </a:rPr>
              <a:t>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TextBox 47"/>
          <p:cNvSpPr/>
          <p:nvPr/>
        </p:nvSpPr>
        <p:spPr>
          <a:xfrm>
            <a:off x="3253680" y="2927520"/>
            <a:ext cx="5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Arial Unicode MS"/>
                <a:ea typeface="Arial Unicode MS"/>
              </a:rPr>
              <a:t>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TextBox 48"/>
          <p:cNvSpPr/>
          <p:nvPr/>
        </p:nvSpPr>
        <p:spPr>
          <a:xfrm>
            <a:off x="3613320" y="4124160"/>
            <a:ext cx="5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Arial Unicode MS"/>
                <a:ea typeface="Arial Unicode MS"/>
              </a:rPr>
              <a:t>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椭圆 3"/>
          <p:cNvSpPr/>
          <p:nvPr/>
        </p:nvSpPr>
        <p:spPr>
          <a:xfrm>
            <a:off x="195120" y="2590920"/>
            <a:ext cx="179640" cy="18072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椭圆 4"/>
          <p:cNvSpPr/>
          <p:nvPr/>
        </p:nvSpPr>
        <p:spPr>
          <a:xfrm>
            <a:off x="611280" y="1932120"/>
            <a:ext cx="360360" cy="360360"/>
          </a:xfrm>
          <a:prstGeom prst="ellipse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椭圆 5"/>
          <p:cNvSpPr/>
          <p:nvPr/>
        </p:nvSpPr>
        <p:spPr>
          <a:xfrm>
            <a:off x="1116000" y="2886120"/>
            <a:ext cx="647640" cy="647640"/>
          </a:xfrm>
          <a:prstGeom prst="ellipse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椭圆 6"/>
          <p:cNvSpPr/>
          <p:nvPr/>
        </p:nvSpPr>
        <p:spPr>
          <a:xfrm>
            <a:off x="1601640" y="2147760"/>
            <a:ext cx="324000" cy="324000"/>
          </a:xfrm>
          <a:prstGeom prst="ellipse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椭圆 7"/>
          <p:cNvSpPr/>
          <p:nvPr/>
        </p:nvSpPr>
        <p:spPr>
          <a:xfrm>
            <a:off x="2087640" y="2278080"/>
            <a:ext cx="431640" cy="431640"/>
          </a:xfrm>
          <a:prstGeom prst="ellipse">
            <a:avLst/>
          </a:prstGeom>
          <a:solidFill>
            <a:srgbClr val="e46c0a">
              <a:alpha val="7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椭圆 8"/>
          <p:cNvSpPr/>
          <p:nvPr/>
        </p:nvSpPr>
        <p:spPr>
          <a:xfrm>
            <a:off x="1720800" y="1527120"/>
            <a:ext cx="324000" cy="324000"/>
          </a:xfrm>
          <a:prstGeom prst="ellipse">
            <a:avLst/>
          </a:prstGeom>
          <a:solidFill>
            <a:srgbClr val="ffc000">
              <a:alpha val="7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椭圆 9"/>
          <p:cNvSpPr/>
          <p:nvPr/>
        </p:nvSpPr>
        <p:spPr>
          <a:xfrm>
            <a:off x="2351160" y="3260880"/>
            <a:ext cx="546120" cy="54612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椭圆 10"/>
          <p:cNvSpPr/>
          <p:nvPr/>
        </p:nvSpPr>
        <p:spPr>
          <a:xfrm>
            <a:off x="2760840" y="3778200"/>
            <a:ext cx="323640" cy="324000"/>
          </a:xfrm>
          <a:prstGeom prst="ellipse">
            <a:avLst/>
          </a:prstGeom>
          <a:solidFill>
            <a:srgbClr val="e46c0a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椭圆 11"/>
          <p:cNvSpPr/>
          <p:nvPr/>
        </p:nvSpPr>
        <p:spPr>
          <a:xfrm>
            <a:off x="3154320" y="3209760"/>
            <a:ext cx="128520" cy="12708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椭圆 12"/>
          <p:cNvSpPr/>
          <p:nvPr/>
        </p:nvSpPr>
        <p:spPr>
          <a:xfrm>
            <a:off x="3317760" y="2827440"/>
            <a:ext cx="181080" cy="17928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椭圆 13"/>
          <p:cNvSpPr/>
          <p:nvPr/>
        </p:nvSpPr>
        <p:spPr>
          <a:xfrm>
            <a:off x="2597040" y="1293840"/>
            <a:ext cx="1116000" cy="1114560"/>
          </a:xfrm>
          <a:prstGeom prst="ellipse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椭圆 15"/>
          <p:cNvSpPr/>
          <p:nvPr/>
        </p:nvSpPr>
        <p:spPr>
          <a:xfrm>
            <a:off x="2622600" y="1057320"/>
            <a:ext cx="163440" cy="162000"/>
          </a:xfrm>
          <a:prstGeom prst="ellipse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椭圆 17"/>
          <p:cNvSpPr/>
          <p:nvPr/>
        </p:nvSpPr>
        <p:spPr>
          <a:xfrm>
            <a:off x="3513240" y="1138320"/>
            <a:ext cx="126720" cy="12708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椭圆 18"/>
          <p:cNvSpPr/>
          <p:nvPr/>
        </p:nvSpPr>
        <p:spPr>
          <a:xfrm>
            <a:off x="3857760" y="1824120"/>
            <a:ext cx="323640" cy="32364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椭圆 19"/>
          <p:cNvSpPr/>
          <p:nvPr/>
        </p:nvSpPr>
        <p:spPr>
          <a:xfrm>
            <a:off x="4030560" y="2278080"/>
            <a:ext cx="546120" cy="546120"/>
          </a:xfrm>
          <a:prstGeom prst="ellipse">
            <a:avLst/>
          </a:prstGeom>
          <a:solidFill>
            <a:srgbClr val="ffc00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椭圆 20"/>
          <p:cNvSpPr/>
          <p:nvPr/>
        </p:nvSpPr>
        <p:spPr>
          <a:xfrm>
            <a:off x="4414680" y="1689120"/>
            <a:ext cx="324000" cy="324000"/>
          </a:xfrm>
          <a:prstGeom prst="ellipse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椭圆 21"/>
          <p:cNvSpPr/>
          <p:nvPr/>
        </p:nvSpPr>
        <p:spPr>
          <a:xfrm>
            <a:off x="4067280" y="571680"/>
            <a:ext cx="546120" cy="547560"/>
          </a:xfrm>
          <a:prstGeom prst="ellipse">
            <a:avLst/>
          </a:prstGeom>
          <a:solidFill>
            <a:srgbClr val="ffc000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椭圆 22"/>
          <p:cNvSpPr/>
          <p:nvPr/>
        </p:nvSpPr>
        <p:spPr>
          <a:xfrm>
            <a:off x="6348240" y="595440"/>
            <a:ext cx="274680" cy="274680"/>
          </a:xfrm>
          <a:prstGeom prst="ellipse">
            <a:avLst/>
          </a:prstGeom>
          <a:solidFill>
            <a:srgbClr val="e46c0a">
              <a:alpha val="3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椭圆 23"/>
          <p:cNvSpPr/>
          <p:nvPr/>
        </p:nvSpPr>
        <p:spPr>
          <a:xfrm>
            <a:off x="3894120" y="3013200"/>
            <a:ext cx="819000" cy="819000"/>
          </a:xfrm>
          <a:prstGeom prst="ellipse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椭圆 24"/>
          <p:cNvSpPr/>
          <p:nvPr/>
        </p:nvSpPr>
        <p:spPr>
          <a:xfrm>
            <a:off x="4618080" y="3610080"/>
            <a:ext cx="323640" cy="323640"/>
          </a:xfrm>
          <a:prstGeom prst="ellipse">
            <a:avLst/>
          </a:prstGeom>
          <a:solidFill>
            <a:srgbClr val="ffc000">
              <a:alpha val="7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椭圆 25"/>
          <p:cNvSpPr/>
          <p:nvPr/>
        </p:nvSpPr>
        <p:spPr>
          <a:xfrm>
            <a:off x="4976640" y="3743280"/>
            <a:ext cx="128880" cy="12708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椭圆 26"/>
          <p:cNvSpPr/>
          <p:nvPr/>
        </p:nvSpPr>
        <p:spPr>
          <a:xfrm>
            <a:off x="4976640" y="3971880"/>
            <a:ext cx="547920" cy="54756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椭圆 27"/>
          <p:cNvSpPr/>
          <p:nvPr/>
        </p:nvSpPr>
        <p:spPr>
          <a:xfrm>
            <a:off x="5873760" y="4156200"/>
            <a:ext cx="73080" cy="71280"/>
          </a:xfrm>
          <a:prstGeom prst="ellipse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椭圆 28"/>
          <p:cNvSpPr/>
          <p:nvPr/>
        </p:nvSpPr>
        <p:spPr>
          <a:xfrm>
            <a:off x="5635800" y="3610080"/>
            <a:ext cx="274320" cy="276120"/>
          </a:xfrm>
          <a:prstGeom prst="ellipse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椭圆 29"/>
          <p:cNvSpPr/>
          <p:nvPr/>
        </p:nvSpPr>
        <p:spPr>
          <a:xfrm>
            <a:off x="6307200" y="3371760"/>
            <a:ext cx="323640" cy="32400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椭圆 30"/>
          <p:cNvSpPr/>
          <p:nvPr/>
        </p:nvSpPr>
        <p:spPr>
          <a:xfrm>
            <a:off x="5002200" y="868320"/>
            <a:ext cx="1376280" cy="1376280"/>
          </a:xfrm>
          <a:prstGeom prst="ellipse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椭圆 31"/>
          <p:cNvSpPr/>
          <p:nvPr/>
        </p:nvSpPr>
        <p:spPr>
          <a:xfrm>
            <a:off x="6875640" y="652320"/>
            <a:ext cx="82440" cy="81000"/>
          </a:xfrm>
          <a:prstGeom prst="ellipse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椭圆 32"/>
          <p:cNvSpPr/>
          <p:nvPr/>
        </p:nvSpPr>
        <p:spPr>
          <a:xfrm>
            <a:off x="6531120" y="1028880"/>
            <a:ext cx="431640" cy="433080"/>
          </a:xfrm>
          <a:prstGeom prst="ellipse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椭圆 33"/>
          <p:cNvSpPr/>
          <p:nvPr/>
        </p:nvSpPr>
        <p:spPr>
          <a:xfrm>
            <a:off x="6978600" y="1324080"/>
            <a:ext cx="96840" cy="96840"/>
          </a:xfrm>
          <a:prstGeom prst="ellipse">
            <a:avLst/>
          </a:prstGeom>
          <a:solidFill>
            <a:srgbClr val="e46c0a">
              <a:alpha val="3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椭圆 34"/>
          <p:cNvSpPr/>
          <p:nvPr/>
        </p:nvSpPr>
        <p:spPr>
          <a:xfrm>
            <a:off x="3778200" y="3059280"/>
            <a:ext cx="115920" cy="115560"/>
          </a:xfrm>
          <a:prstGeom prst="ellipse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椭圆 35"/>
          <p:cNvSpPr/>
          <p:nvPr/>
        </p:nvSpPr>
        <p:spPr>
          <a:xfrm>
            <a:off x="6759720" y="1809720"/>
            <a:ext cx="128520" cy="128520"/>
          </a:xfrm>
          <a:prstGeom prst="ellipse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42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椭圆 36"/>
          <p:cNvSpPr/>
          <p:nvPr/>
        </p:nvSpPr>
        <p:spPr>
          <a:xfrm>
            <a:off x="7118280" y="1892160"/>
            <a:ext cx="71640" cy="71640"/>
          </a:xfrm>
          <a:prstGeom prst="ellipse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椭圆 37"/>
          <p:cNvSpPr/>
          <p:nvPr/>
        </p:nvSpPr>
        <p:spPr>
          <a:xfrm>
            <a:off x="7174080" y="2421000"/>
            <a:ext cx="233280" cy="233280"/>
          </a:xfrm>
          <a:prstGeom prst="ellipse">
            <a:avLst/>
          </a:prstGeom>
          <a:solidFill>
            <a:srgbClr val="e46c0a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椭圆 38"/>
          <p:cNvSpPr/>
          <p:nvPr/>
        </p:nvSpPr>
        <p:spPr>
          <a:xfrm>
            <a:off x="6756480" y="3224160"/>
            <a:ext cx="819000" cy="819360"/>
          </a:xfrm>
          <a:prstGeom prst="ellipse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椭圆 39"/>
          <p:cNvSpPr/>
          <p:nvPr/>
        </p:nvSpPr>
        <p:spPr>
          <a:xfrm>
            <a:off x="7794720" y="2851200"/>
            <a:ext cx="323640" cy="323640"/>
          </a:xfrm>
          <a:prstGeom prst="ellipse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椭圆 41"/>
          <p:cNvSpPr/>
          <p:nvPr/>
        </p:nvSpPr>
        <p:spPr>
          <a:xfrm>
            <a:off x="7539120" y="1981080"/>
            <a:ext cx="183960" cy="18252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椭圆 42"/>
          <p:cNvSpPr/>
          <p:nvPr/>
        </p:nvSpPr>
        <p:spPr>
          <a:xfrm>
            <a:off x="7004160" y="654120"/>
            <a:ext cx="376200" cy="376200"/>
          </a:xfrm>
          <a:prstGeom prst="ellipse">
            <a:avLst/>
          </a:prstGeom>
          <a:solidFill>
            <a:srgbClr val="e46c0a">
              <a:alpha val="5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椭圆 43"/>
          <p:cNvSpPr/>
          <p:nvPr/>
        </p:nvSpPr>
        <p:spPr>
          <a:xfrm>
            <a:off x="7251840" y="1028880"/>
            <a:ext cx="323640" cy="325080"/>
          </a:xfrm>
          <a:prstGeom prst="ellipse">
            <a:avLst/>
          </a:prstGeom>
          <a:solidFill>
            <a:srgbClr val="ffc000">
              <a:alpha val="4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椭圆 44"/>
          <p:cNvSpPr/>
          <p:nvPr/>
        </p:nvSpPr>
        <p:spPr>
          <a:xfrm>
            <a:off x="7504200" y="960480"/>
            <a:ext cx="438120" cy="438120"/>
          </a:xfrm>
          <a:prstGeom prst="ellipse">
            <a:avLst/>
          </a:prstGeom>
          <a:solidFill>
            <a:srgbClr val="ffc000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椭圆 45"/>
          <p:cNvSpPr/>
          <p:nvPr/>
        </p:nvSpPr>
        <p:spPr>
          <a:xfrm>
            <a:off x="8118360" y="922320"/>
            <a:ext cx="322200" cy="32400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椭圆 46"/>
          <p:cNvSpPr/>
          <p:nvPr/>
        </p:nvSpPr>
        <p:spPr>
          <a:xfrm>
            <a:off x="8604360" y="1363680"/>
            <a:ext cx="158760" cy="158760"/>
          </a:xfrm>
          <a:prstGeom prst="ellipse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椭圆 49"/>
          <p:cNvSpPr/>
          <p:nvPr/>
        </p:nvSpPr>
        <p:spPr>
          <a:xfrm>
            <a:off x="8099280" y="1616040"/>
            <a:ext cx="252720" cy="25236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直接连接符 51"/>
          <p:cNvSpPr/>
          <p:nvPr/>
        </p:nvSpPr>
        <p:spPr>
          <a:xfrm flipV="1">
            <a:off x="347760" y="2239920"/>
            <a:ext cx="315720" cy="378000"/>
          </a:xfrm>
          <a:prstGeom prst="line">
            <a:avLst/>
          </a:prstGeom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直接连接符 52"/>
          <p:cNvSpPr/>
          <p:nvPr/>
        </p:nvSpPr>
        <p:spPr>
          <a:xfrm flipH="1" flipV="1">
            <a:off x="971640" y="2112480"/>
            <a:ext cx="630000" cy="196920"/>
          </a:xfrm>
          <a:prstGeom prst="line">
            <a:avLst/>
          </a:prstGeom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直接连接符 55"/>
          <p:cNvSpPr/>
          <p:nvPr/>
        </p:nvSpPr>
        <p:spPr>
          <a:xfrm flipH="1" flipV="1">
            <a:off x="919080" y="2239560"/>
            <a:ext cx="292320" cy="739800"/>
          </a:xfrm>
          <a:prstGeom prst="line">
            <a:avLst/>
          </a:prstGeom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直接连接符 58"/>
          <p:cNvSpPr/>
          <p:nvPr/>
        </p:nvSpPr>
        <p:spPr>
          <a:xfrm flipV="1">
            <a:off x="1440000" y="2423880"/>
            <a:ext cx="209520" cy="461880"/>
          </a:xfrm>
          <a:prstGeom prst="line">
            <a:avLst/>
          </a:prstGeom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直接连接符 61"/>
          <p:cNvSpPr/>
          <p:nvPr/>
        </p:nvSpPr>
        <p:spPr>
          <a:xfrm flipV="1">
            <a:off x="1668600" y="2646360"/>
            <a:ext cx="482400" cy="333360"/>
          </a:xfrm>
          <a:prstGeom prst="line">
            <a:avLst/>
          </a:prstGeom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直接连接符 65"/>
          <p:cNvSpPr/>
          <p:nvPr/>
        </p:nvSpPr>
        <p:spPr>
          <a:xfrm flipV="1">
            <a:off x="1763640" y="2408400"/>
            <a:ext cx="1390680" cy="801360"/>
          </a:xfrm>
          <a:prstGeom prst="line">
            <a:avLst/>
          </a:prstGeom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直接连接符 68"/>
          <p:cNvSpPr/>
          <p:nvPr/>
        </p:nvSpPr>
        <p:spPr>
          <a:xfrm flipH="1" flipV="1">
            <a:off x="2303640" y="2709360"/>
            <a:ext cx="126720" cy="630360"/>
          </a:xfrm>
          <a:prstGeom prst="line">
            <a:avLst/>
          </a:prstGeom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直接连接符 72"/>
          <p:cNvSpPr/>
          <p:nvPr/>
        </p:nvSpPr>
        <p:spPr>
          <a:xfrm flipH="1" flipV="1">
            <a:off x="2303640" y="2709360"/>
            <a:ext cx="320400" cy="551160"/>
          </a:xfrm>
          <a:prstGeom prst="line">
            <a:avLst/>
          </a:prstGeom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直接连接符 75"/>
          <p:cNvSpPr/>
          <p:nvPr/>
        </p:nvSpPr>
        <p:spPr>
          <a:xfrm flipH="1">
            <a:off x="2817360" y="3273480"/>
            <a:ext cx="336600" cy="66600"/>
          </a:xfrm>
          <a:prstGeom prst="line">
            <a:avLst/>
          </a:prstGeom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直接连接符 80"/>
          <p:cNvSpPr/>
          <p:nvPr/>
        </p:nvSpPr>
        <p:spPr>
          <a:xfrm flipH="1" flipV="1">
            <a:off x="3471480" y="2979720"/>
            <a:ext cx="306360" cy="138240"/>
          </a:xfrm>
          <a:prstGeom prst="line">
            <a:avLst/>
          </a:prstGeom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直接连接符 83"/>
          <p:cNvSpPr/>
          <p:nvPr/>
        </p:nvSpPr>
        <p:spPr>
          <a:xfrm flipH="1">
            <a:off x="3471840" y="2550960"/>
            <a:ext cx="558720" cy="301680"/>
          </a:xfrm>
          <a:prstGeom prst="line">
            <a:avLst/>
          </a:prstGeom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直接连接符 86"/>
          <p:cNvSpPr/>
          <p:nvPr/>
        </p:nvSpPr>
        <p:spPr>
          <a:xfrm flipH="1" flipV="1">
            <a:off x="4019400" y="2147760"/>
            <a:ext cx="90720" cy="209520"/>
          </a:xfrm>
          <a:prstGeom prst="line">
            <a:avLst/>
          </a:prstGeom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直接连接符 91"/>
          <p:cNvSpPr/>
          <p:nvPr/>
        </p:nvSpPr>
        <p:spPr>
          <a:xfrm flipV="1">
            <a:off x="4019400" y="1119240"/>
            <a:ext cx="320760" cy="704880"/>
          </a:xfrm>
          <a:prstGeom prst="line">
            <a:avLst/>
          </a:prstGeom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直接连接符 96"/>
          <p:cNvSpPr/>
          <p:nvPr/>
        </p:nvSpPr>
        <p:spPr>
          <a:xfrm flipV="1">
            <a:off x="4497480" y="2013120"/>
            <a:ext cx="79200" cy="344160"/>
          </a:xfrm>
          <a:prstGeom prst="line">
            <a:avLst/>
          </a:prstGeom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椭圆 99"/>
          <p:cNvSpPr/>
          <p:nvPr/>
        </p:nvSpPr>
        <p:spPr>
          <a:xfrm>
            <a:off x="4815000" y="2827440"/>
            <a:ext cx="126720" cy="12672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直接连接符 100"/>
          <p:cNvSpPr/>
          <p:nvPr/>
        </p:nvSpPr>
        <p:spPr>
          <a:xfrm flipH="1" flipV="1">
            <a:off x="4576680" y="2013120"/>
            <a:ext cx="301680" cy="814320"/>
          </a:xfrm>
          <a:prstGeom prst="line">
            <a:avLst/>
          </a:prstGeom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直接连接符 103"/>
          <p:cNvSpPr/>
          <p:nvPr/>
        </p:nvSpPr>
        <p:spPr>
          <a:xfrm flipH="1">
            <a:off x="4712760" y="2244600"/>
            <a:ext cx="978120" cy="1177920"/>
          </a:xfrm>
          <a:prstGeom prst="line">
            <a:avLst/>
          </a:prstGeom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椭圆 110"/>
          <p:cNvSpPr/>
          <p:nvPr/>
        </p:nvSpPr>
        <p:spPr>
          <a:xfrm>
            <a:off x="5219640" y="2770200"/>
            <a:ext cx="453960" cy="453960"/>
          </a:xfrm>
          <a:prstGeom prst="ellipse">
            <a:avLst/>
          </a:prstGeom>
          <a:solidFill>
            <a:srgbClr val="ffc000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直接连接符 111"/>
          <p:cNvSpPr/>
          <p:nvPr/>
        </p:nvSpPr>
        <p:spPr>
          <a:xfrm flipH="1" flipV="1">
            <a:off x="4780080" y="3933360"/>
            <a:ext cx="196560" cy="312840"/>
          </a:xfrm>
          <a:prstGeom prst="line">
            <a:avLst/>
          </a:prstGeom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直接连接符 114"/>
          <p:cNvSpPr/>
          <p:nvPr/>
        </p:nvSpPr>
        <p:spPr>
          <a:xfrm flipH="1" flipV="1">
            <a:off x="5041800" y="3870000"/>
            <a:ext cx="15840" cy="182520"/>
          </a:xfrm>
          <a:prstGeom prst="line">
            <a:avLst/>
          </a:prstGeom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直接连接符 118"/>
          <p:cNvSpPr/>
          <p:nvPr/>
        </p:nvSpPr>
        <p:spPr>
          <a:xfrm flipV="1">
            <a:off x="5251320" y="2858760"/>
            <a:ext cx="690840" cy="1112760"/>
          </a:xfrm>
          <a:prstGeom prst="line">
            <a:avLst/>
          </a:prstGeom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椭圆 121"/>
          <p:cNvSpPr/>
          <p:nvPr/>
        </p:nvSpPr>
        <p:spPr>
          <a:xfrm>
            <a:off x="5910120" y="2793960"/>
            <a:ext cx="63720" cy="6516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直接连接符 123"/>
          <p:cNvSpPr/>
          <p:nvPr/>
        </p:nvSpPr>
        <p:spPr>
          <a:xfrm flipV="1">
            <a:off x="5772240" y="2859120"/>
            <a:ext cx="169920" cy="750960"/>
          </a:xfrm>
          <a:prstGeom prst="line">
            <a:avLst/>
          </a:prstGeom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直接连接符 126"/>
          <p:cNvSpPr/>
          <p:nvPr/>
        </p:nvSpPr>
        <p:spPr>
          <a:xfrm flipH="1">
            <a:off x="5909760" y="3533760"/>
            <a:ext cx="397080" cy="214200"/>
          </a:xfrm>
          <a:prstGeom prst="line">
            <a:avLst/>
          </a:prstGeom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椭圆 129"/>
          <p:cNvSpPr/>
          <p:nvPr/>
        </p:nvSpPr>
        <p:spPr>
          <a:xfrm>
            <a:off x="6326280" y="2576520"/>
            <a:ext cx="252360" cy="252360"/>
          </a:xfrm>
          <a:prstGeom prst="ellipse">
            <a:avLst/>
          </a:prstGeom>
          <a:solidFill>
            <a:srgbClr val="ffc000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直接连接符 130"/>
          <p:cNvSpPr/>
          <p:nvPr/>
        </p:nvSpPr>
        <p:spPr>
          <a:xfrm flipH="1" flipV="1">
            <a:off x="6176520" y="2042640"/>
            <a:ext cx="988920" cy="1181160"/>
          </a:xfrm>
          <a:prstGeom prst="line">
            <a:avLst/>
          </a:prstGeom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直接连接符 134"/>
          <p:cNvSpPr/>
          <p:nvPr/>
        </p:nvSpPr>
        <p:spPr>
          <a:xfrm flipH="1">
            <a:off x="7454880" y="3127320"/>
            <a:ext cx="387360" cy="217440"/>
          </a:xfrm>
          <a:prstGeom prst="line">
            <a:avLst/>
          </a:prstGeom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椭圆 137"/>
          <p:cNvSpPr/>
          <p:nvPr/>
        </p:nvSpPr>
        <p:spPr>
          <a:xfrm>
            <a:off x="6407280" y="1444680"/>
            <a:ext cx="182520" cy="183960"/>
          </a:xfrm>
          <a:prstGeom prst="ellipse">
            <a:avLst/>
          </a:prstGeom>
          <a:solidFill>
            <a:srgbClr val="ffc000">
              <a:alpha val="4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椭圆 138"/>
          <p:cNvSpPr/>
          <p:nvPr/>
        </p:nvSpPr>
        <p:spPr>
          <a:xfrm>
            <a:off x="7004160" y="1785960"/>
            <a:ext cx="87120" cy="88920"/>
          </a:xfrm>
          <a:prstGeom prst="ellipse">
            <a:avLst/>
          </a:prstGeom>
          <a:solidFill>
            <a:srgbClr val="e46c0a">
              <a:alpha val="3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椭圆 139"/>
          <p:cNvSpPr/>
          <p:nvPr/>
        </p:nvSpPr>
        <p:spPr>
          <a:xfrm>
            <a:off x="7737480" y="1811160"/>
            <a:ext cx="79200" cy="79560"/>
          </a:xfrm>
          <a:prstGeom prst="ellipse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720" bIns="972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直接连接符 140"/>
          <p:cNvSpPr/>
          <p:nvPr/>
        </p:nvSpPr>
        <p:spPr>
          <a:xfrm flipH="1" flipV="1">
            <a:off x="6899400" y="1398240"/>
            <a:ext cx="266400" cy="1825560"/>
          </a:xfrm>
          <a:prstGeom prst="line">
            <a:avLst/>
          </a:prstGeom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直接连接符 143"/>
          <p:cNvSpPr/>
          <p:nvPr/>
        </p:nvSpPr>
        <p:spPr>
          <a:xfrm flipH="1" flipV="1">
            <a:off x="6746760" y="1461960"/>
            <a:ext cx="77760" cy="347760"/>
          </a:xfrm>
          <a:prstGeom prst="line">
            <a:avLst/>
          </a:prstGeom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直接连接符 146"/>
          <p:cNvSpPr/>
          <p:nvPr/>
        </p:nvSpPr>
        <p:spPr>
          <a:xfrm flipH="1" flipV="1">
            <a:off x="6868800" y="1919160"/>
            <a:ext cx="669960" cy="152640"/>
          </a:xfrm>
          <a:prstGeom prst="line">
            <a:avLst/>
          </a:prstGeom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直接连接符 149"/>
          <p:cNvSpPr/>
          <p:nvPr/>
        </p:nvSpPr>
        <p:spPr>
          <a:xfrm flipV="1">
            <a:off x="7696080" y="1879200"/>
            <a:ext cx="52560" cy="128520"/>
          </a:xfrm>
          <a:prstGeom prst="line">
            <a:avLst/>
          </a:prstGeom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直接连接符 154"/>
          <p:cNvSpPr/>
          <p:nvPr/>
        </p:nvSpPr>
        <p:spPr>
          <a:xfrm flipH="1" flipV="1">
            <a:off x="7723080" y="1398600"/>
            <a:ext cx="54000" cy="412560"/>
          </a:xfrm>
          <a:prstGeom prst="line">
            <a:avLst/>
          </a:prstGeom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直接连接符 157"/>
          <p:cNvSpPr/>
          <p:nvPr/>
        </p:nvSpPr>
        <p:spPr>
          <a:xfrm flipH="1" flipV="1">
            <a:off x="7876800" y="1335240"/>
            <a:ext cx="258840" cy="317520"/>
          </a:xfrm>
          <a:prstGeom prst="line">
            <a:avLst/>
          </a:prstGeom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直接连接符 160"/>
          <p:cNvSpPr/>
          <p:nvPr/>
        </p:nvSpPr>
        <p:spPr>
          <a:xfrm flipH="1">
            <a:off x="8314920" y="1498680"/>
            <a:ext cx="312840" cy="154080"/>
          </a:xfrm>
          <a:prstGeom prst="line">
            <a:avLst/>
          </a:prstGeom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直接连接符 163"/>
          <p:cNvSpPr/>
          <p:nvPr/>
        </p:nvSpPr>
        <p:spPr>
          <a:xfrm flipH="1" flipV="1">
            <a:off x="6486480" y="869760"/>
            <a:ext cx="108000" cy="222120"/>
          </a:xfrm>
          <a:prstGeom prst="line">
            <a:avLst/>
          </a:prstGeom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直接连接符 166"/>
          <p:cNvSpPr/>
          <p:nvPr/>
        </p:nvSpPr>
        <p:spPr>
          <a:xfrm flipH="1">
            <a:off x="6622920" y="692280"/>
            <a:ext cx="252720" cy="41040"/>
          </a:xfrm>
          <a:prstGeom prst="line">
            <a:avLst/>
          </a:prstGeom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直接连接符 169"/>
          <p:cNvSpPr/>
          <p:nvPr/>
        </p:nvSpPr>
        <p:spPr>
          <a:xfrm flipH="1" flipV="1">
            <a:off x="7060680" y="1406160"/>
            <a:ext cx="505080" cy="601560"/>
          </a:xfrm>
          <a:prstGeom prst="line">
            <a:avLst/>
          </a:prstGeom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直接连接符 172"/>
          <p:cNvSpPr/>
          <p:nvPr/>
        </p:nvSpPr>
        <p:spPr>
          <a:xfrm flipH="1" flipV="1">
            <a:off x="6899400" y="1398240"/>
            <a:ext cx="666720" cy="609480"/>
          </a:xfrm>
          <a:prstGeom prst="line">
            <a:avLst/>
          </a:prstGeom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矩形 182"/>
          <p:cNvSpPr/>
          <p:nvPr/>
        </p:nvSpPr>
        <p:spPr>
          <a:xfrm>
            <a:off x="160200" y="450720"/>
            <a:ext cx="2098800" cy="169920"/>
          </a:xfrm>
          <a:prstGeom prst="rect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矩形 183"/>
          <p:cNvSpPr/>
          <p:nvPr/>
        </p:nvSpPr>
        <p:spPr>
          <a:xfrm>
            <a:off x="162000" y="628560"/>
            <a:ext cx="1673280" cy="171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矩形 184"/>
          <p:cNvSpPr/>
          <p:nvPr/>
        </p:nvSpPr>
        <p:spPr>
          <a:xfrm>
            <a:off x="162000" y="809640"/>
            <a:ext cx="1817640" cy="171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矩形 185"/>
          <p:cNvSpPr/>
          <p:nvPr/>
        </p:nvSpPr>
        <p:spPr>
          <a:xfrm>
            <a:off x="162000" y="990720"/>
            <a:ext cx="744480" cy="171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矩形 186"/>
          <p:cNvSpPr/>
          <p:nvPr/>
        </p:nvSpPr>
        <p:spPr>
          <a:xfrm>
            <a:off x="162000" y="1173240"/>
            <a:ext cx="960480" cy="1699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TextBox 187"/>
          <p:cNvSpPr/>
          <p:nvPr/>
        </p:nvSpPr>
        <p:spPr>
          <a:xfrm>
            <a:off x="1123920" y="302436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TextBox 188"/>
          <p:cNvSpPr/>
          <p:nvPr/>
        </p:nvSpPr>
        <p:spPr>
          <a:xfrm>
            <a:off x="2839320" y="164448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TextBox 189"/>
          <p:cNvSpPr/>
          <p:nvPr/>
        </p:nvSpPr>
        <p:spPr>
          <a:xfrm>
            <a:off x="5375160" y="137160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TextBox 190"/>
          <p:cNvSpPr/>
          <p:nvPr/>
        </p:nvSpPr>
        <p:spPr>
          <a:xfrm>
            <a:off x="3987720" y="323064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TextBox 191"/>
          <p:cNvSpPr/>
          <p:nvPr/>
        </p:nvSpPr>
        <p:spPr>
          <a:xfrm>
            <a:off x="6851520" y="343692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TextBox 192"/>
          <p:cNvSpPr/>
          <p:nvPr/>
        </p:nvSpPr>
        <p:spPr>
          <a:xfrm>
            <a:off x="51840" y="84240"/>
            <a:ext cx="171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pany 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椭圆 12"/>
          <p:cNvSpPr/>
          <p:nvPr/>
        </p:nvSpPr>
        <p:spPr>
          <a:xfrm>
            <a:off x="825480" y="2498760"/>
            <a:ext cx="1800360" cy="180036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矩形 3"/>
          <p:cNvSpPr/>
          <p:nvPr/>
        </p:nvSpPr>
        <p:spPr>
          <a:xfrm>
            <a:off x="160200" y="450720"/>
            <a:ext cx="2098800" cy="169920"/>
          </a:xfrm>
          <a:prstGeom prst="rect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矩形 4"/>
          <p:cNvSpPr/>
          <p:nvPr/>
        </p:nvSpPr>
        <p:spPr>
          <a:xfrm>
            <a:off x="162000" y="628560"/>
            <a:ext cx="1673280" cy="171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矩形 5"/>
          <p:cNvSpPr/>
          <p:nvPr/>
        </p:nvSpPr>
        <p:spPr>
          <a:xfrm>
            <a:off x="162000" y="809640"/>
            <a:ext cx="1817640" cy="171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6"/>
          <p:cNvSpPr/>
          <p:nvPr/>
        </p:nvSpPr>
        <p:spPr>
          <a:xfrm>
            <a:off x="162000" y="990720"/>
            <a:ext cx="744480" cy="171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矩形 7"/>
          <p:cNvSpPr/>
          <p:nvPr/>
        </p:nvSpPr>
        <p:spPr>
          <a:xfrm>
            <a:off x="162000" y="1173240"/>
            <a:ext cx="960480" cy="1699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TextBox 8"/>
          <p:cNvSpPr/>
          <p:nvPr/>
        </p:nvSpPr>
        <p:spPr>
          <a:xfrm>
            <a:off x="51840" y="84240"/>
            <a:ext cx="171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pany 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椭圆 9"/>
          <p:cNvSpPr/>
          <p:nvPr/>
        </p:nvSpPr>
        <p:spPr>
          <a:xfrm>
            <a:off x="-755640" y="1851120"/>
            <a:ext cx="1224000" cy="1225440"/>
          </a:xfrm>
          <a:prstGeom prst="ellipse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椭圆 10"/>
          <p:cNvSpPr/>
          <p:nvPr/>
        </p:nvSpPr>
        <p:spPr>
          <a:xfrm>
            <a:off x="2771640" y="620640"/>
            <a:ext cx="3229200" cy="322920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椭圆 11"/>
          <p:cNvSpPr/>
          <p:nvPr/>
        </p:nvSpPr>
        <p:spPr>
          <a:xfrm>
            <a:off x="866880" y="2468520"/>
            <a:ext cx="1800000" cy="1800360"/>
          </a:xfrm>
          <a:prstGeom prst="ellipse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椭圆 13"/>
          <p:cNvSpPr/>
          <p:nvPr/>
        </p:nvSpPr>
        <p:spPr>
          <a:xfrm>
            <a:off x="1014480" y="1658880"/>
            <a:ext cx="461880" cy="46188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椭圆 14"/>
          <p:cNvSpPr/>
          <p:nvPr/>
        </p:nvSpPr>
        <p:spPr>
          <a:xfrm>
            <a:off x="1716120" y="1343160"/>
            <a:ext cx="735120" cy="734760"/>
          </a:xfrm>
          <a:prstGeom prst="ellipse">
            <a:avLst/>
          </a:prstGeom>
          <a:solidFill>
            <a:srgbClr val="ffc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椭圆 15"/>
          <p:cNvSpPr/>
          <p:nvPr/>
        </p:nvSpPr>
        <p:spPr>
          <a:xfrm>
            <a:off x="5364000" y="484200"/>
            <a:ext cx="735120" cy="733320"/>
          </a:xfrm>
          <a:prstGeom prst="ellipse">
            <a:avLst/>
          </a:prstGeom>
          <a:solidFill>
            <a:srgbClr val="ffc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椭圆 16"/>
          <p:cNvSpPr/>
          <p:nvPr/>
        </p:nvSpPr>
        <p:spPr>
          <a:xfrm>
            <a:off x="8204040" y="3767040"/>
            <a:ext cx="368640" cy="366840"/>
          </a:xfrm>
          <a:prstGeom prst="ellipse">
            <a:avLst/>
          </a:prstGeom>
          <a:solidFill>
            <a:srgbClr val="ffc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椭圆 17"/>
          <p:cNvSpPr/>
          <p:nvPr/>
        </p:nvSpPr>
        <p:spPr>
          <a:xfrm>
            <a:off x="7259760" y="2521080"/>
            <a:ext cx="998280" cy="100008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椭圆 19"/>
          <p:cNvSpPr/>
          <p:nvPr/>
        </p:nvSpPr>
        <p:spPr>
          <a:xfrm>
            <a:off x="6227640" y="2521080"/>
            <a:ext cx="250920" cy="250560"/>
          </a:xfrm>
          <a:prstGeom prst="ellipse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椭圆 20"/>
          <p:cNvSpPr/>
          <p:nvPr/>
        </p:nvSpPr>
        <p:spPr>
          <a:xfrm>
            <a:off x="6353280" y="1192320"/>
            <a:ext cx="522360" cy="522360"/>
          </a:xfrm>
          <a:prstGeom prst="ellipse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椭圆 21"/>
          <p:cNvSpPr/>
          <p:nvPr/>
        </p:nvSpPr>
        <p:spPr>
          <a:xfrm>
            <a:off x="8604360" y="372960"/>
            <a:ext cx="1079280" cy="1079640"/>
          </a:xfrm>
          <a:prstGeom prst="ellipse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椭圆 22"/>
          <p:cNvSpPr/>
          <p:nvPr/>
        </p:nvSpPr>
        <p:spPr>
          <a:xfrm>
            <a:off x="3059280" y="3790800"/>
            <a:ext cx="250560" cy="249480"/>
          </a:xfrm>
          <a:prstGeom prst="ellipse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椭圆 23"/>
          <p:cNvSpPr/>
          <p:nvPr/>
        </p:nvSpPr>
        <p:spPr>
          <a:xfrm>
            <a:off x="5527800" y="3522600"/>
            <a:ext cx="123840" cy="12564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椭圆 24"/>
          <p:cNvSpPr/>
          <p:nvPr/>
        </p:nvSpPr>
        <p:spPr>
          <a:xfrm>
            <a:off x="2736720" y="628560"/>
            <a:ext cx="3278160" cy="3278160"/>
          </a:xfrm>
          <a:prstGeom prst="ellipse">
            <a:avLst/>
          </a:prstGeom>
          <a:noFill/>
          <a:ln w="324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椭圆 25"/>
          <p:cNvSpPr/>
          <p:nvPr/>
        </p:nvSpPr>
        <p:spPr>
          <a:xfrm>
            <a:off x="2627280" y="588960"/>
            <a:ext cx="3463920" cy="3463920"/>
          </a:xfrm>
          <a:prstGeom prst="ellipse">
            <a:avLst/>
          </a:prstGeom>
          <a:noFill/>
          <a:ln w="324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椭圆 26"/>
          <p:cNvSpPr/>
          <p:nvPr/>
        </p:nvSpPr>
        <p:spPr>
          <a:xfrm>
            <a:off x="2658960" y="588960"/>
            <a:ext cx="3400560" cy="3400560"/>
          </a:xfrm>
          <a:prstGeom prst="ellipse">
            <a:avLst/>
          </a:prstGeom>
          <a:noFill/>
          <a:ln w="324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椭圆 27"/>
          <p:cNvSpPr/>
          <p:nvPr/>
        </p:nvSpPr>
        <p:spPr>
          <a:xfrm>
            <a:off x="2597040" y="2058840"/>
            <a:ext cx="123840" cy="12384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椭圆 28"/>
          <p:cNvSpPr/>
          <p:nvPr/>
        </p:nvSpPr>
        <p:spPr>
          <a:xfrm>
            <a:off x="6813720" y="2055960"/>
            <a:ext cx="125280" cy="12384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椭圆 29"/>
          <p:cNvSpPr/>
          <p:nvPr/>
        </p:nvSpPr>
        <p:spPr>
          <a:xfrm>
            <a:off x="6332400" y="1170000"/>
            <a:ext cx="555840" cy="557280"/>
          </a:xfrm>
          <a:prstGeom prst="ellipse">
            <a:avLst/>
          </a:prstGeom>
          <a:noFill/>
          <a:ln w="324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TextBox 31"/>
          <p:cNvSpPr/>
          <p:nvPr/>
        </p:nvSpPr>
        <p:spPr>
          <a:xfrm>
            <a:off x="3208320" y="1327320"/>
            <a:ext cx="23367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here to ad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your text or Cop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Your text and pas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TextBox 32"/>
          <p:cNvSpPr/>
          <p:nvPr/>
        </p:nvSpPr>
        <p:spPr>
          <a:xfrm>
            <a:off x="1093680" y="3005280"/>
            <a:ext cx="1357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Click 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add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矩形 14"/>
          <p:cNvSpPr/>
          <p:nvPr/>
        </p:nvSpPr>
        <p:spPr>
          <a:xfrm>
            <a:off x="6994440" y="1711440"/>
            <a:ext cx="1608120" cy="1191960"/>
          </a:xfrm>
          <a:prstGeom prst="rect">
            <a:avLst/>
          </a:prstGeom>
          <a:solidFill>
            <a:srgbClr val="ffffff"/>
          </a:solidFill>
          <a:ln w="3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矩形 13"/>
          <p:cNvSpPr/>
          <p:nvPr/>
        </p:nvSpPr>
        <p:spPr>
          <a:xfrm>
            <a:off x="6054840" y="1525680"/>
            <a:ext cx="2219040" cy="1644480"/>
          </a:xfrm>
          <a:prstGeom prst="rect">
            <a:avLst/>
          </a:prstGeom>
          <a:solidFill>
            <a:srgbClr val="ffffff"/>
          </a:solidFill>
          <a:ln w="3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矩形 12"/>
          <p:cNvSpPr/>
          <p:nvPr/>
        </p:nvSpPr>
        <p:spPr>
          <a:xfrm>
            <a:off x="5580000" y="1260360"/>
            <a:ext cx="2219400" cy="2175120"/>
          </a:xfrm>
          <a:prstGeom prst="rect">
            <a:avLst/>
          </a:prstGeom>
          <a:solidFill>
            <a:srgbClr val="ffffff"/>
          </a:solidFill>
          <a:ln w="3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矩形 3"/>
          <p:cNvSpPr/>
          <p:nvPr/>
        </p:nvSpPr>
        <p:spPr>
          <a:xfrm>
            <a:off x="160200" y="450720"/>
            <a:ext cx="2098800" cy="169920"/>
          </a:xfrm>
          <a:prstGeom prst="rect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矩形 4"/>
          <p:cNvSpPr/>
          <p:nvPr/>
        </p:nvSpPr>
        <p:spPr>
          <a:xfrm>
            <a:off x="162000" y="628560"/>
            <a:ext cx="1673280" cy="171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矩形 5"/>
          <p:cNvSpPr/>
          <p:nvPr/>
        </p:nvSpPr>
        <p:spPr>
          <a:xfrm>
            <a:off x="162000" y="809640"/>
            <a:ext cx="1817640" cy="171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矩形 6"/>
          <p:cNvSpPr/>
          <p:nvPr/>
        </p:nvSpPr>
        <p:spPr>
          <a:xfrm>
            <a:off x="162000" y="990720"/>
            <a:ext cx="744480" cy="171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矩形 7"/>
          <p:cNvSpPr/>
          <p:nvPr/>
        </p:nvSpPr>
        <p:spPr>
          <a:xfrm>
            <a:off x="162000" y="1173240"/>
            <a:ext cx="960480" cy="1699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TextBox 8"/>
          <p:cNvSpPr/>
          <p:nvPr/>
        </p:nvSpPr>
        <p:spPr>
          <a:xfrm>
            <a:off x="51840" y="84240"/>
            <a:ext cx="171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pany 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TextBox 9"/>
          <p:cNvSpPr/>
          <p:nvPr/>
        </p:nvSpPr>
        <p:spPr>
          <a:xfrm>
            <a:off x="395280" y="1995480"/>
            <a:ext cx="2336760" cy="1797480"/>
          </a:xfrm>
          <a:prstGeom prst="rect">
            <a:avLst/>
          </a:prstGeom>
          <a:noFill/>
          <a:ln w="3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46c0a"/>
                </a:solidFill>
                <a:latin typeface="Calibri"/>
              </a:rPr>
              <a:t>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lick here to ad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your text or Cop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Your textand pas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it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矩形 10"/>
          <p:cNvSpPr/>
          <p:nvPr/>
        </p:nvSpPr>
        <p:spPr>
          <a:xfrm>
            <a:off x="395280" y="3811680"/>
            <a:ext cx="2336760" cy="171360"/>
          </a:xfrm>
          <a:prstGeom prst="rect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矩形 11"/>
          <p:cNvSpPr/>
          <p:nvPr/>
        </p:nvSpPr>
        <p:spPr>
          <a:xfrm>
            <a:off x="2987640" y="1076400"/>
            <a:ext cx="4176720" cy="2735280"/>
          </a:xfrm>
          <a:prstGeom prst="rect">
            <a:avLst/>
          </a:prstGeom>
          <a:solidFill>
            <a:srgbClr val="ffffff"/>
          </a:solidFill>
          <a:ln w="3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I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圆角矩形 41"/>
          <p:cNvSpPr/>
          <p:nvPr/>
        </p:nvSpPr>
        <p:spPr>
          <a:xfrm flipH="1" rot="19869000">
            <a:off x="4398840" y="1590480"/>
            <a:ext cx="774720" cy="436320"/>
          </a:xfrm>
          <a:prstGeom prst="roundRect">
            <a:avLst>
              <a:gd name="adj" fmla="val 22917"/>
            </a:avLst>
          </a:prstGeom>
          <a:gradFill rotWithShape="0">
            <a:gsLst>
              <a:gs pos="0">
                <a:srgbClr val="a6a6a6"/>
              </a:gs>
              <a:gs pos="100000">
                <a:srgbClr val="ffffff"/>
              </a:gs>
            </a:gsLst>
            <a:lin ang="1800000"/>
          </a:gradFill>
          <a:ln w="0">
            <a:noFill/>
          </a:ln>
          <a:effectLst>
            <a:outerShdw dist="76065" dir="3958946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46c0a"/>
                </a:solidFill>
                <a:latin typeface="Arial Unicode MS"/>
                <a:ea typeface="Arial Unicode MS"/>
              </a:rPr>
              <a:t>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圆角矩形 40"/>
          <p:cNvSpPr/>
          <p:nvPr/>
        </p:nvSpPr>
        <p:spPr>
          <a:xfrm rot="16200000">
            <a:off x="2051280" y="3877920"/>
            <a:ext cx="774360" cy="438120"/>
          </a:xfrm>
          <a:prstGeom prst="roundRect">
            <a:avLst>
              <a:gd name="adj" fmla="val 22917"/>
            </a:avLst>
          </a:prstGeom>
          <a:gradFill rotWithShape="0">
            <a:gsLst>
              <a:gs pos="0">
                <a:srgbClr val="a6a6a6"/>
              </a:gs>
              <a:gs pos="100000">
                <a:srgbClr val="ffffff"/>
              </a:gs>
            </a:gsLst>
            <a:lin ang="1800000"/>
          </a:gradFill>
          <a:ln w="0">
            <a:noFill/>
          </a:ln>
          <a:effectLst>
            <a:outerShdw dist="76065" dir="3958946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46c0a"/>
                </a:solidFill>
                <a:latin typeface="Arial Unicode MS"/>
                <a:ea typeface="Arial Unicode MS"/>
              </a:rPr>
              <a:t>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圆角矩形 39"/>
          <p:cNvSpPr/>
          <p:nvPr/>
        </p:nvSpPr>
        <p:spPr>
          <a:xfrm rot="1800000">
            <a:off x="1315800" y="717120"/>
            <a:ext cx="774720" cy="438120"/>
          </a:xfrm>
          <a:prstGeom prst="roundRect">
            <a:avLst>
              <a:gd name="adj" fmla="val 22917"/>
            </a:avLst>
          </a:prstGeom>
          <a:gradFill rotWithShape="0">
            <a:gsLst>
              <a:gs pos="0">
                <a:srgbClr val="a6a6a6"/>
              </a:gs>
              <a:gs pos="100000">
                <a:srgbClr val="ffffff"/>
              </a:gs>
            </a:gsLst>
            <a:lin ang="1800000"/>
          </a:gradFill>
          <a:ln w="0">
            <a:noFill/>
          </a:ln>
          <a:effectLst>
            <a:outerShdw dist="76133" dir="8995144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46c0a"/>
                </a:solidFill>
                <a:latin typeface="Arial Unicode MS"/>
                <a:ea typeface="Arial Unicode MS"/>
              </a:rPr>
              <a:t>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9" name="组合 30" descr=""/>
          <p:cNvPicPr/>
          <p:nvPr/>
        </p:nvPicPr>
        <p:blipFill>
          <a:blip r:embed="rId1"/>
          <a:stretch/>
        </p:blipFill>
        <p:spPr>
          <a:xfrm>
            <a:off x="2109960" y="822240"/>
            <a:ext cx="1719000" cy="1030320"/>
          </a:xfrm>
          <a:prstGeom prst="rect">
            <a:avLst/>
          </a:prstGeom>
          <a:ln w="0">
            <a:noFill/>
          </a:ln>
        </p:spPr>
      </p:pic>
      <p:pic>
        <p:nvPicPr>
          <p:cNvPr id="860" name="组合 25" descr=""/>
          <p:cNvPicPr/>
          <p:nvPr/>
        </p:nvPicPr>
        <p:blipFill>
          <a:blip r:embed="rId2"/>
          <a:stretch/>
        </p:blipFill>
        <p:spPr>
          <a:xfrm>
            <a:off x="3206880" y="2255760"/>
            <a:ext cx="1457280" cy="1511280"/>
          </a:xfrm>
          <a:prstGeom prst="rect">
            <a:avLst/>
          </a:prstGeom>
          <a:ln w="0">
            <a:noFill/>
          </a:ln>
        </p:spPr>
      </p:pic>
      <p:grpSp>
        <p:nvGrpSpPr>
          <p:cNvPr id="861" name="组合 24"/>
          <p:cNvGrpSpPr/>
          <p:nvPr/>
        </p:nvGrpSpPr>
        <p:grpSpPr>
          <a:xfrm>
            <a:off x="1277280" y="2184120"/>
            <a:ext cx="1481040" cy="1569600"/>
            <a:chOff x="1277280" y="2184120"/>
            <a:chExt cx="1481040" cy="1569600"/>
          </a:xfrm>
        </p:grpSpPr>
        <p:sp>
          <p:nvSpPr>
            <p:cNvPr id="862" name="梯形 23"/>
            <p:cNvSpPr/>
            <p:nvPr/>
          </p:nvSpPr>
          <p:spPr>
            <a:xfrm rot="3600000">
              <a:off x="2183040" y="2471400"/>
              <a:ext cx="687600" cy="137520"/>
            </a:xfrm>
            <a:custGeom>
              <a:avLst/>
              <a:gdLst>
                <a:gd name="textAreaLeft" fmla="*/ 51840 w 687600"/>
                <a:gd name="textAreaRight" fmla="*/ 635760 w 687600"/>
                <a:gd name="textAreaTop" fmla="*/ 10080 h 137520"/>
                <a:gd name="textAreaBottom" fmla="*/ 137880 h 137520"/>
              </a:gdLst>
              <a:ahLst/>
              <a:rect l="textAreaLeft" t="textAreaTop" r="textAreaRight" b="textAreaBottom"/>
              <a:pathLst>
                <a:path w="549314" h="109881">
                  <a:moveTo>
                    <a:pt x="0" y="109881"/>
                  </a:moveTo>
                  <a:lnTo>
                    <a:pt x="62132" y="0"/>
                  </a:lnTo>
                  <a:lnTo>
                    <a:pt x="487182" y="0"/>
                  </a:lnTo>
                  <a:lnTo>
                    <a:pt x="549314" y="109881"/>
                  </a:lnTo>
                  <a:lnTo>
                    <a:pt x="0" y="109881"/>
                  </a:lnTo>
                  <a:close/>
                </a:path>
              </a:pathLst>
            </a:custGeom>
            <a:solidFill>
              <a:srgbClr val="e46c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梯形 21"/>
            <p:cNvSpPr/>
            <p:nvPr/>
          </p:nvSpPr>
          <p:spPr>
            <a:xfrm rot="3600000">
              <a:off x="1330920" y="2750040"/>
              <a:ext cx="1394640" cy="150840"/>
            </a:xfrm>
            <a:custGeom>
              <a:avLst/>
              <a:gdLst>
                <a:gd name="textAreaLeft" fmla="*/ 56520 w 1394640"/>
                <a:gd name="textAreaRight" fmla="*/ 1338120 w 1394640"/>
                <a:gd name="textAreaTop" fmla="*/ 612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1114324" h="120468">
                  <a:moveTo>
                    <a:pt x="0" y="120468"/>
                  </a:moveTo>
                  <a:lnTo>
                    <a:pt x="68119" y="0"/>
                  </a:lnTo>
                  <a:lnTo>
                    <a:pt x="1046205" y="0"/>
                  </a:lnTo>
                  <a:lnTo>
                    <a:pt x="1114324" y="120468"/>
                  </a:lnTo>
                  <a:lnTo>
                    <a:pt x="0" y="120468"/>
                  </a:lnTo>
                  <a:close/>
                </a:path>
              </a:pathLst>
            </a:custGeom>
            <a:solidFill>
              <a:srgbClr val="e46c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梯形 22"/>
            <p:cNvSpPr/>
            <p:nvPr/>
          </p:nvSpPr>
          <p:spPr>
            <a:xfrm rot="3600000">
              <a:off x="1782720" y="2616120"/>
              <a:ext cx="981720" cy="137520"/>
            </a:xfrm>
            <a:custGeom>
              <a:avLst/>
              <a:gdLst>
                <a:gd name="textAreaLeft" fmla="*/ 51840 w 981720"/>
                <a:gd name="textAreaRight" fmla="*/ 929880 w 981720"/>
                <a:gd name="textAreaTop" fmla="*/ 7200 h 137520"/>
                <a:gd name="textAreaBottom" fmla="*/ 137880 h 137520"/>
              </a:gdLst>
              <a:ahLst/>
              <a:rect l="textAreaLeft" t="textAreaTop" r="textAreaRight" b="textAreaBottom"/>
              <a:pathLst>
                <a:path w="784526" h="109881">
                  <a:moveTo>
                    <a:pt x="0" y="109881"/>
                  </a:moveTo>
                  <a:lnTo>
                    <a:pt x="62132" y="0"/>
                  </a:lnTo>
                  <a:lnTo>
                    <a:pt x="722394" y="0"/>
                  </a:lnTo>
                  <a:lnTo>
                    <a:pt x="784526" y="109881"/>
                  </a:lnTo>
                  <a:lnTo>
                    <a:pt x="0" y="109881"/>
                  </a:lnTo>
                  <a:close/>
                </a:path>
              </a:pathLst>
            </a:custGeom>
            <a:solidFill>
              <a:srgbClr val="e46c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梯形 20"/>
            <p:cNvSpPr/>
            <p:nvPr/>
          </p:nvSpPr>
          <p:spPr>
            <a:xfrm rot="3600000">
              <a:off x="918360" y="2897280"/>
              <a:ext cx="1706400" cy="156600"/>
            </a:xfrm>
            <a:custGeom>
              <a:avLst/>
              <a:gdLst>
                <a:gd name="textAreaLeft" fmla="*/ 59040 w 1706400"/>
                <a:gd name="textAreaRight" fmla="*/ 1647360 w 1706400"/>
                <a:gd name="textAreaTop" fmla="*/ 5400 h 156600"/>
                <a:gd name="textAreaBottom" fmla="*/ 156960 h 156600"/>
              </a:gdLst>
              <a:ahLst/>
              <a:rect l="textAreaLeft" t="textAreaTop" r="textAreaRight" b="textAreaBottom"/>
              <a:pathLst>
                <a:path w="1363432" h="125262">
                  <a:moveTo>
                    <a:pt x="0" y="125262"/>
                  </a:moveTo>
                  <a:lnTo>
                    <a:pt x="70829" y="0"/>
                  </a:lnTo>
                  <a:lnTo>
                    <a:pt x="1292603" y="0"/>
                  </a:lnTo>
                  <a:lnTo>
                    <a:pt x="1363432" y="125262"/>
                  </a:lnTo>
                  <a:lnTo>
                    <a:pt x="0" y="125262"/>
                  </a:lnTo>
                  <a:close/>
                </a:path>
              </a:pathLst>
            </a:custGeom>
            <a:solidFill>
              <a:srgbClr val="e46c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6" name="梯形 9"/>
          <p:cNvSpPr/>
          <p:nvPr/>
        </p:nvSpPr>
        <p:spPr>
          <a:xfrm>
            <a:off x="2146320" y="2719440"/>
            <a:ext cx="1643040" cy="1025640"/>
          </a:xfrm>
          <a:custGeom>
            <a:avLst/>
            <a:gdLst>
              <a:gd name="textAreaLeft" fmla="*/ 386640 w 1643040"/>
              <a:gd name="textAreaRight" fmla="*/ 1256400 w 1643040"/>
              <a:gd name="textAreaTop" fmla="*/ 241200 h 1025640"/>
              <a:gd name="textAreaBottom" fmla="*/ 1026000 h 1025640"/>
            </a:gdLst>
            <a:ahLst/>
            <a:rect l="textAreaLeft" t="textAreaTop" r="textAreaRight" b="textAreaBottom"/>
            <a:pathLst>
              <a:path w="1643207" h="1025886">
                <a:moveTo>
                  <a:pt x="0" y="1025886"/>
                </a:moveTo>
                <a:lnTo>
                  <a:pt x="580087" y="0"/>
                </a:lnTo>
                <a:lnTo>
                  <a:pt x="1063120" y="0"/>
                </a:lnTo>
                <a:lnTo>
                  <a:pt x="1643207" y="1025886"/>
                </a:lnTo>
                <a:lnTo>
                  <a:pt x="0" y="1025886"/>
                </a:lnTo>
                <a:close/>
              </a:path>
            </a:pathLst>
          </a:custGeom>
          <a:solidFill>
            <a:srgbClr val="404040"/>
          </a:solidFill>
          <a:ln w="2556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梯形 15"/>
          <p:cNvSpPr/>
          <p:nvPr/>
        </p:nvSpPr>
        <p:spPr>
          <a:xfrm flipV="1" rot="3600000">
            <a:off x="2966040" y="1299240"/>
            <a:ext cx="1643040" cy="1025640"/>
          </a:xfrm>
          <a:custGeom>
            <a:avLst/>
            <a:gdLst>
              <a:gd name="textAreaLeft" fmla="*/ 386640 w 1643040"/>
              <a:gd name="textAreaRight" fmla="*/ 1256400 w 1643040"/>
              <a:gd name="textAreaTop" fmla="*/ 240840 h 1025640"/>
              <a:gd name="textAreaBottom" fmla="*/ 1025640 h 1025640"/>
            </a:gdLst>
            <a:ahLst/>
            <a:rect l="textAreaLeft" t="textAreaTop" r="textAreaRight" b="textAreaBottom"/>
            <a:pathLst>
              <a:path w="1643207" h="1025886">
                <a:moveTo>
                  <a:pt x="0" y="1025886"/>
                </a:moveTo>
                <a:lnTo>
                  <a:pt x="580087" y="0"/>
                </a:lnTo>
                <a:lnTo>
                  <a:pt x="1063120" y="0"/>
                </a:lnTo>
                <a:lnTo>
                  <a:pt x="1643207" y="1025886"/>
                </a:lnTo>
                <a:lnTo>
                  <a:pt x="0" y="1025886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梯形 17"/>
          <p:cNvSpPr/>
          <p:nvPr/>
        </p:nvSpPr>
        <p:spPr>
          <a:xfrm rot="7200000">
            <a:off x="1325880" y="1299240"/>
            <a:ext cx="1643040" cy="1025640"/>
          </a:xfrm>
          <a:custGeom>
            <a:avLst/>
            <a:gdLst>
              <a:gd name="textAreaLeft" fmla="*/ 386640 w 1643040"/>
              <a:gd name="textAreaRight" fmla="*/ 1256400 w 1643040"/>
              <a:gd name="textAreaTop" fmla="*/ 241200 h 1025640"/>
              <a:gd name="textAreaBottom" fmla="*/ 1026000 h 1025640"/>
            </a:gdLst>
            <a:ahLst/>
            <a:rect l="textAreaLeft" t="textAreaTop" r="textAreaRight" b="textAreaBottom"/>
            <a:pathLst>
              <a:path w="1643207" h="1025886">
                <a:moveTo>
                  <a:pt x="0" y="1025886"/>
                </a:moveTo>
                <a:lnTo>
                  <a:pt x="580087" y="0"/>
                </a:lnTo>
                <a:lnTo>
                  <a:pt x="1063120" y="0"/>
                </a:lnTo>
                <a:lnTo>
                  <a:pt x="1643207" y="1025886"/>
                </a:lnTo>
                <a:lnTo>
                  <a:pt x="0" y="1025886"/>
                </a:lnTo>
                <a:close/>
              </a:path>
            </a:pathLst>
          </a:custGeom>
          <a:solidFill>
            <a:srgbClr val="e46c0a"/>
          </a:solidFill>
          <a:ln w="2556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六边形 19"/>
          <p:cNvSpPr/>
          <p:nvPr/>
        </p:nvSpPr>
        <p:spPr>
          <a:xfrm>
            <a:off x="2496960" y="1871640"/>
            <a:ext cx="941400" cy="811080"/>
          </a:xfrm>
          <a:prstGeom prst="hexagon">
            <a:avLst>
              <a:gd name="adj" fmla="val 29425"/>
              <a:gd name="vf" fmla="val 11547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等腰三角形 42"/>
          <p:cNvSpPr/>
          <p:nvPr/>
        </p:nvSpPr>
        <p:spPr>
          <a:xfrm rot="10800000">
            <a:off x="2022480" y="1318680"/>
            <a:ext cx="184320" cy="1587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等腰三角形 43"/>
          <p:cNvSpPr/>
          <p:nvPr/>
        </p:nvSpPr>
        <p:spPr>
          <a:xfrm rot="10800000">
            <a:off x="3720960" y="1318680"/>
            <a:ext cx="184320" cy="1587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等腰三角形 44"/>
          <p:cNvSpPr/>
          <p:nvPr/>
        </p:nvSpPr>
        <p:spPr>
          <a:xfrm rot="10800000">
            <a:off x="2874960" y="2901600"/>
            <a:ext cx="184320" cy="1587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矩形 45"/>
          <p:cNvSpPr/>
          <p:nvPr/>
        </p:nvSpPr>
        <p:spPr>
          <a:xfrm>
            <a:off x="1490760" y="1589040"/>
            <a:ext cx="12286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Click here t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add your tex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矩形 46"/>
          <p:cNvSpPr/>
          <p:nvPr/>
        </p:nvSpPr>
        <p:spPr>
          <a:xfrm>
            <a:off x="3208320" y="1589040"/>
            <a:ext cx="12286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Click here t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add your tex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矩形 47"/>
          <p:cNvSpPr/>
          <p:nvPr/>
        </p:nvSpPr>
        <p:spPr>
          <a:xfrm>
            <a:off x="2370240" y="3125880"/>
            <a:ext cx="12286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Click here t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add your tex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矩形 49"/>
          <p:cNvSpPr/>
          <p:nvPr/>
        </p:nvSpPr>
        <p:spPr>
          <a:xfrm rot="19864200">
            <a:off x="3367080" y="3627360"/>
            <a:ext cx="6485040" cy="18900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50"/>
          <p:cNvSpPr/>
          <p:nvPr/>
        </p:nvSpPr>
        <p:spPr>
          <a:xfrm rot="19864200">
            <a:off x="3757680" y="4335480"/>
            <a:ext cx="6485040" cy="18900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矩形 51"/>
          <p:cNvSpPr/>
          <p:nvPr/>
        </p:nvSpPr>
        <p:spPr>
          <a:xfrm rot="19864200">
            <a:off x="3560400" y="3863880"/>
            <a:ext cx="6485040" cy="419040"/>
          </a:xfrm>
          <a:prstGeom prst="rect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Click to add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4T09:35:31Z</dcterms:created>
  <dc:creator>wuwenjie</dc:creator>
  <dc:description/>
  <cp:keywords/>
  <dc:language>en-US</dc:language>
  <cp:lastModifiedBy>Administrator</cp:lastModifiedBy>
  <dcterms:modified xsi:type="dcterms:W3CDTF">2015-12-07T09:06:51Z</dcterms:modified>
  <cp:revision>10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764</vt:lpwstr>
  </property>
</Properties>
</file>