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2A8-5922-4925-8194-261EFD00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F2A-DD3B-41F2-B83A-B0E7718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C49-7AE8-4DDE-9FED-FD19F63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CA1-E8FC-420E-B867-18C1DC2E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1ED-6304-4EAE-A9BC-0A63EADA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C00-C21A-4B8F-A84A-E9CBDF5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E4A-28C7-456E-9622-250B0E1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E67-7276-4ECB-B1C8-C71796B5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119-59EF-4EC8-818A-628828B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1CE-10DA-48B6-ABB9-56C85D1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F0D-91EE-4A21-A5B3-FAA83B9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2FF-ED96-400E-BC3B-7DF2D43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5C96-14DB-42DD-8BD3-C8B9E2B503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7520" y="15559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届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大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920" y="6121440"/>
            <a:ext cx="1222380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-22320"/>
            <a:ext cx="10277280" cy="41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01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1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7920" y="2886120"/>
            <a:ext cx="1219824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920" y="6705720"/>
            <a:ext cx="122000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920" y="6705720"/>
            <a:ext cx="121982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微软用户</cp:lastModifiedBy>
  <dcterms:modified xsi:type="dcterms:W3CDTF">2014-08-22T06:48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